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_rels/notesSlide31.xml.rels" ContentType="application/vnd.openxmlformats-package.relationships+xml"/>
  <Override PartName="/ppt/notesSlides/_rels/notesSlide2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53.jpeg" ContentType="image/jpeg"/>
  <Override PartName="/ppt/media/image23.png" ContentType="image/png"/>
  <Override PartName="/ppt/media/image5.jpeg" ContentType="image/jpeg"/>
  <Override PartName="/ppt/media/image50.png" ContentType="image/png"/>
  <Override PartName="/ppt/media/image34.png" ContentType="image/png"/>
  <Override PartName="/ppt/media/image27.png" ContentType="image/png"/>
  <Override PartName="/ppt/media/image56.jpeg" ContentType="image/jpeg"/>
  <Override PartName="/ppt/media/image33.png" ContentType="image/png"/>
  <Override PartName="/ppt/media/image3.png" ContentType="image/png"/>
  <Override PartName="/ppt/media/image15.png" ContentType="image/png"/>
  <Override PartName="/ppt/media/image57.png" ContentType="image/png"/>
  <Override PartName="/ppt/media/image20.png" ContentType="image/png"/>
  <Override PartName="/ppt/media/image54.wmf" ContentType="image/x-wmf"/>
  <Override PartName="/ppt/media/image14.png" ContentType="image/png"/>
  <Override PartName="/ppt/media/image17.png" ContentType="image/png"/>
  <Override PartName="/ppt/media/image26.png" ContentType="image/png"/>
  <Override PartName="/ppt/media/image61.jpeg" ContentType="image/jpeg"/>
  <Override PartName="/ppt/media/image40.png" ContentType="image/png"/>
  <Override PartName="/ppt/media/image24.png" ContentType="image/png"/>
  <Override PartName="/ppt/media/image59.png" ContentType="image/png"/>
  <Override PartName="/ppt/media/image22.png" ContentType="image/png"/>
  <Override PartName="/ppt/media/image4.png" ContentType="image/png"/>
  <Override PartName="/ppt/media/image16.png" ContentType="image/png"/>
  <Override PartName="/ppt/media/image60.jpeg" ContentType="image/jpeg"/>
  <Override PartName="/ppt/media/image30.png" ContentType="image/png"/>
  <Override PartName="/ppt/media/image25.png" ContentType="image/png"/>
  <Override PartName="/ppt/media/image6.jpeg" ContentType="image/jpeg"/>
  <Override PartName="/ppt/media/image18.png" ContentType="image/png"/>
  <Override PartName="/ppt/media/image2.jpeg" ContentType="image/jpeg"/>
  <Override PartName="/ppt/media/image31.png" ContentType="image/png"/>
  <Override PartName="/ppt/media/image29.png" ContentType="image/png"/>
  <Override PartName="/ppt/media/image28.png" ContentType="image/png"/>
  <Override PartName="/ppt/media/image58.png" ContentType="image/png"/>
  <Override PartName="/ppt/media/image21.png" ContentType="image/png"/>
  <Override PartName="/ppt/media/image8.png" ContentType="image/png"/>
  <Override PartName="/ppt/media/image38.png" ContentType="image/png"/>
  <Override PartName="/ppt/media/image62.jpeg" ContentType="image/jpe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9.png" ContentType="image/png"/>
  <Override PartName="/ppt/media/image39.png" ContentType="image/png"/>
  <Override PartName="/ppt/media/image10.png" ContentType="image/png"/>
  <Override PartName="/ppt/media/image47.png" ContentType="image/png"/>
  <Override PartName="/ppt/media/image11.png" ContentType="image/png"/>
  <Override PartName="/ppt/media/image48.png" ContentType="image/png"/>
  <Override PartName="/ppt/media/image32.png" ContentType="image/png"/>
  <Override PartName="/ppt/media/image35.png" ContentType="image/png"/>
  <Override PartName="/ppt/media/image36.png" ContentType="image/png"/>
  <Override PartName="/ppt/media/image41.png" ContentType="image/png"/>
  <Override PartName="/ppt/media/image42.png" ContentType="image/png"/>
  <Override PartName="/ppt/media/image55.jpeg" ContentType="image/jpeg"/>
  <Override PartName="/ppt/media/image43.png" ContentType="image/png"/>
  <Override PartName="/ppt/media/image44.png" ContentType="image/png"/>
  <Override PartName="/ppt/media/image45.png" ContentType="image/png"/>
  <Override PartName="/ppt/media/image46.png" ContentType="image/png"/>
  <Override PartName="/ppt/media/image51.png" ContentType="image/png"/>
  <Override PartName="/ppt/media/image52.jpeg" ContentType="image/jpeg"/>
  <Override PartName="/ppt/media/image1.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13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89CD6-8EA0-41A8-9A1D-4CACD98D82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4440" y="685800"/>
            <a:ext cx="4572000" cy="3429000"/>
          </a:xfrm>
          <a:prstGeom prst="rect">
            <a:avLst/>
          </a:prstGeom>
          <a:ln w="0">
            <a:noFill/>
          </a:ln>
        </p:spPr>
      </p:sp>
      <p:sp>
        <p:nvSpPr>
          <p:cNvPr id="5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key reason for using </a:t>
            </a:r>
            <a:r>
              <a:rPr b="1" lang="en-US" sz="1200" spc="-1" strike="noStrike">
                <a:solidFill>
                  <a:srgbClr val="000000"/>
                </a:solidFill>
                <a:latin typeface="Arial"/>
              </a:rPr>
              <a:t>layers</a:t>
            </a:r>
            <a:r>
              <a:rPr b="0" lang="en-US" sz="1200" spc="-1" strike="noStrike">
                <a:solidFill>
                  <a:srgbClr val="000000"/>
                </a:solidFill>
                <a:latin typeface="Arial"/>
              </a:rPr>
              <a:t> in any architectural approach is to </a:t>
            </a:r>
            <a:r>
              <a:rPr b="1" lang="en-US" sz="1200" spc="-1" strike="noStrike">
                <a:solidFill>
                  <a:srgbClr val="000000"/>
                </a:solidFill>
                <a:latin typeface="Arial"/>
              </a:rPr>
              <a:t>constrain change</a:t>
            </a:r>
            <a:r>
              <a:rPr b="0" lang="en-US" sz="1200" spc="-1" strike="noStrike">
                <a:solidFill>
                  <a:srgbClr val="000000"/>
                </a:solidFill>
                <a:latin typeface="Arial"/>
              </a:rPr>
              <a:t> to the appropriate layer and to minimize impact on the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Service Layer</a:t>
            </a:r>
            <a:r>
              <a:rPr b="0" lang="en-US" sz="1200" spc="-1" strike="noStrike">
                <a:solidFill>
                  <a:srgbClr val="000000"/>
                </a:solidFill>
                <a:latin typeface="Arial"/>
              </a:rPr>
              <a:t> helps to </a:t>
            </a:r>
            <a:r>
              <a:rPr b="1" lang="en-US" sz="1200" spc="-1" strike="noStrike">
                <a:solidFill>
                  <a:srgbClr val="000000"/>
                </a:solidFill>
                <a:latin typeface="Arial"/>
              </a:rPr>
              <a:t>isolate change</a:t>
            </a:r>
            <a:r>
              <a:rPr b="0" lang="en-US" sz="1200" spc="-1" strike="noStrike">
                <a:solidFill>
                  <a:srgbClr val="000000"/>
                </a:solidFill>
                <a:latin typeface="Arial"/>
              </a:rPr>
              <a:t> in the Providing or Requesting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the frequency of change in the business process, or the device and technology diversity used in the requesting application might be more frequent than that in the core systems that are used to Provide the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ervice Requestor should not be interested in the implementation detail of the Service – just the Service provi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mplementation architecture could vary from Provider to Provider yet still deliver the same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ilarly the Provider should not be interested in the application that the Service is consumed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w, as yet unforeseen applications should be able to reuse the same set of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to enable this, </a:t>
            </a:r>
            <a:r>
              <a:rPr b="1" lang="en-GB" sz="1200" spc="-1" strike="noStrike">
                <a:solidFill>
                  <a:srgbClr val="000000"/>
                </a:solidFill>
                <a:latin typeface="Arial"/>
              </a:rPr>
              <a:t>Services</a:t>
            </a:r>
            <a:r>
              <a:rPr b="0" lang="en-GB" sz="1200" spc="-1" strike="noStrike">
                <a:solidFill>
                  <a:srgbClr val="000000"/>
                </a:solidFill>
                <a:latin typeface="Arial"/>
              </a:rPr>
              <a:t> must be </a:t>
            </a:r>
            <a:r>
              <a:rPr b="1" lang="en-GB" sz="1200" spc="-1" strike="noStrike">
                <a:solidFill>
                  <a:srgbClr val="000000"/>
                </a:solidFill>
                <a:latin typeface="Arial"/>
              </a:rPr>
              <a:t>carefully abstracted</a:t>
            </a:r>
            <a:r>
              <a:rPr b="0" lang="en-GB" sz="1200" spc="-1" strike="noStrike">
                <a:solidFill>
                  <a:srgbClr val="000000"/>
                </a:solidFill>
                <a:latin typeface="Arial"/>
              </a:rPr>
              <a:t> away from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rchitectural stack is divided into two halves, with the left half addressing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unctional aspects of the architecture and the right half addressing the quality o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 aspects. These elements are described in detail as follow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Functional aspects inclu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Transport </a:t>
            </a:r>
            <a:r>
              <a:rPr b="0" lang="en-US" sz="800" spc="-1" strike="noStrike">
                <a:solidFill>
                  <a:srgbClr val="000000"/>
                </a:solidFill>
                <a:latin typeface="Arial"/>
              </a:rPr>
              <a:t>is the mechanism used to move service requests from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 consumer to the service provider, and service responses from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 provider to the service consum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Service Communication Protocol </a:t>
            </a:r>
            <a:r>
              <a:rPr b="0" lang="en-US" sz="800" spc="-1" strike="noStrike">
                <a:solidFill>
                  <a:srgbClr val="000000"/>
                </a:solidFill>
                <a:latin typeface="Arial"/>
              </a:rPr>
              <a:t>is an agreed mechanism that the serv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r and the service consumer use to communicate what is be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quested and what is being return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Service Description </a:t>
            </a:r>
            <a:r>
              <a:rPr b="0" lang="en-US" sz="800" spc="-1" strike="noStrike">
                <a:solidFill>
                  <a:srgbClr val="000000"/>
                </a:solidFill>
                <a:latin typeface="Arial"/>
              </a:rPr>
              <a:t>is an agreed schema for describing what the serv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 how it should be invoked, and what data is required to invoke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 successful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Service </a:t>
            </a:r>
            <a:r>
              <a:rPr b="0" lang="en-US" sz="800" spc="-1" strike="noStrike">
                <a:solidFill>
                  <a:srgbClr val="000000"/>
                </a:solidFill>
                <a:latin typeface="Arial"/>
              </a:rPr>
              <a:t>describes an actual service that is made available for u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Business Process </a:t>
            </a:r>
            <a:r>
              <a:rPr b="0" lang="en-US" sz="800" spc="-1" strike="noStrike">
                <a:solidFill>
                  <a:srgbClr val="000000"/>
                </a:solidFill>
                <a:latin typeface="Arial"/>
              </a:rPr>
              <a:t>is a collection of services, invoked in a particula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quence with a particular set of rules, to meet a business requir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that a business process could be considered a service in its ow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ight, which leads to the idea that business processes may be compo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 services of different granularit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a:t>
            </a:r>
            <a:r>
              <a:rPr b="0" i="1" lang="en-US" sz="800" spc="-1" strike="noStrike">
                <a:solidFill>
                  <a:srgbClr val="000000"/>
                </a:solidFill>
                <a:latin typeface="Arial"/>
              </a:rPr>
              <a:t>Service Registry </a:t>
            </a:r>
            <a:r>
              <a:rPr b="0" lang="en-US" sz="800" spc="-1" strike="noStrike">
                <a:solidFill>
                  <a:srgbClr val="000000"/>
                </a:solidFill>
                <a:latin typeface="Arial"/>
              </a:rPr>
              <a:t>is a repository of service and data descriptions whi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y be used by service providers to publish their services, and service consumers to discover or find available services. The service registry ma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 other functions to services that require a centralized repositor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Quality of service aspects inclu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Policy </a:t>
            </a:r>
            <a:r>
              <a:rPr b="0" lang="en-US" sz="800" spc="-1" strike="noStrike">
                <a:solidFill>
                  <a:srgbClr val="000000"/>
                </a:solidFill>
                <a:latin typeface="Arial"/>
              </a:rPr>
              <a:t>is a set of conditions or rules under which a service provider mak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ervice available to consumers. There are aspects of policy which 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unctional, and aspects which relate to quality of service; therefore w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 the policy function in both functional and quality of service area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Security </a:t>
            </a:r>
            <a:r>
              <a:rPr b="0" lang="en-US" sz="800" spc="-1" strike="noStrike">
                <a:solidFill>
                  <a:srgbClr val="000000"/>
                </a:solidFill>
                <a:latin typeface="Arial"/>
              </a:rPr>
              <a:t>is the set of rules that might be applied to the ident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horization, and access control of service consumers invoking servi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Transaction </a:t>
            </a:r>
            <a:r>
              <a:rPr b="0" lang="en-US" sz="800" spc="-1" strike="noStrike">
                <a:solidFill>
                  <a:srgbClr val="000000"/>
                </a:solidFill>
                <a:latin typeface="Arial"/>
              </a:rPr>
              <a:t>is the set of attributes that might be applied to a group o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s to deliver a consistent result. For example, if a group of thre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s are to be used to complete a business function, all must comple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 none must comple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Management </a:t>
            </a:r>
            <a:r>
              <a:rPr b="0" lang="en-US" sz="800" spc="-1" strike="noStrike">
                <a:solidFill>
                  <a:srgbClr val="000000"/>
                </a:solidFill>
                <a:latin typeface="Arial"/>
              </a:rPr>
              <a:t>is the set of attributes that might be applied to managing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s provided or consum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987480" y="703440"/>
            <a:ext cx="4699080" cy="3524040"/>
          </a:xfrm>
          <a:prstGeom prst="rect">
            <a:avLst/>
          </a:prstGeom>
          <a:ln w="0">
            <a:noFill/>
          </a:ln>
        </p:spPr>
      </p:sp>
      <p:sp>
        <p:nvSpPr>
          <p:cNvPr id="536"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987480" y="703440"/>
            <a:ext cx="4699080" cy="3524040"/>
          </a:xfrm>
          <a:prstGeom prst="rect">
            <a:avLst/>
          </a:prstGeom>
          <a:ln w="0">
            <a:noFill/>
          </a:ln>
        </p:spPr>
      </p:sp>
      <p:sp>
        <p:nvSpPr>
          <p:cNvPr id="538"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987480" y="703440"/>
            <a:ext cx="4699080" cy="3524040"/>
          </a:xfrm>
          <a:prstGeom prst="rect">
            <a:avLst/>
          </a:prstGeom>
          <a:ln w="0">
            <a:noFill/>
          </a:ln>
        </p:spPr>
      </p:sp>
      <p:sp>
        <p:nvSpPr>
          <p:cNvPr id="540"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987480" y="703440"/>
            <a:ext cx="4699080" cy="3524040"/>
          </a:xfrm>
          <a:prstGeom prst="rect">
            <a:avLst/>
          </a:prstGeom>
          <a:ln w="0">
            <a:noFill/>
          </a:ln>
        </p:spPr>
      </p:sp>
      <p:sp>
        <p:nvSpPr>
          <p:cNvPr id="542"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987480" y="703440"/>
            <a:ext cx="4699080" cy="3524040"/>
          </a:xfrm>
          <a:prstGeom prst="rect">
            <a:avLst/>
          </a:prstGeom>
          <a:ln w="0">
            <a:noFill/>
          </a:ln>
        </p:spPr>
      </p:sp>
      <p:sp>
        <p:nvSpPr>
          <p:cNvPr id="544"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Constr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PEL4WS process itself is basically a flow-chart like expression of an algorithm. Each step in the process is called an activity. There are a collection of primitive activities: invoking an operation on some Web service (&lt;invoke&gt;), waiting for a message to operation of the service's interface to be invoked by someone externally (&lt;receive&gt;), generating the response of an input/output operation (&lt;reply&gt;), waiting for some time (&lt;wait&gt;), copying data from one place to another (&lt;assign&gt;), indicating that something went wrong (&lt;throw&gt;), terminating the entire service instance (&lt;terminate&gt;), or doing nothing (&lt;empty&g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rimitive activities can combined into more complex algorithms using any of the structure activities provided in the language. These are the ability to define an ordered sequence of steps (&lt;sequence&gt;), the ability to have branching using the now common "case-statement" approach (&lt;switch&gt;), the ability to define a loop (&lt;while&gt;), the ability to execute one of several alternative paths (&lt;pick&gt;), and finally the ability to indicate that a collection of steps should be executed in parallel (&lt;flow&gt;). Within activities executing in parallel, one can indicate execution order constraints by using the </a:t>
            </a:r>
            <a:r>
              <a:rPr b="0" i="1" lang="en-US" sz="1200" spc="-1" strike="noStrike">
                <a:solidFill>
                  <a:srgbClr val="000000"/>
                </a:solidFill>
                <a:latin typeface="Arial"/>
              </a:rPr>
              <a:t>link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961920" y="706320"/>
            <a:ext cx="4721400" cy="3540240"/>
          </a:xfrm>
          <a:prstGeom prst="rect">
            <a:avLst/>
          </a:prstGeom>
          <a:ln w="0">
            <a:noFill/>
          </a:ln>
        </p:spPr>
      </p:sp>
      <p:sp>
        <p:nvSpPr>
          <p:cNvPr id="548" name="PlaceHolder 2"/>
          <p:cNvSpPr>
            <a:spLocks noGrp="1"/>
          </p:cNvSpPr>
          <p:nvPr>
            <p:ph type="body"/>
          </p:nvPr>
        </p:nvSpPr>
        <p:spPr>
          <a:xfrm>
            <a:off x="915840" y="4343400"/>
            <a:ext cx="50263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ions follows the “find, bind and invoke” paradigm where a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performs dynamic service location by querying the service registry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rvice that matches its criteria. If the service exists, the registry provides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with the interface contract and the endpoint address for the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diagram illustrates the entities in an service-oriented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collaborate to support the “find, bind and invoke” paradig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3B29DE-85E8-4310-9EA8-27F7827F61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AB7F1AE-64FB-4161-8D03-D4A376DB193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253B79D-1DEA-4EFC-8E21-3F56CB2C8C8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E252385-0535-4403-81A4-110D7F3CC53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db6b3"/>
              </a:solidFill>
              <a:latin typeface="Arial"/>
            </a:endParaRPr>
          </a:p>
        </p:txBody>
      </p:sp>
      <p:sp>
        <p:nvSpPr>
          <p:cNvPr id="4" name="PlaceHolder 3"/>
          <p:cNvSpPr>
            <a:spLocks noGrp="1"/>
          </p:cNvSpPr>
          <p:nvPr>
            <p:ph type="sldNum" idx="1"/>
          </p:nvPr>
        </p:nvSpPr>
        <p:spPr/>
        <p:txBody>
          <a:bodyPr/>
          <a:p>
            <a:fld id="{D43F331F-3A9A-4E37-A046-DF380CE606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8F1EEC-7A3F-4563-BF27-DFE1DF9FB75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8CB4553-E252-4239-80E8-96652178E9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F05CFAA0-8D3E-49CD-9F2C-E0AD28807D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db6b3"/>
              </a:solidFill>
              <a:latin typeface="Arial"/>
            </a:endParaRPr>
          </a:p>
        </p:txBody>
      </p:sp>
      <p:sp>
        <p:nvSpPr>
          <p:cNvPr id="3" name="PlaceHolder 2"/>
          <p:cNvSpPr>
            <a:spLocks noGrp="1"/>
          </p:cNvSpPr>
          <p:nvPr>
            <p:ph type="sldNum" idx="1"/>
          </p:nvPr>
        </p:nvSpPr>
        <p:spPr/>
        <p:txBody>
          <a:bodyPr/>
          <a:p>
            <a:fld id="{96EF7682-2DC6-4520-A586-8673B9D74A3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4F6307A-CD6D-44E8-A59F-4259706AC34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15E2C63-93E2-462F-91E5-5F65BEE4414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286D2E7-8323-44D3-ACF4-ACD3ACA79B5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50960" indent="-285840">
              <a:lnSpc>
                <a:spcPct val="115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ct val="11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ct val="11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BM Software Group  |  WebSphere software</a:t>
            </a:r>
            <a:endParaRPr b="0" lang="en-US" sz="1400" spc="-1" strike="noStrike">
              <a:solidFill>
                <a:srgbClr val="ffffff"/>
              </a:solidFill>
              <a:latin typeface="Arial"/>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lobal Business Transformation</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4 IBM Corporation</a:t>
            </a:r>
            <a:endParaRPr b="0" lang="en-US" sz="1000" spc="-1" strike="noStrike">
              <a:solidFill>
                <a:srgbClr val="ffffff"/>
              </a:solidFill>
              <a:latin typeface="Arial"/>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FF2A0-82F0-4DA6-9F58-18F018E2BEA6}"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IBM logo must not be moved, added to, or altered in</a:t>
            </a:r>
            <a:br>
              <a:rPr sz="1200"/>
            </a:br>
            <a:r>
              <a:rPr b="0" lang="en-US" sz="1200" spc="-1" strike="noStrike">
                <a:solidFill>
                  <a:srgbClr val="ccccff"/>
                </a:solidFill>
                <a:latin typeface="Arial"/>
              </a:rPr>
              <a:t>any way.</a:t>
            </a:r>
            <a:endParaRPr b="0" lang="en-US" sz="1200" spc="-1" strike="noStrike">
              <a:solidFill>
                <a:srgbClr val="ffffff"/>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15920" indent="-115920">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Background should</a:t>
            </a:r>
            <a:br>
              <a:rPr sz="1200"/>
            </a:br>
            <a:r>
              <a:rPr b="0" lang="en-US" sz="1200" spc="-1" strike="noStrike">
                <a:solidFill>
                  <a:srgbClr val="ccccff"/>
                </a:solidFill>
                <a:latin typeface="Arial"/>
              </a:rPr>
              <a:t>not be modified.</a:t>
            </a:r>
            <a:endParaRPr b="0" lang="en-US" sz="1200" spc="-1" strike="noStrike">
              <a:solidFill>
                <a:srgbClr val="ffffff"/>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 </a:t>
            </a:r>
            <a:endParaRPr b="0" lang="en-US" sz="1200" spc="-1" strike="noStrike">
              <a:solidFill>
                <a:srgbClr val="ffffff"/>
              </a:solidFill>
              <a:latin typeface="Arial"/>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tle/subtitle/confidentiality line: 10pt Arial Regular, white</a:t>
            </a:r>
            <a:br>
              <a:rPr sz="1200"/>
            </a:br>
            <a:r>
              <a:rPr b="0" lang="en-US" sz="1200" spc="-1" strike="noStrike">
                <a:solidFill>
                  <a:srgbClr val="ffffff"/>
                </a:solidFill>
                <a:latin typeface="Arial"/>
              </a:rPr>
              <a:t>Maximum length: 1 line</a:t>
            </a:r>
            <a:br>
              <a:rPr sz="1200"/>
            </a:br>
            <a:br>
              <a:rPr sz="1200"/>
            </a:br>
            <a:r>
              <a:rPr b="0" lang="en-US" sz="1200" spc="-1" strike="noStrike">
                <a:solidFill>
                  <a:srgbClr val="ffffff"/>
                </a:solidFill>
                <a:latin typeface="Arial"/>
              </a:rPr>
              <a:t>Information separated by vertical strokes,</a:t>
            </a:r>
            <a:br>
              <a:rPr sz="1200"/>
            </a:br>
            <a:r>
              <a:rPr b="0" lang="en-US" sz="1200" spc="-1" strike="noStrike">
                <a:solidFill>
                  <a:srgbClr val="ffffff"/>
                </a:solidFill>
                <a:latin typeface="Arial"/>
              </a:rPr>
              <a:t>with two spaces on either side</a:t>
            </a:r>
            <a:endParaRPr b="0" lang="en-US" sz="1200" spc="-1" strike="noStrike">
              <a:solidFill>
                <a:srgbClr val="ffffff"/>
              </a:solidFill>
              <a:latin typeface="Arial"/>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Slide heading:</a:t>
            </a:r>
            <a:br>
              <a:rPr sz="1200"/>
            </a:br>
            <a:r>
              <a:rPr b="0" lang="en-US" sz="1200" spc="-1" strike="noStrike">
                <a:solidFill>
                  <a:srgbClr val="ccff99"/>
                </a:solidFill>
                <a:latin typeface="Arial"/>
              </a:rPr>
              <a:t>28pt Arial Regular, </a:t>
            </a:r>
            <a:br>
              <a:rPr sz="1200"/>
            </a:br>
            <a:r>
              <a:rPr b="0" lang="en-US" sz="1200" spc="-1" strike="noStrike">
                <a:solidFill>
                  <a:srgbClr val="ccff99"/>
                </a:solidFill>
                <a:latin typeface="Arial"/>
              </a:rPr>
              <a:t>blue R120 | G137 | B251 </a:t>
            </a:r>
            <a:br>
              <a:rPr sz="1200"/>
            </a:br>
            <a:br>
              <a:rPr sz="1200"/>
            </a:br>
            <a:r>
              <a:rPr b="0" lang="en-US" sz="1200" spc="-1" strike="noStrike">
                <a:solidFill>
                  <a:srgbClr val="ccff99"/>
                </a:solidFill>
                <a:latin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Slide body:</a:t>
            </a:r>
            <a:br>
              <a:rPr sz="1200"/>
            </a:br>
            <a:r>
              <a:rPr b="0" lang="en-US" sz="1200" spc="-1" strike="noStrike">
                <a:solidFill>
                  <a:srgbClr val="ccff99"/>
                </a:solidFill>
                <a:latin typeface="Arial"/>
              </a:rPr>
              <a:t>24pt Arial Regular, black</a:t>
            </a:r>
            <a:br>
              <a:rPr sz="1200"/>
            </a:br>
            <a:br>
              <a:rPr sz="1200"/>
            </a:br>
            <a:r>
              <a:rPr b="0" lang="en-US" sz="1200" spc="-1" strike="noStrike">
                <a:solidFill>
                  <a:srgbClr val="ccff99"/>
                </a:solidFill>
                <a:latin typeface="Arial"/>
              </a:rPr>
              <a:t>Square bullet color:</a:t>
            </a:r>
            <a:br>
              <a:rPr sz="1200"/>
            </a:br>
            <a:r>
              <a:rPr b="0" lang="en-US" sz="1200" spc="-1" strike="noStrike">
                <a:solidFill>
                  <a:srgbClr val="ccff99"/>
                </a:solidFill>
                <a:latin typeface="Arial"/>
              </a:rPr>
              <a:t>teal R045 | G182 | B179</a:t>
            </a:r>
            <a:br>
              <a:rPr sz="1200"/>
            </a:br>
            <a:br>
              <a:rPr sz="1200"/>
            </a:br>
            <a:r>
              <a:rPr b="0" lang="en-US" sz="1200" spc="-1" strike="noStrike">
                <a:solidFill>
                  <a:srgbClr val="ccff99"/>
                </a:solidFill>
                <a:latin typeface="Arial"/>
              </a:rPr>
              <a:t>Recommended maximum text length: 5 principal points</a:t>
            </a:r>
            <a:endParaRPr b="0" lang="en-US" sz="1200" spc="-1" strike="noStrike">
              <a:solidFill>
                <a:srgbClr val="ffffff"/>
              </a:solidFill>
              <a:latin typeface="Arial"/>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oup name:</a:t>
            </a:r>
            <a:br>
              <a:rPr sz="1200"/>
            </a:br>
            <a:r>
              <a:rPr b="0" lang="en-US" sz="1200" spc="-1" strike="noStrike">
                <a:solidFill>
                  <a:srgbClr val="ffffff"/>
                </a:solidFill>
                <a:latin typeface="Arial"/>
              </a:rPr>
              <a:t>14pt Arial Regular, white</a:t>
            </a:r>
            <a:br>
              <a:rPr sz="1200"/>
            </a:br>
            <a:br>
              <a:rPr sz="1200"/>
            </a:br>
            <a:r>
              <a:rPr b="0" lang="en-US" sz="1200" spc="-1" strike="noStrike">
                <a:solidFill>
                  <a:srgbClr val="ffffff"/>
                </a:solidFill>
                <a:latin typeface="Arial"/>
              </a:rPr>
              <a:t>Maximum length: 1 line</a:t>
            </a:r>
            <a:endParaRPr b="0" lang="en-US" sz="1200" spc="-1" strike="noStrike">
              <a:solidFill>
                <a:srgbClr val="ffffff"/>
              </a:solidFill>
              <a:latin typeface="Arial"/>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Copyright: 10pt Arial</a:t>
            </a:r>
            <a:br>
              <a:rPr sz="1200"/>
            </a:br>
            <a:r>
              <a:rPr b="0" lang="en-US" sz="1200" spc="-1" strike="noStrike">
                <a:solidFill>
                  <a:srgbClr val="ccccff"/>
                </a:solidFill>
                <a:latin typeface="Arial"/>
              </a:rPr>
              <a:t>Regular, white</a:t>
            </a:r>
            <a:endParaRPr b="0" lang="en-US" sz="1200" spc="-1" strike="noStrike">
              <a:solidFill>
                <a:srgbClr val="ffffff"/>
              </a:solidFill>
              <a:latin typeface="Arial"/>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al slide number: </a:t>
              </a:r>
              <a:br>
                <a:rPr sz="1200"/>
              </a:br>
              <a:r>
                <a:rPr b="0" lang="en-US" sz="1200" spc="-1" strike="noStrike">
                  <a:solidFill>
                    <a:srgbClr val="000000"/>
                  </a:solidFill>
                  <a:latin typeface="Arial"/>
                </a:rPr>
                <a:t>10pt Arial Bold, white</a:t>
              </a:r>
              <a:endParaRPr b="0" lang="en-US" sz="1200" spc="-1" strike="noStrike">
                <a:solidFill>
                  <a:srgbClr val="ffffff"/>
                </a:solidFill>
                <a:latin typeface="Arial"/>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mplate release: Oct 02</a:t>
            </a:r>
            <a:br>
              <a:rPr sz="1600"/>
            </a:br>
            <a:r>
              <a:rPr b="1" lang="en-US" sz="1600" spc="-1" strike="noStrike">
                <a:solidFill>
                  <a:srgbClr val="ffffff"/>
                </a:solidFill>
                <a:latin typeface="Arial"/>
              </a:rPr>
              <a:t>For the latest, go to http://w3.ibm.com/ibm/presentations</a:t>
            </a:r>
            <a:endParaRPr b="0" lang="en-US" sz="1600" spc="-1" strike="noStrike">
              <a:solidFill>
                <a:srgbClr val="ffffff"/>
              </a:solidFill>
              <a:latin typeface="Arial"/>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Indications in green = Live content </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ions in white  = Edit  in master</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Indications in blue    = Locked elements</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ions in black   = Optional elements</a:t>
            </a:r>
            <a:endParaRPr b="0" lang="en-US" sz="1200" spc="-1" strike="noStrike">
              <a:solidFill>
                <a:srgbClr val="ffffff"/>
              </a:solidFill>
              <a:latin typeface="Arial"/>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IBM Software Group</a:t>
            </a:r>
            <a:endParaRPr b="0" lang="en-US" sz="1700" spc="-1" strike="noStrike">
              <a:solidFill>
                <a:srgbClr val="ffffff"/>
              </a:solidFill>
              <a:latin typeface="Arial"/>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4 IBM Corporation</a:t>
            </a:r>
            <a:endParaRPr b="0" lang="en-US" sz="1000" spc="-1" strike="noStrike">
              <a:solidFill>
                <a:srgbClr val="ffffff"/>
              </a:solidFill>
              <a:latin typeface="Arial"/>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fidentiality/date line: 13pt Arial Regular, white</a:t>
            </a:r>
            <a:br>
              <a:rPr sz="1200"/>
            </a:br>
            <a:r>
              <a:rPr b="0" lang="en-US" sz="1200" spc="-1" strike="noStrike">
                <a:solidFill>
                  <a:srgbClr val="ffffff"/>
                </a:solidFill>
                <a:latin typeface="Arial"/>
              </a:rPr>
              <a:t>Maximum length: 1 line</a:t>
            </a:r>
            <a:endParaRPr b="0" lang="en-US" sz="1200" spc="-1" strike="noStrike">
              <a:solidFill>
                <a:srgbClr val="ffffff"/>
              </a:solidFill>
              <a:latin typeface="Arial"/>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formation separated by vertical strokes,</a:t>
            </a:r>
            <a:br>
              <a:rPr sz="1200"/>
            </a:br>
            <a:r>
              <a:rPr b="0" lang="en-US" sz="1200" spc="-1" strike="noStrike">
                <a:solidFill>
                  <a:srgbClr val="ffffff"/>
                </a:solidFill>
                <a:latin typeface="Arial"/>
              </a:rPr>
              <a:t>with two spaces on either side</a:t>
            </a:r>
            <a:endParaRPr b="0" lang="en-US" sz="1200" spc="-1" strike="noStrike">
              <a:solidFill>
                <a:srgbClr val="ffffff"/>
              </a:solidFill>
              <a:latin typeface="Arial"/>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laimer information may also be appear in this area.  Place flush left, aligned at bottom, 8-10pt Arial Regular, white</a:t>
            </a:r>
            <a:endParaRPr b="0" lang="en-US" sz="1200" spc="-1" strike="noStrike">
              <a:solidFill>
                <a:srgbClr val="ffffff"/>
              </a:solidFill>
              <a:latin typeface="Arial"/>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IBM logo must not be moved, added to, or altered in any way. </a:t>
            </a:r>
            <a:endParaRPr b="0" lang="en-US" sz="1200" spc="-1" strike="noStrike">
              <a:solidFill>
                <a:srgbClr val="ffffff"/>
              </a:solidFill>
              <a:latin typeface="Arial"/>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Indications in green = Live content </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ions in white  = Edit  in master</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Indications in blue    = Locked elements</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ions in black   = Optional elements</a:t>
            </a:r>
            <a:endParaRPr b="0" lang="en-US" sz="1200" spc="-1" strike="noStrike">
              <a:solidFill>
                <a:srgbClr val="ffffff"/>
              </a:solidFill>
              <a:latin typeface="Arial"/>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Presentation title:</a:t>
            </a:r>
            <a:br>
              <a:rPr sz="1200"/>
            </a:br>
            <a:r>
              <a:rPr b="0" lang="en-US" sz="1200" spc="-1" strike="noStrike">
                <a:solidFill>
                  <a:srgbClr val="ccff99"/>
                </a:solidFill>
                <a:latin typeface="Arial"/>
              </a:rPr>
              <a:t>28pt Arial Regular, black</a:t>
            </a:r>
            <a:br>
              <a:rPr sz="1200"/>
            </a:br>
            <a:br>
              <a:rPr sz="1200"/>
            </a:br>
            <a:r>
              <a:rPr b="0" lang="en-US" sz="1200" spc="-1" strike="noStrike">
                <a:solidFill>
                  <a:srgbClr val="ccff99"/>
                </a:solidFill>
                <a:latin typeface="Arial"/>
              </a:rPr>
              <a:t>Recommended maximum length:  2 lines</a:t>
            </a:r>
            <a:endParaRPr b="0" lang="en-US" sz="1200" spc="-1" strike="noStrike">
              <a:solidFill>
                <a:srgbClr val="ffffff"/>
              </a:solidFill>
              <a:latin typeface="Arial"/>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oup name:</a:t>
            </a:r>
            <a:br>
              <a:rPr sz="1200"/>
            </a:br>
            <a:r>
              <a:rPr b="0" lang="en-US" sz="1200" spc="-1" strike="noStrike">
                <a:solidFill>
                  <a:srgbClr val="ffffff"/>
                </a:solidFill>
                <a:latin typeface="Arial"/>
              </a:rPr>
              <a:t>17pt Arial Regular, white</a:t>
            </a:r>
            <a:br>
              <a:rPr sz="1200"/>
            </a:br>
            <a:br>
              <a:rPr sz="1200"/>
            </a:br>
            <a:r>
              <a:rPr b="0" lang="en-US" sz="1200" spc="-1" strike="noStrike">
                <a:solidFill>
                  <a:srgbClr val="ffffff"/>
                </a:solidFill>
                <a:latin typeface="Arial"/>
              </a:rPr>
              <a:t>Maximum length: 1 line</a:t>
            </a:r>
            <a:endParaRPr b="0" lang="en-US" sz="1200" spc="-1" strike="noStrike">
              <a:solidFill>
                <a:srgbClr val="ffffff"/>
              </a:solidFill>
              <a:latin typeface="Arial"/>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Copyright: 10pt Arial</a:t>
            </a:r>
            <a:br>
              <a:rPr sz="1200"/>
            </a:br>
            <a:r>
              <a:rPr b="0" lang="en-US" sz="1200" spc="-1" strike="noStrike">
                <a:solidFill>
                  <a:srgbClr val="ccccff"/>
                </a:solidFill>
                <a:latin typeface="Arial"/>
              </a:rPr>
              <a:t>Regular, white</a:t>
            </a:r>
            <a:endParaRPr b="0" lang="en-US" sz="1200" spc="-1" strike="noStrike">
              <a:solidFill>
                <a:srgbClr val="ffffff"/>
              </a:solidFill>
              <a:latin typeface="Arial"/>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mplate release: Oct 02</a:t>
            </a:r>
            <a:br>
              <a:rPr sz="1600"/>
            </a:br>
            <a:r>
              <a:rPr b="1" lang="en-US" sz="1600" spc="-1" strike="noStrike">
                <a:solidFill>
                  <a:srgbClr val="ffffff"/>
                </a:solidFill>
                <a:latin typeface="Arial"/>
              </a:rPr>
              <a:t>For the latest, go to http://w3.ibm.com/ibm/presentations</a:t>
            </a:r>
            <a:endParaRPr b="0" lang="en-US" sz="1600" spc="-1" strike="noStrike">
              <a:solidFill>
                <a:srgbClr val="ffffff"/>
              </a:solidFill>
              <a:latin typeface="Arial"/>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client presentations, client’s logo may go in this area</a:t>
            </a:r>
            <a:endParaRPr b="0" lang="en-US" sz="1200" spc="-1" strike="noStrike">
              <a:solidFill>
                <a:srgbClr val="ffffff"/>
              </a:solidFill>
              <a:latin typeface="Arial"/>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3" name="" descr=""/>
          <p:cNvPicPr/>
          <p:nvPr/>
        </p:nvPicPr>
        <p:blipFill>
          <a:blip r:embed="rId4"/>
          <a:stretch/>
        </p:blipFill>
        <p:spPr>
          <a:xfrm>
            <a:off x="1155600" y="4070520"/>
            <a:ext cx="2075040" cy="30132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db6b3"/>
                </a:solidFill>
                <a:latin typeface="Arial"/>
              </a:rPr>
              <a:t>Click to edit the outline text format</a:t>
            </a:r>
            <a:endParaRPr b="0" lang="en-US" sz="1000" spc="-1" strike="noStrike">
              <a:solidFill>
                <a:srgbClr val="2db6b3"/>
              </a:solidFill>
              <a:latin typeface="Arial"/>
            </a:endParaRPr>
          </a:p>
          <a:p>
            <a:pPr lvl="1" marL="457200" indent="7920" algn="ctr">
              <a:lnSpc>
                <a:spcPct val="115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lnSpc>
                <a:spcPct val="115000"/>
              </a:lnSpc>
              <a:spcBef>
                <a:spcPts val="451"/>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lnSpc>
                <a:spcPct val="115000"/>
              </a:lnSpc>
              <a:spcBef>
                <a:spcPts val="451"/>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lnSpc>
                <a:spcPct val="115000"/>
              </a:lnSpc>
              <a:spcBef>
                <a:spcPts val="561"/>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oleObject" Target="../embeddings/oleObject2.bin"/><Relationship Id="rId5" Type="http://schemas.openxmlformats.org/officeDocument/2006/relationships/image" Target="../media/image16.png"/><Relationship Id="rId6" Type="http://schemas.openxmlformats.org/officeDocument/2006/relationships/oleObject" Target="../embeddings/oleObject3.bin"/><Relationship Id="rId7" Type="http://schemas.openxmlformats.org/officeDocument/2006/relationships/image" Target="../media/image16.png"/><Relationship Id="rId8" Type="http://schemas.openxmlformats.org/officeDocument/2006/relationships/oleObject" Target="../embeddings/oleObject4.bin"/><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oleObject" Target="../embeddings/oleObject5.bin"/><Relationship Id="rId13" Type="http://schemas.openxmlformats.org/officeDocument/2006/relationships/image" Target="../media/image19.png"/><Relationship Id="rId14" Type="http://schemas.openxmlformats.org/officeDocument/2006/relationships/slideLayout" Target="../slideLayouts/slideLayout8.xml"/><Relationship Id="rId1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image" Target="../media/image42.png"/><Relationship Id="rId8" Type="http://schemas.openxmlformats.org/officeDocument/2006/relationships/image" Target="../media/image43.png"/><Relationship Id="rId9" Type="http://schemas.openxmlformats.org/officeDocument/2006/relationships/image" Target="../media/image44.png"/><Relationship Id="rId10" Type="http://schemas.openxmlformats.org/officeDocument/2006/relationships/image" Target="../media/image45.png"/><Relationship Id="rId11" Type="http://schemas.openxmlformats.org/officeDocument/2006/relationships/image" Target="../media/image46.png"/><Relationship Id="rId1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image" Target="../media/image55.jpeg"/><Relationship Id="rId4" Type="http://schemas.openxmlformats.org/officeDocument/2006/relationships/image" Target="../media/image56.jpeg"/><Relationship Id="rId5" Type="http://schemas.openxmlformats.org/officeDocument/2006/relationships/image" Target="../media/image57.png"/><Relationship Id="rId6" Type="http://schemas.openxmlformats.org/officeDocument/2006/relationships/image" Target="../media/image58.png"/><Relationship Id="rId7" Type="http://schemas.openxmlformats.org/officeDocument/2006/relationships/image" Target="../media/image59.png"/><Relationship Id="rId8" Type="http://schemas.openxmlformats.org/officeDocument/2006/relationships/image" Target="../media/image60.jpeg"/><Relationship Id="rId9" Type="http://schemas.openxmlformats.org/officeDocument/2006/relationships/image" Target="../media/image61.jpeg"/><Relationship Id="rId10" Type="http://schemas.openxmlformats.org/officeDocument/2006/relationships/image" Target="../media/image62.jpeg"/><Relationship Id="rId11" Type="http://schemas.openxmlformats.org/officeDocument/2006/relationships/slideLayout" Target="../slideLayouts/slideLayout1.xml"/><Relationship Id="rId1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 Oriented Architecture</a:t>
            </a:r>
            <a:br>
              <a:rPr sz="2800"/>
            </a:br>
            <a:br>
              <a:rPr sz="2800"/>
            </a:br>
            <a:r>
              <a:rPr b="0" lang="en-US" sz="2000" spc="-1" strike="noStrike">
                <a:solidFill>
                  <a:srgbClr val="000000"/>
                </a:solidFill>
                <a:latin typeface="Arial"/>
              </a:rPr>
              <a:t>2004 WDI/WBIC Customer Conference</a:t>
            </a:r>
            <a:endParaRPr b="0" lang="en-US" sz="2000" spc="-1" strike="noStrike">
              <a:solidFill>
                <a:srgbClr val="000000"/>
              </a:solidFill>
              <a:latin typeface="Arial"/>
            </a:endParaRPr>
          </a:p>
        </p:txBody>
      </p:sp>
      <p:sp>
        <p:nvSpPr>
          <p:cNvPr id="140" name="PlaceHolder 2"/>
          <p:cNvSpPr>
            <a:spLocks noGrp="1"/>
          </p:cNvSpPr>
          <p:nvPr>
            <p:ph type="subTitle"/>
          </p:nvPr>
        </p:nvSpPr>
        <p:spPr>
          <a:xfrm>
            <a:off x="228600" y="5257440"/>
            <a:ext cx="6400800" cy="685800"/>
          </a:xfrm>
          <a:prstGeom prst="rect">
            <a:avLst/>
          </a:prstGeom>
          <a:noFill/>
          <a:ln w="0">
            <a:noFill/>
          </a:ln>
        </p:spPr>
        <p:txBody>
          <a:bodyPr lIns="90000" rIns="90000" tIns="46800" bIns="46800" anchor="t">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aghu Thiagarajan</a:t>
            </a:r>
            <a:endParaRPr b="0" lang="en-US" sz="1400" spc="-1" strike="noStrike">
              <a:solidFill>
                <a:srgbClr val="2db6b3"/>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duct Portfolio Strategist, Business Integration</a:t>
            </a:r>
            <a:endParaRPr b="0" lang="en-US" sz="1400" spc="-1" strike="noStrike">
              <a:solidFill>
                <a:srgbClr val="2db6b3"/>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ebSphere </a:t>
            </a:r>
            <a:endParaRPr b="0" lang="en-US" sz="14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4080" y="709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efore SOA: </a:t>
            </a:r>
            <a:r>
              <a:rPr b="0" lang="en-US" sz="2000" spc="-1" strike="noStrike">
                <a:solidFill>
                  <a:srgbClr val="7889fb"/>
                </a:solidFill>
                <a:latin typeface="Arial"/>
              </a:rPr>
              <a:t>Distributed object architectures presume homogeneity</a:t>
            </a:r>
            <a:endParaRPr b="0" lang="en-US" sz="2000" spc="-1" strike="noStrike">
              <a:solidFill>
                <a:srgbClr val="7889fb"/>
              </a:solidFill>
              <a:latin typeface="Arial"/>
            </a:endParaRPr>
          </a:p>
        </p:txBody>
      </p:sp>
      <p:sp>
        <p:nvSpPr>
          <p:cNvPr id="173" name="PlaceHolder 2"/>
          <p:cNvSpPr>
            <a:spLocks noGrp="1"/>
          </p:cNvSpPr>
          <p:nvPr>
            <p:ph/>
          </p:nvPr>
        </p:nvSpPr>
        <p:spPr>
          <a:xfrm>
            <a:off x="533520" y="1371600"/>
            <a:ext cx="7348320" cy="4038480"/>
          </a:xfrm>
          <a:prstGeom prst="rect">
            <a:avLst/>
          </a:prstGeom>
          <a:noFill/>
          <a:ln w="0">
            <a:noFill/>
          </a:ln>
        </p:spPr>
        <p:txBody>
          <a:bodyPr lIns="90000" rIns="90000" tIns="46800" bIns="46800" anchor="t">
            <a:normAutofit/>
          </a:bodyPr>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ght coupling between requester and provider</a:t>
            </a:r>
            <a:endParaRPr b="0" lang="en-US" sz="20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order and structure is hard-coded.</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ous invocation style constrains interaction.</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ers exposed to multiple API styles for differing service provider modules.</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rosoft did not sign up for CORBA.</a:t>
            </a:r>
            <a:endParaRPr b="0" lang="en-US" sz="1800" spc="-1" strike="noStrike">
              <a:solidFill>
                <a:srgbClr val="000000"/>
              </a:solidFill>
              <a:latin typeface="Arial"/>
            </a:endParaRPr>
          </a:p>
          <a:p>
            <a:pPr lvl="1" marL="770040" indent="0">
              <a:lnSpc>
                <a:spcPct val="90000"/>
              </a:lnSpc>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itable for intra-departmental projects </a:t>
            </a:r>
            <a:endParaRPr b="0" lang="en-US" sz="2000" spc="-1" strike="noStrike">
              <a:solidFill>
                <a:srgbClr val="000000"/>
              </a:solidFill>
              <a:latin typeface="Arial"/>
            </a:endParaRPr>
          </a:p>
          <a:p>
            <a:pPr lvl="1" marL="770040" indent="-30492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s on homogeneous application framewor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4080" y="709560"/>
            <a:ext cx="8989920" cy="4111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T architectural relationship: </a:t>
            </a:r>
            <a:r>
              <a:rPr b="0" lang="en-US" sz="2400" spc="-1" strike="noStrike">
                <a:solidFill>
                  <a:srgbClr val="7889fb"/>
                </a:solidFill>
                <a:latin typeface="Arial"/>
              </a:rPr>
              <a:t>Objects, Components, Services</a:t>
            </a:r>
            <a:endParaRPr b="0" lang="en-US" sz="2400" spc="-1" strike="noStrike">
              <a:solidFill>
                <a:srgbClr val="7889fb"/>
              </a:solidFill>
              <a:latin typeface="Arial"/>
            </a:endParaRPr>
          </a:p>
        </p:txBody>
      </p:sp>
      <p:pic>
        <p:nvPicPr>
          <p:cNvPr id="175" name="" descr=""/>
          <p:cNvPicPr/>
          <p:nvPr/>
        </p:nvPicPr>
        <p:blipFill>
          <a:blip r:embed="rId1"/>
          <a:stretch/>
        </p:blipFill>
        <p:spPr>
          <a:xfrm>
            <a:off x="380880" y="1447920"/>
            <a:ext cx="7086600" cy="4384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930240" y="4352760"/>
            <a:ext cx="4969080" cy="1297080"/>
          </a:xfrm>
          <a:prstGeom prst="rect">
            <a:avLst/>
          </a:prstGeom>
          <a:gradFill rotWithShape="0">
            <a:gsLst>
              <a:gs pos="0">
                <a:srgbClr val="454545"/>
              </a:gs>
              <a:gs pos="50000">
                <a:srgbClr val="969696">
                  <a:alpha val="46274"/>
                </a:srgbClr>
              </a:gs>
              <a:gs pos="100000">
                <a:srgbClr val="454545"/>
              </a:gs>
            </a:gsLst>
            <a:lin ang="10800000"/>
          </a:gradFill>
          <a:ln w="1260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77" name=""/>
          <p:cNvSpPr/>
          <p:nvPr/>
        </p:nvSpPr>
        <p:spPr>
          <a:xfrm>
            <a:off x="914400" y="1744560"/>
            <a:ext cx="4968720" cy="79056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PlaceHolder 1"/>
          <p:cNvSpPr>
            <a:spLocks noGrp="1"/>
          </p:cNvSpPr>
          <p:nvPr>
            <p:ph/>
          </p:nvPr>
        </p:nvSpPr>
        <p:spPr>
          <a:xfrm>
            <a:off x="6095520" y="1142640"/>
            <a:ext cx="3048120" cy="3902040"/>
          </a:xfrm>
          <a:prstGeom prst="rect">
            <a:avLst/>
          </a:prstGeom>
          <a:noFill/>
          <a:ln w="0">
            <a:noFill/>
          </a:ln>
        </p:spPr>
        <p:txBody>
          <a:bodyPr lIns="90000" rIns="90000" tIns="46800" bIns="46800" anchor="t">
            <a:normAutofit fontScale="81000"/>
          </a:bodyPr>
          <a:p>
            <a:pPr marL="27756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ontext of SOA.</a:t>
            </a:r>
            <a:endParaRPr b="0" lang="en-US" sz="1200" spc="-1" strike="noStrike">
              <a:solidFill>
                <a:srgbClr val="000000"/>
              </a:solidFill>
              <a:latin typeface="Arial"/>
            </a:endParaRPr>
          </a:p>
          <a:p>
            <a:pPr marL="277560" indent="0" rtl="1">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tion</a:t>
            </a:r>
            <a:r>
              <a:rPr b="0" lang="en-US" sz="1200" spc="-1" strike="noStrike">
                <a:solidFill>
                  <a:srgbClr val="000000"/>
                </a:solidFill>
                <a:latin typeface="Arial"/>
              </a:rPr>
              <a:t> is performed at </a:t>
            </a:r>
            <a:r>
              <a:rPr b="1" lang="en-US" sz="1200" spc="-1" strike="noStrike">
                <a:solidFill>
                  <a:srgbClr val="000000"/>
                </a:solidFill>
                <a:latin typeface="Arial"/>
              </a:rPr>
              <a:t>various layers</a:t>
            </a:r>
            <a:r>
              <a:rPr b="0" lang="en-US" sz="1200" spc="-1" strike="noStrike">
                <a:solidFill>
                  <a:srgbClr val="000000"/>
                </a:solidFill>
                <a:latin typeface="Arial"/>
              </a:rPr>
              <a:t> in IT architecture</a:t>
            </a:r>
            <a:r>
              <a:rPr b="0" lang="en-US" sz="1200" spc="-1" strike="noStrike">
                <a:solidFill>
                  <a:srgbClr val="000000"/>
                </a:solidFill>
                <a:latin typeface="Arial"/>
              </a:rPr>
              <a:t>.</a:t>
            </a:r>
            <a:endParaRPr b="0" lang="en-US" sz="1200" spc="-1" strike="noStrike">
              <a:solidFill>
                <a:srgbClr val="000000"/>
              </a:solidFill>
              <a:latin typeface="Arial"/>
            </a:endParaRPr>
          </a:p>
          <a:p>
            <a:pPr marL="277560" indent="-277560">
              <a:lnSpc>
                <a:spcPct val="11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Layer</a:t>
            </a:r>
            <a:r>
              <a:rPr b="0" lang="en-US" sz="1200" spc="-1" strike="noStrike">
                <a:solidFill>
                  <a:srgbClr val="000000"/>
                </a:solidFill>
                <a:latin typeface="Arial"/>
              </a:rPr>
              <a:t> contains applications and components deployed to the technology below. E.g. it might consider how</a:t>
            </a:r>
            <a:r>
              <a:rPr b="1" lang="en-US" sz="1200" spc="-1" strike="noStrike">
                <a:solidFill>
                  <a:srgbClr val="000000"/>
                </a:solidFill>
                <a:latin typeface="Arial"/>
              </a:rPr>
              <a:t> SAP ERP </a:t>
            </a:r>
            <a:r>
              <a:rPr b="0" lang="en-US" sz="1200" spc="-1" strike="noStrike">
                <a:solidFill>
                  <a:srgbClr val="000000"/>
                </a:solidFill>
                <a:latin typeface="Arial"/>
              </a:rPr>
              <a:t>is</a:t>
            </a:r>
            <a:r>
              <a:rPr b="1" lang="en-US" sz="1200" spc="-1" strike="noStrike">
                <a:solidFill>
                  <a:srgbClr val="000000"/>
                </a:solidFill>
                <a:latin typeface="Arial"/>
              </a:rPr>
              <a:t> connected </a:t>
            </a:r>
            <a:r>
              <a:rPr b="0" lang="en-US" sz="1200" spc="-1" strike="noStrike">
                <a:solidFill>
                  <a:srgbClr val="000000"/>
                </a:solidFill>
                <a:latin typeface="Arial"/>
              </a:rPr>
              <a:t>to</a:t>
            </a:r>
            <a:r>
              <a:rPr b="1" lang="en-US" sz="1200" spc="-1" strike="noStrike">
                <a:solidFill>
                  <a:srgbClr val="000000"/>
                </a:solidFill>
                <a:latin typeface="Arial"/>
              </a:rPr>
              <a:t> Siebel CRM</a:t>
            </a:r>
            <a:r>
              <a:rPr b="0" lang="en-US" sz="1200" spc="-1" strike="noStrike">
                <a:solidFill>
                  <a:srgbClr val="000000"/>
                </a:solidFill>
                <a:latin typeface="Arial"/>
              </a:rPr>
              <a:t> for example.</a:t>
            </a:r>
            <a:endParaRPr b="0" lang="en-US" sz="1200" spc="-1" strike="noStrike">
              <a:solidFill>
                <a:srgbClr val="000000"/>
              </a:solidFill>
              <a:latin typeface="Arial"/>
            </a:endParaRPr>
          </a:p>
          <a:p>
            <a:pPr marL="27756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27756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ion challenge at these layers – hard wired to </a:t>
            </a:r>
            <a:r>
              <a:rPr b="1" lang="en-US" sz="1200" spc="-1" strike="noStrike">
                <a:solidFill>
                  <a:srgbClr val="000000"/>
                </a:solidFill>
                <a:latin typeface="Arial"/>
              </a:rPr>
              <a:t>specific instances</a:t>
            </a:r>
            <a:r>
              <a:rPr b="0" lang="en-US" sz="1200" spc="-1" strike="noStrike">
                <a:solidFill>
                  <a:srgbClr val="000000"/>
                </a:solidFill>
                <a:latin typeface="Arial"/>
              </a:rPr>
              <a:t> such as J2EE to .NET, or SAP to Siebel. If these change then integration must change too.</a:t>
            </a:r>
            <a:endParaRPr b="0" lang="en-US" sz="1200" spc="-1" strike="noStrike">
              <a:solidFill>
                <a:srgbClr val="000000"/>
              </a:solidFill>
              <a:latin typeface="Arial"/>
            </a:endParaRPr>
          </a:p>
          <a:p>
            <a:pPr marL="27756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277560">
              <a:lnSpc>
                <a:spcPct val="115000"/>
              </a:lnSpc>
              <a:buClr>
                <a:srgbClr val="2db6b3"/>
              </a:buClr>
              <a:buSzPct val="11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rvice Layer</a:t>
            </a:r>
            <a:r>
              <a:rPr b="0" lang="en-US" sz="1200" spc="-1" strike="noStrike">
                <a:solidFill>
                  <a:srgbClr val="000000"/>
                </a:solidFill>
                <a:latin typeface="Arial"/>
              </a:rPr>
              <a:t> abstracts resources away from lower layers. </a:t>
            </a:r>
            <a:endParaRPr b="0" lang="en-US" sz="1200" spc="-1" strike="noStrike">
              <a:solidFill>
                <a:srgbClr val="000000"/>
              </a:solidFill>
              <a:latin typeface="Arial"/>
            </a:endParaRPr>
          </a:p>
          <a:p>
            <a:pPr marL="27756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cus shifts to </a:t>
            </a:r>
            <a:r>
              <a:rPr b="1" lang="en-US" sz="1200" spc="-1" strike="noStrike">
                <a:solidFill>
                  <a:srgbClr val="000000"/>
                </a:solidFill>
                <a:latin typeface="Arial"/>
              </a:rPr>
              <a:t>connecting Customers </a:t>
            </a:r>
            <a:r>
              <a:rPr b="0" lang="en-US" sz="1200" spc="-1" strike="noStrike">
                <a:solidFill>
                  <a:srgbClr val="000000"/>
                </a:solidFill>
                <a:latin typeface="Arial"/>
              </a:rPr>
              <a:t>with</a:t>
            </a:r>
            <a:r>
              <a:rPr b="1" lang="en-US" sz="1200" spc="-1" strike="noStrike">
                <a:solidFill>
                  <a:srgbClr val="000000"/>
                </a:solidFill>
                <a:latin typeface="Arial"/>
              </a:rPr>
              <a:t> Orders</a:t>
            </a:r>
            <a:r>
              <a:rPr b="0" lang="en-US" sz="1200" spc="-1" strike="noStrike">
                <a:solidFill>
                  <a:srgbClr val="000000"/>
                </a:solidFill>
                <a:latin typeface="Arial"/>
              </a:rPr>
              <a:t> – regardless of the underlying implementation.</a:t>
            </a:r>
            <a:endParaRPr b="0" lang="en-US" sz="1200" spc="-1" strike="noStrike">
              <a:solidFill>
                <a:srgbClr val="000000"/>
              </a:solidFill>
              <a:latin typeface="Arial"/>
            </a:endParaRPr>
          </a:p>
          <a:p>
            <a:pPr marL="27756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277560">
              <a:lnSpc>
                <a:spcPct val="115000"/>
              </a:lnSpc>
              <a:buClr>
                <a:srgbClr val="2db6b3"/>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iness Process Layer</a:t>
            </a:r>
            <a:r>
              <a:rPr b="0" lang="en-US" sz="1200" spc="-1" strike="noStrike">
                <a:solidFill>
                  <a:srgbClr val="000000"/>
                </a:solidFill>
                <a:latin typeface="Arial"/>
              </a:rPr>
              <a:t> solutions are constructed that use the</a:t>
            </a:r>
            <a:r>
              <a:rPr b="1" lang="en-US" sz="1200" spc="-1" strike="noStrike">
                <a:solidFill>
                  <a:srgbClr val="000000"/>
                </a:solidFill>
                <a:latin typeface="Arial"/>
              </a:rPr>
              <a:t> Services</a:t>
            </a:r>
            <a:r>
              <a:rPr b="0" lang="en-US" sz="1200" spc="-1" strike="noStrike">
                <a:solidFill>
                  <a:srgbClr val="000000"/>
                </a:solidFill>
                <a:latin typeface="Arial"/>
              </a:rPr>
              <a:t>, not the underlying applications and technology.</a:t>
            </a:r>
            <a:endParaRPr b="0" lang="en-US" sz="1200" spc="-1" strike="noStrike">
              <a:solidFill>
                <a:srgbClr val="000000"/>
              </a:solidFill>
              <a:latin typeface="Arial"/>
            </a:endParaRPr>
          </a:p>
        </p:txBody>
      </p:sp>
      <p:pic>
        <p:nvPicPr>
          <p:cNvPr id="179" name="" descr=""/>
          <p:cNvPicPr/>
          <p:nvPr/>
        </p:nvPicPr>
        <p:blipFill>
          <a:blip r:embed="rId1"/>
          <a:stretch/>
        </p:blipFill>
        <p:spPr>
          <a:xfrm>
            <a:off x="3597120" y="4505400"/>
            <a:ext cx="743040" cy="303120"/>
          </a:xfrm>
          <a:prstGeom prst="rect">
            <a:avLst/>
          </a:prstGeom>
          <a:ln w="0">
            <a:noFill/>
          </a:ln>
        </p:spPr>
      </p:pic>
      <p:sp>
        <p:nvSpPr>
          <p:cNvPr id="180" name=""/>
          <p:cNvSpPr/>
          <p:nvPr/>
        </p:nvSpPr>
        <p:spPr>
          <a:xfrm rot="5400000">
            <a:off x="4154400" y="2031840"/>
            <a:ext cx="15264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1" name=""/>
          <p:cNvSpPr/>
          <p:nvPr/>
        </p:nvSpPr>
        <p:spPr>
          <a:xfrm rot="5400000">
            <a:off x="3362040" y="231948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2" name=""/>
          <p:cNvSpPr/>
          <p:nvPr/>
        </p:nvSpPr>
        <p:spPr>
          <a:xfrm rot="5400000">
            <a:off x="2858760" y="188748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3" name=""/>
          <p:cNvSpPr/>
          <p:nvPr/>
        </p:nvSpPr>
        <p:spPr>
          <a:xfrm rot="5400000">
            <a:off x="1922400" y="2247840"/>
            <a:ext cx="15264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4" name=""/>
          <p:cNvSpPr/>
          <p:nvPr/>
        </p:nvSpPr>
        <p:spPr>
          <a:xfrm rot="5400000">
            <a:off x="2211120" y="181620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5" name=""/>
          <p:cNvSpPr/>
          <p:nvPr/>
        </p:nvSpPr>
        <p:spPr>
          <a:xfrm rot="5400000">
            <a:off x="1058760" y="1887120"/>
            <a:ext cx="15228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186" name=""/>
          <p:cNvCxnSpPr>
            <a:stCxn id="180" idx="4"/>
            <a:endCxn id="181" idx="1"/>
          </p:cNvCxnSpPr>
          <p:nvPr/>
        </p:nvCxnSpPr>
        <p:spPr>
          <a:xfrm flipH="1">
            <a:off x="3490200" y="2108160"/>
            <a:ext cx="664200" cy="234000"/>
          </a:xfrm>
          <a:prstGeom prst="straightConnector1">
            <a:avLst/>
          </a:prstGeom>
          <a:ln w="12600">
            <a:solidFill>
              <a:srgbClr val="ffffff"/>
            </a:solidFill>
            <a:miter/>
          </a:ln>
        </p:spPr>
      </p:cxnSp>
      <p:cxnSp>
        <p:nvCxnSpPr>
          <p:cNvPr id="187" name=""/>
          <p:cNvCxnSpPr>
            <a:stCxn id="181" idx="4"/>
            <a:endCxn id="182" idx="7"/>
          </p:cNvCxnSpPr>
          <p:nvPr/>
        </p:nvCxnSpPr>
        <p:spPr>
          <a:xfrm flipH="1" flipV="1">
            <a:off x="2986920" y="2015640"/>
            <a:ext cx="375480" cy="380160"/>
          </a:xfrm>
          <a:prstGeom prst="straightConnector1">
            <a:avLst/>
          </a:prstGeom>
          <a:ln w="12600">
            <a:solidFill>
              <a:srgbClr val="ffffff"/>
            </a:solidFill>
            <a:miter/>
          </a:ln>
        </p:spPr>
      </p:cxnSp>
      <p:cxnSp>
        <p:nvCxnSpPr>
          <p:cNvPr id="188" name=""/>
          <p:cNvCxnSpPr>
            <a:stCxn id="182" idx="5"/>
            <a:endCxn id="183" idx="1"/>
          </p:cNvCxnSpPr>
          <p:nvPr/>
        </p:nvCxnSpPr>
        <p:spPr>
          <a:xfrm flipH="1">
            <a:off x="2050200" y="2016000"/>
            <a:ext cx="831240" cy="254880"/>
          </a:xfrm>
          <a:prstGeom prst="straightConnector1">
            <a:avLst/>
          </a:prstGeom>
          <a:ln w="12600">
            <a:solidFill>
              <a:srgbClr val="ffffff"/>
            </a:solidFill>
            <a:miter/>
          </a:ln>
        </p:spPr>
      </p:cxnSp>
      <p:cxnSp>
        <p:nvCxnSpPr>
          <p:cNvPr id="189" name=""/>
          <p:cNvCxnSpPr>
            <a:stCxn id="182" idx="4"/>
            <a:endCxn id="184" idx="0"/>
          </p:cNvCxnSpPr>
          <p:nvPr/>
        </p:nvCxnSpPr>
        <p:spPr>
          <a:xfrm flipH="1" flipV="1">
            <a:off x="2363400" y="1891440"/>
            <a:ext cx="496080" cy="72360"/>
          </a:xfrm>
          <a:prstGeom prst="straightConnector1">
            <a:avLst/>
          </a:prstGeom>
          <a:ln w="12600">
            <a:solidFill>
              <a:srgbClr val="ffffff"/>
            </a:solidFill>
            <a:miter/>
          </a:ln>
        </p:spPr>
      </p:cxnSp>
      <p:cxnSp>
        <p:nvCxnSpPr>
          <p:cNvPr id="190" name=""/>
          <p:cNvCxnSpPr>
            <a:stCxn id="184" idx="4"/>
            <a:endCxn id="185" idx="1"/>
          </p:cNvCxnSpPr>
          <p:nvPr/>
        </p:nvCxnSpPr>
        <p:spPr>
          <a:xfrm flipH="1">
            <a:off x="1186560" y="1891800"/>
            <a:ext cx="1024920" cy="18360"/>
          </a:xfrm>
          <a:prstGeom prst="straightConnector1">
            <a:avLst/>
          </a:prstGeom>
          <a:ln w="12600">
            <a:solidFill>
              <a:srgbClr val="ffffff"/>
            </a:solidFill>
            <a:miter/>
          </a:ln>
        </p:spPr>
      </p:cxnSp>
      <p:cxnSp>
        <p:nvCxnSpPr>
          <p:cNvPr id="191" name=""/>
          <p:cNvCxnSpPr>
            <a:stCxn id="183" idx="4"/>
            <a:endCxn id="185" idx="0"/>
          </p:cNvCxnSpPr>
          <p:nvPr/>
        </p:nvCxnSpPr>
        <p:spPr>
          <a:xfrm flipH="1" flipV="1">
            <a:off x="1210680" y="1963080"/>
            <a:ext cx="711720" cy="361080"/>
          </a:xfrm>
          <a:prstGeom prst="straightConnector1">
            <a:avLst/>
          </a:prstGeom>
          <a:ln w="12600">
            <a:solidFill>
              <a:srgbClr val="ffffff"/>
            </a:solidFill>
            <a:miter/>
          </a:ln>
        </p:spPr>
      </p:cxnSp>
      <p:sp>
        <p:nvSpPr>
          <p:cNvPr id="192" name=""/>
          <p:cNvSpPr/>
          <p:nvPr/>
        </p:nvSpPr>
        <p:spPr>
          <a:xfrm rot="5400000">
            <a:off x="3506400" y="181620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193" name=""/>
          <p:cNvCxnSpPr>
            <a:stCxn id="180" idx="4"/>
            <a:endCxn id="192" idx="7"/>
          </p:cNvCxnSpPr>
          <p:nvPr/>
        </p:nvCxnSpPr>
        <p:spPr>
          <a:xfrm flipH="1" flipV="1">
            <a:off x="3634920" y="1944360"/>
            <a:ext cx="519840" cy="164160"/>
          </a:xfrm>
          <a:prstGeom prst="straightConnector1">
            <a:avLst/>
          </a:prstGeom>
          <a:ln w="12600">
            <a:solidFill>
              <a:srgbClr val="ffffff"/>
            </a:solidFill>
            <a:miter/>
          </a:ln>
        </p:spPr>
      </p:cxnSp>
      <p:cxnSp>
        <p:nvCxnSpPr>
          <p:cNvPr id="194" name=""/>
          <p:cNvCxnSpPr>
            <a:stCxn id="192" idx="4"/>
            <a:endCxn id="182" idx="0"/>
          </p:cNvCxnSpPr>
          <p:nvPr/>
        </p:nvCxnSpPr>
        <p:spPr>
          <a:xfrm flipH="1">
            <a:off x="3011040" y="1891800"/>
            <a:ext cx="496080" cy="72360"/>
          </a:xfrm>
          <a:prstGeom prst="straightConnector1">
            <a:avLst/>
          </a:prstGeom>
          <a:ln w="12600">
            <a:solidFill>
              <a:srgbClr val="ffffff"/>
            </a:solidFill>
            <a:miter/>
          </a:ln>
        </p:spPr>
      </p:cxnSp>
      <p:sp>
        <p:nvSpPr>
          <p:cNvPr id="195" name=""/>
          <p:cNvSpPr/>
          <p:nvPr/>
        </p:nvSpPr>
        <p:spPr>
          <a:xfrm rot="5400000">
            <a:off x="4730400" y="181620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96" name=""/>
          <p:cNvSpPr/>
          <p:nvPr/>
        </p:nvSpPr>
        <p:spPr>
          <a:xfrm rot="5400000">
            <a:off x="5235480" y="2176200"/>
            <a:ext cx="15228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197" name=""/>
          <p:cNvCxnSpPr>
            <a:stCxn id="180" idx="0"/>
            <a:endCxn id="195" idx="5"/>
          </p:cNvCxnSpPr>
          <p:nvPr/>
        </p:nvCxnSpPr>
        <p:spPr>
          <a:xfrm flipV="1">
            <a:off x="4306680" y="1944360"/>
            <a:ext cx="446760" cy="164160"/>
          </a:xfrm>
          <a:prstGeom prst="straightConnector1">
            <a:avLst/>
          </a:prstGeom>
          <a:ln w="12600">
            <a:solidFill>
              <a:srgbClr val="ffffff"/>
            </a:solidFill>
            <a:miter/>
          </a:ln>
        </p:spPr>
      </p:cxnSp>
      <p:cxnSp>
        <p:nvCxnSpPr>
          <p:cNvPr id="198" name=""/>
          <p:cNvCxnSpPr>
            <a:stCxn id="180" idx="0"/>
            <a:endCxn id="196" idx="4"/>
          </p:cNvCxnSpPr>
          <p:nvPr/>
        </p:nvCxnSpPr>
        <p:spPr>
          <a:xfrm>
            <a:off x="4306680" y="2107800"/>
            <a:ext cx="929160" cy="144720"/>
          </a:xfrm>
          <a:prstGeom prst="straightConnector1">
            <a:avLst/>
          </a:prstGeom>
          <a:ln w="12600">
            <a:solidFill>
              <a:srgbClr val="ffffff"/>
            </a:solidFill>
            <a:miter/>
          </a:ln>
        </p:spPr>
      </p:cxnSp>
      <p:cxnSp>
        <p:nvCxnSpPr>
          <p:cNvPr id="199" name=""/>
          <p:cNvCxnSpPr>
            <a:stCxn id="195" idx="0"/>
            <a:endCxn id="196" idx="2"/>
          </p:cNvCxnSpPr>
          <p:nvPr/>
        </p:nvCxnSpPr>
        <p:spPr>
          <a:xfrm>
            <a:off x="4882680" y="1892160"/>
            <a:ext cx="429480" cy="285120"/>
          </a:xfrm>
          <a:prstGeom prst="straightConnector1">
            <a:avLst/>
          </a:prstGeom>
          <a:ln w="12600">
            <a:solidFill>
              <a:srgbClr val="ffffff"/>
            </a:solidFill>
            <a:miter/>
          </a:ln>
        </p:spPr>
      </p:cxnSp>
      <p:cxnSp>
        <p:nvCxnSpPr>
          <p:cNvPr id="200" name=""/>
          <p:cNvCxnSpPr>
            <a:stCxn id="183" idx="0"/>
            <a:endCxn id="181" idx="4"/>
          </p:cNvCxnSpPr>
          <p:nvPr/>
        </p:nvCxnSpPr>
        <p:spPr>
          <a:xfrm>
            <a:off x="2075040" y="2324160"/>
            <a:ext cx="1288080" cy="72000"/>
          </a:xfrm>
          <a:prstGeom prst="straightConnector1">
            <a:avLst/>
          </a:prstGeom>
          <a:ln w="12600">
            <a:solidFill>
              <a:srgbClr val="ffffff"/>
            </a:solidFill>
            <a:miter/>
          </a:ln>
        </p:spPr>
      </p:cxnSp>
      <p:sp>
        <p:nvSpPr>
          <p:cNvPr id="201" name=""/>
          <p:cNvSpPr/>
          <p:nvPr/>
        </p:nvSpPr>
        <p:spPr>
          <a:xfrm>
            <a:off x="914400" y="2895480"/>
            <a:ext cx="4967280" cy="1081080"/>
          </a:xfrm>
          <a:prstGeom prst="rect">
            <a:avLst/>
          </a:prstGeom>
          <a:gradFill rotWithShape="0">
            <a:gsLst>
              <a:gs pos="0">
                <a:srgbClr val="5e5e75"/>
              </a:gs>
              <a:gs pos="50000">
                <a:srgbClr val="ccccff"/>
              </a:gs>
              <a:gs pos="100000">
                <a:srgbClr val="5e5e7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0" y="3962520"/>
            <a:ext cx="1727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pplication Layer</a:t>
            </a:r>
            <a:endParaRPr b="0" lang="en-US" sz="1200" spc="-1" strike="noStrike">
              <a:solidFill>
                <a:srgbClr val="ffffff"/>
              </a:solidFill>
              <a:latin typeface="Arial"/>
            </a:endParaRPr>
          </a:p>
        </p:txBody>
      </p:sp>
      <p:graphicFrame>
        <p:nvGraphicFramePr>
          <p:cNvPr id="203" name=""/>
          <p:cNvGraphicFramePr/>
          <p:nvPr/>
        </p:nvGraphicFramePr>
        <p:xfrm>
          <a:off x="1844640" y="4352760"/>
          <a:ext cx="390600" cy="609840"/>
        </p:xfrm>
        <a:graphic>
          <a:graphicData uri="http://schemas.openxmlformats.org/presentationml/2006/ole">
            <p:oleObj r:id="rId2" spid="">
              <p:embed/>
              <p:pic>
                <p:nvPicPr>
                  <p:cNvPr id="204" name="" descr=""/>
                  <p:cNvPicPr/>
                  <p:nvPr/>
                </p:nvPicPr>
                <p:blipFill>
                  <a:blip r:embed="rId3"/>
                  <a:stretch/>
                </p:blipFill>
                <p:spPr>
                  <a:xfrm>
                    <a:off x="1844640" y="4352760"/>
                    <a:ext cx="390600" cy="609840"/>
                  </a:xfrm>
                  <a:prstGeom prst="rect">
                    <a:avLst/>
                  </a:prstGeom>
                  <a:ln w="0">
                    <a:noFill/>
                  </a:ln>
                </p:spPr>
              </p:pic>
            </p:oleObj>
          </a:graphicData>
        </a:graphic>
      </p:graphicFrame>
      <p:graphicFrame>
        <p:nvGraphicFramePr>
          <p:cNvPr id="205" name=""/>
          <p:cNvGraphicFramePr/>
          <p:nvPr/>
        </p:nvGraphicFramePr>
        <p:xfrm>
          <a:off x="2225520" y="4886280"/>
          <a:ext cx="390600" cy="609480"/>
        </p:xfrm>
        <a:graphic>
          <a:graphicData uri="http://schemas.openxmlformats.org/presentationml/2006/ole">
            <p:oleObj r:id="rId4" spid="">
              <p:embed/>
              <p:pic>
                <p:nvPicPr>
                  <p:cNvPr id="206" name="" descr=""/>
                  <p:cNvPicPr/>
                  <p:nvPr/>
                </p:nvPicPr>
                <p:blipFill>
                  <a:blip r:embed="rId5"/>
                  <a:stretch/>
                </p:blipFill>
                <p:spPr>
                  <a:xfrm>
                    <a:off x="2225520" y="4886280"/>
                    <a:ext cx="390600" cy="609480"/>
                  </a:xfrm>
                  <a:prstGeom prst="rect">
                    <a:avLst/>
                  </a:prstGeom>
                  <a:ln w="0">
                    <a:noFill/>
                  </a:ln>
                </p:spPr>
              </p:pic>
            </p:oleObj>
          </a:graphicData>
        </a:graphic>
      </p:graphicFrame>
      <p:graphicFrame>
        <p:nvGraphicFramePr>
          <p:cNvPr id="207" name=""/>
          <p:cNvGraphicFramePr/>
          <p:nvPr/>
        </p:nvGraphicFramePr>
        <p:xfrm>
          <a:off x="3216240" y="4429080"/>
          <a:ext cx="390600" cy="609480"/>
        </p:xfrm>
        <a:graphic>
          <a:graphicData uri="http://schemas.openxmlformats.org/presentationml/2006/ole">
            <p:oleObj r:id="rId6" spid="">
              <p:embed/>
              <p:pic>
                <p:nvPicPr>
                  <p:cNvPr id="208" name="" descr=""/>
                  <p:cNvPicPr/>
                  <p:nvPr/>
                </p:nvPicPr>
                <p:blipFill>
                  <a:blip r:embed="rId7"/>
                  <a:stretch/>
                </p:blipFill>
                <p:spPr>
                  <a:xfrm>
                    <a:off x="3216240" y="4429080"/>
                    <a:ext cx="390600" cy="609480"/>
                  </a:xfrm>
                  <a:prstGeom prst="rect">
                    <a:avLst/>
                  </a:prstGeom>
                  <a:ln w="0">
                    <a:noFill/>
                  </a:ln>
                </p:spPr>
              </p:pic>
            </p:oleObj>
          </a:graphicData>
        </a:graphic>
      </p:graphicFrame>
      <p:graphicFrame>
        <p:nvGraphicFramePr>
          <p:cNvPr id="209" name=""/>
          <p:cNvGraphicFramePr/>
          <p:nvPr/>
        </p:nvGraphicFramePr>
        <p:xfrm>
          <a:off x="4130640" y="4962600"/>
          <a:ext cx="390600" cy="609480"/>
        </p:xfrm>
        <a:graphic>
          <a:graphicData uri="http://schemas.openxmlformats.org/presentationml/2006/ole">
            <p:oleObj r:id="rId8" spid="">
              <p:embed/>
              <p:pic>
                <p:nvPicPr>
                  <p:cNvPr id="210" name="" descr=""/>
                  <p:cNvPicPr/>
                  <p:nvPr/>
                </p:nvPicPr>
                <p:blipFill>
                  <a:blip r:embed="rId9"/>
                  <a:stretch/>
                </p:blipFill>
                <p:spPr>
                  <a:xfrm>
                    <a:off x="4130640" y="4962600"/>
                    <a:ext cx="390600" cy="609480"/>
                  </a:xfrm>
                  <a:prstGeom prst="rect">
                    <a:avLst/>
                  </a:prstGeom>
                  <a:ln w="0">
                    <a:noFill/>
                  </a:ln>
                </p:spPr>
              </p:pic>
            </p:oleObj>
          </a:graphicData>
        </a:graphic>
      </p:graphicFrame>
      <p:pic>
        <p:nvPicPr>
          <p:cNvPr id="211" name="" descr=""/>
          <p:cNvPicPr/>
          <p:nvPr/>
        </p:nvPicPr>
        <p:blipFill>
          <a:blip r:embed="rId10"/>
          <a:stretch/>
        </p:blipFill>
        <p:spPr>
          <a:xfrm>
            <a:off x="4511520" y="5191200"/>
            <a:ext cx="730440" cy="315720"/>
          </a:xfrm>
          <a:prstGeom prst="rect">
            <a:avLst/>
          </a:prstGeom>
          <a:ln w="0">
            <a:noFill/>
          </a:ln>
        </p:spPr>
      </p:pic>
      <p:pic>
        <p:nvPicPr>
          <p:cNvPr id="212" name="" descr=""/>
          <p:cNvPicPr/>
          <p:nvPr/>
        </p:nvPicPr>
        <p:blipFill>
          <a:blip r:embed="rId11"/>
          <a:stretch/>
        </p:blipFill>
        <p:spPr>
          <a:xfrm>
            <a:off x="930240" y="4734000"/>
            <a:ext cx="1074600" cy="142920"/>
          </a:xfrm>
          <a:prstGeom prst="rect">
            <a:avLst/>
          </a:prstGeom>
          <a:ln w="0">
            <a:noFill/>
          </a:ln>
        </p:spPr>
      </p:pic>
      <p:sp>
        <p:nvSpPr>
          <p:cNvPr id="213" name=""/>
          <p:cNvSpPr/>
          <p:nvPr/>
        </p:nvSpPr>
        <p:spPr>
          <a:xfrm>
            <a:off x="2149560" y="4581360"/>
            <a:ext cx="198108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flipV="1">
            <a:off x="2606760" y="4809600"/>
            <a:ext cx="53316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3597120" y="4809960"/>
            <a:ext cx="53352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flipH="1" flipV="1">
            <a:off x="2072880" y="4886280"/>
            <a:ext cx="15228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2225520" y="4505400"/>
            <a:ext cx="99072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18" name=""/>
          <p:cNvSpPr/>
          <p:nvPr/>
        </p:nvSpPr>
        <p:spPr>
          <a:xfrm>
            <a:off x="2606760" y="5343480"/>
            <a:ext cx="152388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1268280" y="3116160"/>
            <a:ext cx="685800" cy="685800"/>
          </a:xfrm>
          <a:prstGeom prst="can">
            <a:avLst>
              <a:gd name="adj" fmla="val 25000"/>
            </a:avLst>
          </a:prstGeom>
          <a:gradFill rotWithShape="0">
            <a:gsLst>
              <a:gs pos="0">
                <a:srgbClr val="616fcc"/>
              </a:gs>
              <a:gs pos="50000">
                <a:srgbClr val="7889fb"/>
              </a:gs>
              <a:gs pos="100000">
                <a:srgbClr val="616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1192320" y="3344760"/>
            <a:ext cx="99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ount</a:t>
            </a:r>
            <a:endParaRPr b="0" lang="en-US" sz="1200" spc="-1" strike="noStrike">
              <a:solidFill>
                <a:srgbClr val="ffffff"/>
              </a:solidFill>
              <a:latin typeface="Arial"/>
            </a:endParaRPr>
          </a:p>
        </p:txBody>
      </p:sp>
      <p:sp>
        <p:nvSpPr>
          <p:cNvPr id="221" name=""/>
          <p:cNvSpPr/>
          <p:nvPr/>
        </p:nvSpPr>
        <p:spPr>
          <a:xfrm>
            <a:off x="2411280" y="3116160"/>
            <a:ext cx="762120" cy="685800"/>
          </a:xfrm>
          <a:prstGeom prst="can">
            <a:avLst>
              <a:gd name="adj" fmla="val 25000"/>
            </a:avLst>
          </a:prstGeom>
          <a:gradFill rotWithShape="0">
            <a:gsLst>
              <a:gs pos="0">
                <a:srgbClr val="616fcc"/>
              </a:gs>
              <a:gs pos="50000">
                <a:srgbClr val="7889fb"/>
              </a:gs>
              <a:gs pos="100000">
                <a:srgbClr val="616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2335320" y="3316320"/>
            <a:ext cx="99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005c"/>
                </a:solidFill>
                <a:latin typeface="Arial"/>
              </a:rPr>
              <a:t>Employee</a:t>
            </a:r>
            <a:endParaRPr b="0" lang="en-US" sz="1200" spc="-1" strike="noStrike">
              <a:solidFill>
                <a:srgbClr val="ffffff"/>
              </a:solidFill>
              <a:latin typeface="Arial"/>
            </a:endParaRPr>
          </a:p>
        </p:txBody>
      </p:sp>
      <p:sp>
        <p:nvSpPr>
          <p:cNvPr id="223" name=""/>
          <p:cNvSpPr/>
          <p:nvPr/>
        </p:nvSpPr>
        <p:spPr>
          <a:xfrm>
            <a:off x="3859200" y="3068640"/>
            <a:ext cx="762120" cy="685800"/>
          </a:xfrm>
          <a:prstGeom prst="can">
            <a:avLst>
              <a:gd name="adj" fmla="val 25000"/>
            </a:avLst>
          </a:prstGeom>
          <a:gradFill rotWithShape="0">
            <a:gsLst>
              <a:gs pos="0">
                <a:srgbClr val="616fcc"/>
              </a:gs>
              <a:gs pos="50000">
                <a:srgbClr val="7889fb"/>
              </a:gs>
              <a:gs pos="100000">
                <a:srgbClr val="616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3782880" y="3268800"/>
            <a:ext cx="99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005c"/>
                </a:solidFill>
                <a:latin typeface="Arial"/>
              </a:rPr>
              <a:t>Order</a:t>
            </a:r>
            <a:endParaRPr b="0" lang="en-US" sz="1200" spc="-1" strike="noStrike">
              <a:solidFill>
                <a:srgbClr val="ffffff"/>
              </a:solidFill>
              <a:latin typeface="Arial"/>
            </a:endParaRPr>
          </a:p>
        </p:txBody>
      </p:sp>
      <p:sp>
        <p:nvSpPr>
          <p:cNvPr id="225" name=""/>
          <p:cNvSpPr/>
          <p:nvPr/>
        </p:nvSpPr>
        <p:spPr>
          <a:xfrm>
            <a:off x="5002200" y="3068640"/>
            <a:ext cx="762120" cy="685800"/>
          </a:xfrm>
          <a:prstGeom prst="can">
            <a:avLst>
              <a:gd name="adj" fmla="val 25000"/>
            </a:avLst>
          </a:prstGeom>
          <a:gradFill rotWithShape="0">
            <a:gsLst>
              <a:gs pos="0">
                <a:srgbClr val="616fcc"/>
              </a:gs>
              <a:gs pos="50000">
                <a:srgbClr val="7889fb"/>
              </a:gs>
              <a:gs pos="100000">
                <a:srgbClr val="616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4925880" y="3268800"/>
            <a:ext cx="99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005c"/>
                </a:solidFill>
                <a:latin typeface="Arial"/>
              </a:rPr>
              <a:t>Customer</a:t>
            </a:r>
            <a:endParaRPr b="0" lang="en-US" sz="1200" spc="-1" strike="noStrike">
              <a:solidFill>
                <a:srgbClr val="ffffff"/>
              </a:solidFill>
              <a:latin typeface="Arial"/>
            </a:endParaRPr>
          </a:p>
        </p:txBody>
      </p:sp>
      <p:cxnSp>
        <p:nvCxnSpPr>
          <p:cNvPr id="227" name=""/>
          <p:cNvCxnSpPr>
            <a:stCxn id="221" idx="3"/>
            <a:endCxn id="214" idx="0"/>
          </p:cNvCxnSpPr>
          <p:nvPr/>
        </p:nvCxnSpPr>
        <p:spPr>
          <a:xfrm flipH="1">
            <a:off x="2606400" y="3801600"/>
            <a:ext cx="186480" cy="1389960"/>
          </a:xfrm>
          <a:prstGeom prst="straightConnector1">
            <a:avLst/>
          </a:prstGeom>
          <a:ln w="9360">
            <a:solidFill>
              <a:srgbClr val="060688"/>
            </a:solidFill>
            <a:miter/>
          </a:ln>
        </p:spPr>
      </p:cxnSp>
      <p:cxnSp>
        <p:nvCxnSpPr>
          <p:cNvPr id="228" name=""/>
          <p:cNvCxnSpPr>
            <a:stCxn id="219" idx="3"/>
          </p:cNvCxnSpPr>
          <p:nvPr/>
        </p:nvCxnSpPr>
        <p:spPr>
          <a:xfrm>
            <a:off x="1611360" y="3801960"/>
            <a:ext cx="429120" cy="551520"/>
          </a:xfrm>
          <a:prstGeom prst="straightConnector1">
            <a:avLst/>
          </a:prstGeom>
          <a:ln w="9360">
            <a:solidFill>
              <a:srgbClr val="060688"/>
            </a:solidFill>
            <a:miter/>
          </a:ln>
        </p:spPr>
      </p:cxnSp>
      <p:cxnSp>
        <p:nvCxnSpPr>
          <p:cNvPr id="229" name=""/>
          <p:cNvCxnSpPr>
            <a:stCxn id="223" idx="3"/>
          </p:cNvCxnSpPr>
          <p:nvPr/>
        </p:nvCxnSpPr>
        <p:spPr>
          <a:xfrm flipH="1">
            <a:off x="3411000" y="3754440"/>
            <a:ext cx="829440" cy="675360"/>
          </a:xfrm>
          <a:prstGeom prst="straightConnector1">
            <a:avLst/>
          </a:prstGeom>
          <a:ln w="9360">
            <a:solidFill>
              <a:srgbClr val="060688"/>
            </a:solidFill>
            <a:miter/>
          </a:ln>
        </p:spPr>
      </p:cxnSp>
      <p:cxnSp>
        <p:nvCxnSpPr>
          <p:cNvPr id="230" name=""/>
          <p:cNvCxnSpPr>
            <a:stCxn id="225" idx="3"/>
          </p:cNvCxnSpPr>
          <p:nvPr/>
        </p:nvCxnSpPr>
        <p:spPr>
          <a:xfrm flipH="1">
            <a:off x="4325040" y="3754440"/>
            <a:ext cx="1058040" cy="1208880"/>
          </a:xfrm>
          <a:prstGeom prst="straightConnector1">
            <a:avLst/>
          </a:prstGeom>
          <a:ln w="9360">
            <a:solidFill>
              <a:srgbClr val="060688"/>
            </a:solidFill>
            <a:miter/>
          </a:ln>
        </p:spPr>
      </p:cxnSp>
      <p:graphicFrame>
        <p:nvGraphicFramePr>
          <p:cNvPr id="231" name=""/>
          <p:cNvGraphicFramePr/>
          <p:nvPr/>
        </p:nvGraphicFramePr>
        <p:xfrm>
          <a:off x="887400" y="982800"/>
          <a:ext cx="5029200" cy="1904760"/>
        </p:xfrm>
        <a:graphic>
          <a:graphicData uri="http://schemas.openxmlformats.org/presentationml/2006/ole">
            <p:oleObj r:id="rId12" spid="">
              <p:embed/>
              <p:pic>
                <p:nvPicPr>
                  <p:cNvPr id="232" name="" descr=""/>
                  <p:cNvPicPr/>
                  <p:nvPr/>
                </p:nvPicPr>
                <p:blipFill>
                  <a:blip r:embed="rId13"/>
                  <a:stretch/>
                </p:blipFill>
                <p:spPr>
                  <a:xfrm>
                    <a:off x="887400" y="982800"/>
                    <a:ext cx="5029200" cy="1904760"/>
                  </a:xfrm>
                  <a:prstGeom prst="rect">
                    <a:avLst/>
                  </a:prstGeom>
                  <a:ln w="0">
                    <a:noFill/>
                  </a:ln>
                </p:spPr>
              </p:pic>
            </p:oleObj>
          </a:graphicData>
        </a:graphic>
      </p:graphicFrame>
      <p:sp>
        <p:nvSpPr>
          <p:cNvPr id="233" name=""/>
          <p:cNvSpPr/>
          <p:nvPr/>
        </p:nvSpPr>
        <p:spPr>
          <a:xfrm>
            <a:off x="0" y="1066680"/>
            <a:ext cx="216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usiness Process Layer</a:t>
            </a:r>
            <a:endParaRPr b="0" lang="en-US" sz="1200" spc="-1" strike="noStrike">
              <a:solidFill>
                <a:srgbClr val="ffffff"/>
              </a:solidFill>
              <a:latin typeface="Arial"/>
            </a:endParaRPr>
          </a:p>
        </p:txBody>
      </p:sp>
      <p:sp>
        <p:nvSpPr>
          <p:cNvPr id="234" name=""/>
          <p:cNvSpPr/>
          <p:nvPr/>
        </p:nvSpPr>
        <p:spPr>
          <a:xfrm>
            <a:off x="0" y="2400480"/>
            <a:ext cx="1440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rvice Layer</a:t>
            </a:r>
            <a:endParaRPr b="0" lang="en-US" sz="1200" spc="-1" strike="noStrike">
              <a:solidFill>
                <a:srgbClr val="ffffff"/>
              </a:solidFill>
              <a:latin typeface="Arial"/>
            </a:endParaRPr>
          </a:p>
        </p:txBody>
      </p:sp>
      <p:sp>
        <p:nvSpPr>
          <p:cNvPr id="235" name=""/>
          <p:cNvSpPr/>
          <p:nvPr/>
        </p:nvSpPr>
        <p:spPr>
          <a:xfrm>
            <a:off x="1954080" y="3344760"/>
            <a:ext cx="38124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3173400" y="3421080"/>
            <a:ext cx="68580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4621320" y="3421080"/>
            <a:ext cx="38088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PlaceHolder 2"/>
          <p:cNvSpPr>
            <a:spLocks noGrp="1"/>
          </p:cNvSpPr>
          <p:nvPr>
            <p:ph type="title"/>
          </p:nvPr>
        </p:nvSpPr>
        <p:spPr>
          <a:xfrm>
            <a:off x="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Architectural Layers</a:t>
            </a:r>
            <a:endParaRPr b="0" lang="en-US" sz="2800" spc="-1" strike="noStrike">
              <a:solidFill>
                <a:srgbClr val="7889fb"/>
              </a:solidFill>
              <a:latin typeface="Arial"/>
            </a:endParaRPr>
          </a:p>
        </p:txBody>
      </p:sp>
      <p:sp>
        <p:nvSpPr>
          <p:cNvPr id="239" name=""/>
          <p:cNvSpPr/>
          <p:nvPr/>
        </p:nvSpPr>
        <p:spPr>
          <a:xfrm flipH="1">
            <a:off x="1649160" y="2354400"/>
            <a:ext cx="152280" cy="761760"/>
          </a:xfrm>
          <a:prstGeom prst="line">
            <a:avLst/>
          </a:prstGeom>
          <a:ln w="9360">
            <a:solidFill>
              <a:srgbClr val="c0c0c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flipH="1">
            <a:off x="2944440" y="2583000"/>
            <a:ext cx="228600" cy="457200"/>
          </a:xfrm>
          <a:prstGeom prst="line">
            <a:avLst/>
          </a:prstGeom>
          <a:ln w="9360">
            <a:solidFill>
              <a:srgbClr val="c0c0c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flipH="1">
            <a:off x="4239720" y="2354400"/>
            <a:ext cx="228600" cy="761760"/>
          </a:xfrm>
          <a:prstGeom prst="line">
            <a:avLst/>
          </a:prstGeom>
          <a:ln w="9360">
            <a:solidFill>
              <a:srgbClr val="c0c0c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OA stack</a:t>
            </a:r>
            <a:endParaRPr b="0" lang="en-US" sz="2800" spc="-1" strike="noStrike">
              <a:solidFill>
                <a:srgbClr val="7889fb"/>
              </a:solidFill>
              <a:latin typeface="Arial"/>
            </a:endParaRPr>
          </a:p>
        </p:txBody>
      </p:sp>
      <p:pic>
        <p:nvPicPr>
          <p:cNvPr id="243" name="" descr=""/>
          <p:cNvPicPr/>
          <p:nvPr/>
        </p:nvPicPr>
        <p:blipFill>
          <a:blip r:embed="rId1"/>
          <a:stretch/>
        </p:blipFill>
        <p:spPr>
          <a:xfrm>
            <a:off x="1112760" y="1776240"/>
            <a:ext cx="7348680" cy="3902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What is a Web service?</a:t>
            </a:r>
            <a:endParaRPr b="0" lang="en-US" sz="2800" spc="-1" strike="noStrike">
              <a:solidFill>
                <a:srgbClr val="ffffff"/>
              </a:solidFill>
              <a:latin typeface="Arial"/>
            </a:endParaRPr>
          </a:p>
        </p:txBody>
      </p:sp>
      <p:sp>
        <p:nvSpPr>
          <p:cNvPr id="245" name=""/>
          <p:cNvSpPr/>
          <p:nvPr/>
        </p:nvSpPr>
        <p:spPr>
          <a:xfrm>
            <a:off x="701640" y="1901880"/>
            <a:ext cx="7481880" cy="825480"/>
          </a:xfrm>
          <a:prstGeom prst="rect">
            <a:avLst/>
          </a:prstGeom>
          <a:noFill/>
          <a:ln w="0">
            <a:noFill/>
          </a:ln>
        </p:spPr>
        <p:style>
          <a:lnRef idx="0"/>
          <a:fillRef idx="0"/>
          <a:effectRef idx="0"/>
          <a:fontRef idx="minor"/>
        </p:style>
        <p:txBody>
          <a:bodyPr lIns="90000" rIns="90000" tIns="46800" bIns="46800" anchor="t">
            <a:spAutoFit/>
          </a:bodyPr>
          <a:p>
            <a:pPr>
              <a:buClr>
                <a:srgbClr val="cccc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An Open Standard for accessing </a:t>
            </a:r>
            <a:endParaRPr b="0" lang="en-US" sz="24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component based applications</a:t>
            </a:r>
            <a:endParaRPr b="0" lang="en-US" sz="2400" spc="-1" strike="noStrike">
              <a:solidFill>
                <a:srgbClr val="ffffff"/>
              </a:solidFill>
              <a:latin typeface="Arial"/>
            </a:endParaRPr>
          </a:p>
        </p:txBody>
      </p:sp>
      <p:sp>
        <p:nvSpPr>
          <p:cNvPr id="246" name=""/>
          <p:cNvSpPr/>
          <p:nvPr/>
        </p:nvSpPr>
        <p:spPr>
          <a:xfrm>
            <a:off x="701640" y="3106800"/>
            <a:ext cx="6153120" cy="825480"/>
          </a:xfrm>
          <a:prstGeom prst="rect">
            <a:avLst/>
          </a:prstGeom>
          <a:noFill/>
          <a:ln w="0">
            <a:noFill/>
          </a:ln>
        </p:spPr>
        <p:style>
          <a:lnRef idx="0"/>
          <a:fillRef idx="0"/>
          <a:effectRef idx="0"/>
          <a:fontRef idx="minor"/>
        </p:style>
        <p:txBody>
          <a:bodyPr lIns="90000" rIns="90000" tIns="46800" bIns="46800" anchor="t">
            <a:spAutoFit/>
          </a:bodyPr>
          <a:p>
            <a:pPr>
              <a:buClr>
                <a:srgbClr val="cccc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Core Web services standards include XML, WSDL, SOAP and UDDI.</a:t>
            </a:r>
            <a:endParaRPr b="0" lang="en-US" sz="2400" spc="-1" strike="noStrike">
              <a:solidFill>
                <a:srgbClr val="ffffff"/>
              </a:solidFill>
              <a:latin typeface="Arial"/>
            </a:endParaRPr>
          </a:p>
        </p:txBody>
      </p:sp>
      <p:sp>
        <p:nvSpPr>
          <p:cNvPr id="247" name=""/>
          <p:cNvSpPr/>
          <p:nvPr/>
        </p:nvSpPr>
        <p:spPr>
          <a:xfrm>
            <a:off x="701640" y="4343400"/>
            <a:ext cx="7564320" cy="1191240"/>
          </a:xfrm>
          <a:prstGeom prst="rect">
            <a:avLst/>
          </a:prstGeom>
          <a:noFill/>
          <a:ln w="0">
            <a:noFill/>
          </a:ln>
        </p:spPr>
        <p:style>
          <a:lnRef idx="0"/>
          <a:fillRef idx="0"/>
          <a:effectRef idx="0"/>
          <a:fontRef idx="minor"/>
        </p:style>
        <p:txBody>
          <a:bodyPr lIns="90000" rIns="90000" tIns="46800" bIns="46800" anchor="t">
            <a:spAutoFit/>
          </a:bodyPr>
          <a:p>
            <a:pPr>
              <a:buClr>
                <a:srgbClr val="cccc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Advanced Web services provide support for Security, Transactions, Reliability, Business Processes and Management..</a:t>
            </a:r>
            <a:endParaRPr b="0" lang="en-US" sz="2400" spc="-1" strike="noStrike">
              <a:solidFill>
                <a:srgbClr val="ffffff"/>
              </a:solidFill>
              <a:latin typeface="Arial"/>
            </a:endParaRPr>
          </a:p>
        </p:txBody>
      </p:sp>
      <p:pic>
        <p:nvPicPr>
          <p:cNvPr id="248" name="" descr=""/>
          <p:cNvPicPr/>
          <p:nvPr/>
        </p:nvPicPr>
        <p:blipFill>
          <a:blip r:embed="rId1"/>
          <a:stretch/>
        </p:blipFill>
        <p:spPr>
          <a:xfrm>
            <a:off x="6610320" y="1266840"/>
            <a:ext cx="2124000" cy="21240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2" presetSubtype="8">
                                  <p:stCondLst>
                                    <p:cond delay="0"/>
                                  </p:stCondLst>
                                  <p:childTnLst>
                                    <p:set>
                                      <p:cBhvr>
                                        <p:cTn id="6" dur="1" fill="hold">
                                          <p:stCondLst>
                                            <p:cond delay="0"/>
                                          </p:stCondLst>
                                        </p:cTn>
                                        <p:tgtEl>
                                          <p:spTgt spid="245"/>
                                        </p:tgtEl>
                                        <p:attrNameLst>
                                          <p:attrName>style.visibility</p:attrName>
                                        </p:attrNameLst>
                                      </p:cBhvr>
                                      <p:to>
                                        <p:strVal val="visible"/>
                                      </p:to>
                                    </p:set>
                                    <p:animEffect filter="wipe(left)" transition="in">
                                      <p:cBhvr additive="repl">
                                        <p:cTn id="7" dur="1000"/>
                                        <p:tgtEl>
                                          <p:spTgt spid="245"/>
                                        </p:tgtEl>
                                      </p:cBhvr>
                                    </p:animEffect>
                                  </p:childTnLst>
                                </p:cTn>
                              </p:par>
                            </p:childTnLst>
                          </p:cTn>
                        </p:par>
                        <p:par>
                          <p:cTn id="8" fill="hold">
                            <p:stCondLst>
                              <p:cond delay="1000"/>
                            </p:stCondLst>
                            <p:childTnLst>
                              <p:par>
                                <p:cTn id="9" nodeType="afterEffect" fill="hold" presetClass="entr" presetID="22" presetSubtype="8">
                                  <p:stCondLst>
                                    <p:cond delay="0"/>
                                  </p:stCondLst>
                                  <p:childTnLst>
                                    <p:set>
                                      <p:cBhvr>
                                        <p:cTn id="10" dur="1" fill="hold">
                                          <p:stCondLst>
                                            <p:cond delay="0"/>
                                          </p:stCondLst>
                                        </p:cTn>
                                        <p:tgtEl>
                                          <p:spTgt spid="246"/>
                                        </p:tgtEl>
                                        <p:attrNameLst>
                                          <p:attrName>style.visibility</p:attrName>
                                        </p:attrNameLst>
                                      </p:cBhvr>
                                      <p:to>
                                        <p:strVal val="visible"/>
                                      </p:to>
                                    </p:set>
                                    <p:animEffect filter="wipe(left)" transition="in">
                                      <p:cBhvr additive="repl">
                                        <p:cTn id="11" dur="1000"/>
                                        <p:tgtEl>
                                          <p:spTgt spid="246"/>
                                        </p:tgtEl>
                                      </p:cBhvr>
                                    </p:animEffect>
                                  </p:childTnLst>
                                </p:cTn>
                              </p:par>
                            </p:childTnLst>
                          </p:cTn>
                        </p:par>
                        <p:par>
                          <p:cTn id="12" fill="hold">
                            <p:stCondLst>
                              <p:cond delay="2000"/>
                            </p:stCondLst>
                            <p:childTnLst>
                              <p:par>
                                <p:cTn id="13" nodeType="afterEffect" fill="hold" presetClass="entr" presetID="22" presetSubtype="8">
                                  <p:stCondLst>
                                    <p:cond delay="0"/>
                                  </p:stCondLst>
                                  <p:childTnLst>
                                    <p:set>
                                      <p:cBhvr>
                                        <p:cTn id="14" dur="1" fill="hold">
                                          <p:stCondLst>
                                            <p:cond delay="0"/>
                                          </p:stCondLst>
                                        </p:cTn>
                                        <p:tgtEl>
                                          <p:spTgt spid="247"/>
                                        </p:tgtEl>
                                        <p:attrNameLst>
                                          <p:attrName>style.visibility</p:attrName>
                                        </p:attrNameLst>
                                      </p:cBhvr>
                                      <p:to>
                                        <p:strVal val="visible"/>
                                      </p:to>
                                    </p:set>
                                    <p:animEffect filter="wipe(left)" transition="in">
                                      <p:cBhvr additive="repl">
                                        <p:cTn id="15" dur="10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 Services: Review</a:t>
            </a:r>
            <a:endParaRPr b="0" lang="en-US" sz="2800" spc="-1" strike="noStrike">
              <a:solidFill>
                <a:srgbClr val="7889fb"/>
              </a:solidFill>
              <a:latin typeface="Arial"/>
            </a:endParaRPr>
          </a:p>
        </p:txBody>
      </p:sp>
      <p:sp>
        <p:nvSpPr>
          <p:cNvPr id="25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609480" indent="-609480">
              <a:lnSpc>
                <a:spcPct val="105000"/>
              </a:lnSpc>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 Web service is a software application identified by a URI, whose interfaces and bindings are capable of being defined, described, and discovered as XML artifacts. A Web service supports direct interactions with other software agents using XML-based messages exchanged via Internet-based protocols.”</a:t>
            </a:r>
            <a:endParaRPr b="0" lang="en-US" sz="2000" spc="-1" strike="noStrike">
              <a:solidFill>
                <a:srgbClr val="000000"/>
              </a:solidFill>
              <a:latin typeface="Arial"/>
            </a:endParaRPr>
          </a:p>
          <a:p>
            <a:pPr marL="6094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5000"/>
              </a:lnSpc>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ervices are based on</a:t>
            </a:r>
            <a:endParaRPr b="0" lang="en-US" sz="2000" spc="-1" strike="noStrike">
              <a:solidFill>
                <a:srgbClr val="000000"/>
              </a:solidFill>
              <a:latin typeface="Arial"/>
            </a:endParaRPr>
          </a:p>
          <a:p>
            <a:pPr marL="609480" indent="-609480">
              <a:lnSpc>
                <a:spcPct val="10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Xtensible Markup Language (XML)</a:t>
            </a:r>
            <a:endParaRPr b="0" lang="en-US" sz="1800" spc="-1" strike="noStrike">
              <a:solidFill>
                <a:srgbClr val="000000"/>
              </a:solidFill>
              <a:latin typeface="Arial"/>
            </a:endParaRPr>
          </a:p>
          <a:p>
            <a:pPr marL="609480" indent="-609480">
              <a:lnSpc>
                <a:spcPct val="10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imple Object Access Protocol (SOAP)</a:t>
            </a:r>
            <a:endParaRPr b="0" lang="en-US" sz="1800" spc="-1" strike="noStrike">
              <a:solidFill>
                <a:srgbClr val="000000"/>
              </a:solidFill>
              <a:latin typeface="Arial"/>
            </a:endParaRPr>
          </a:p>
          <a:p>
            <a:pPr marL="609480" indent="-609480">
              <a:lnSpc>
                <a:spcPct val="10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Universal Description, Discovery and Integration (UDDI)</a:t>
            </a:r>
            <a:endParaRPr b="0" lang="en-US" sz="1800" spc="-1" strike="noStrike">
              <a:solidFill>
                <a:srgbClr val="000000"/>
              </a:solidFill>
              <a:latin typeface="Arial"/>
            </a:endParaRPr>
          </a:p>
          <a:p>
            <a:pPr marL="609480" indent="-609480">
              <a:lnSpc>
                <a:spcPct val="10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Web Services Description Language (WSDL)</a:t>
            </a:r>
            <a:endParaRPr b="0" lang="en-US" sz="1800" spc="-1" strike="noStrike">
              <a:solidFill>
                <a:srgbClr val="000000"/>
              </a:solidFill>
              <a:latin typeface="Arial"/>
            </a:endParaRPr>
          </a:p>
          <a:p>
            <a:pPr marL="6094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XML </a:t>
            </a:r>
            <a:endParaRPr b="0" lang="en-US" sz="2800" spc="-1" strike="noStrike">
              <a:solidFill>
                <a:srgbClr val="ffffff"/>
              </a:solidFill>
              <a:latin typeface="Arial"/>
            </a:endParaRPr>
          </a:p>
        </p:txBody>
      </p:sp>
      <p:pic>
        <p:nvPicPr>
          <p:cNvPr id="252" name="" descr=""/>
          <p:cNvPicPr/>
          <p:nvPr/>
        </p:nvPicPr>
        <p:blipFill>
          <a:blip r:embed="rId1"/>
          <a:stretch/>
        </p:blipFill>
        <p:spPr>
          <a:xfrm>
            <a:off x="2262240" y="1752480"/>
            <a:ext cx="4619520" cy="1257480"/>
          </a:xfrm>
          <a:prstGeom prst="rect">
            <a:avLst/>
          </a:prstGeom>
          <a:ln w="0">
            <a:noFill/>
          </a:ln>
        </p:spPr>
      </p:pic>
      <p:pic>
        <p:nvPicPr>
          <p:cNvPr id="253" name="" descr=""/>
          <p:cNvPicPr/>
          <p:nvPr/>
        </p:nvPicPr>
        <p:blipFill>
          <a:blip r:embed="rId2"/>
          <a:stretch/>
        </p:blipFill>
        <p:spPr>
          <a:xfrm>
            <a:off x="1514520" y="4157640"/>
            <a:ext cx="6116760" cy="1933560"/>
          </a:xfrm>
          <a:prstGeom prst="rect">
            <a:avLst/>
          </a:prstGeom>
          <a:ln w="0">
            <a:noFill/>
          </a:ln>
        </p:spPr>
      </p:pic>
      <p:sp>
        <p:nvSpPr>
          <p:cNvPr id="254" name=""/>
          <p:cNvSpPr/>
          <p:nvPr/>
        </p:nvSpPr>
        <p:spPr>
          <a:xfrm>
            <a:off x="826920" y="1339920"/>
            <a:ext cx="749016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HTML was designed for </a:t>
            </a:r>
            <a:r>
              <a:rPr b="1" lang="en-US" sz="2200" spc="-1" strike="noStrike">
                <a:solidFill>
                  <a:srgbClr val="996633"/>
                </a:solidFill>
                <a:latin typeface="Arial"/>
              </a:rPr>
              <a:t>human / computer</a:t>
            </a:r>
            <a:r>
              <a:rPr b="1" lang="en-US" sz="2200" spc="-1" strike="noStrike">
                <a:solidFill>
                  <a:srgbClr val="000000"/>
                </a:solidFill>
                <a:latin typeface="Arial"/>
              </a:rPr>
              <a:t> interaction</a:t>
            </a:r>
            <a:r>
              <a:rPr b="1" lang="en-US" sz="2200" spc="-1" strike="noStrike">
                <a:solidFill>
                  <a:srgbClr val="ffffff"/>
                </a:solidFill>
                <a:latin typeface="Arial"/>
              </a:rPr>
              <a:t>.</a:t>
            </a:r>
            <a:endParaRPr b="0" lang="en-US" sz="2200" spc="-1" strike="noStrike">
              <a:solidFill>
                <a:srgbClr val="ffffff"/>
              </a:solidFill>
              <a:latin typeface="Arial"/>
            </a:endParaRPr>
          </a:p>
        </p:txBody>
      </p:sp>
      <p:sp>
        <p:nvSpPr>
          <p:cNvPr id="255" name=""/>
          <p:cNvSpPr/>
          <p:nvPr/>
        </p:nvSpPr>
        <p:spPr>
          <a:xfrm>
            <a:off x="727200" y="3645000"/>
            <a:ext cx="76896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XML was designed for </a:t>
            </a:r>
            <a:r>
              <a:rPr b="1" lang="en-US" sz="2200" spc="-1" strike="noStrike">
                <a:solidFill>
                  <a:srgbClr val="996633"/>
                </a:solidFill>
                <a:latin typeface="Arial"/>
              </a:rPr>
              <a:t>computer / computer</a:t>
            </a:r>
            <a:r>
              <a:rPr b="1" lang="en-US" sz="2200" spc="-1" strike="noStrike">
                <a:solidFill>
                  <a:srgbClr val="000000"/>
                </a:solidFill>
                <a:latin typeface="Arial"/>
              </a:rPr>
              <a:t> interaction</a:t>
            </a:r>
            <a:r>
              <a:rPr b="1" lang="en-US" sz="2200" spc="-1" strike="noStrike">
                <a:solidFill>
                  <a:srgbClr val="ffffff"/>
                </a:solidFill>
                <a:latin typeface="Arial"/>
              </a:rPr>
              <a:t>.</a:t>
            </a:r>
            <a:endParaRPr b="0" lang="en-US" sz="2200" spc="-1" strike="noStrike">
              <a:solidFill>
                <a:srgbClr val="ffffff"/>
              </a:solidFill>
              <a:latin typeface="Arial"/>
            </a:endParaRPr>
          </a:p>
        </p:txBody>
      </p:sp>
      <p:grpSp>
        <p:nvGrpSpPr>
          <p:cNvPr id="256" name=""/>
          <p:cNvGrpSpPr/>
          <p:nvPr/>
        </p:nvGrpSpPr>
        <p:grpSpPr>
          <a:xfrm>
            <a:off x="600120" y="3238560"/>
            <a:ext cx="7943760" cy="9360"/>
            <a:chOff x="600120" y="3238560"/>
            <a:chExt cx="7943760" cy="9360"/>
          </a:xfrm>
        </p:grpSpPr>
        <p:sp>
          <p:nvSpPr>
            <p:cNvPr id="257" name=""/>
            <p:cNvSpPr/>
            <p:nvPr/>
          </p:nvSpPr>
          <p:spPr>
            <a:xfrm>
              <a:off x="600120" y="3247920"/>
              <a:ext cx="7943760" cy="0"/>
            </a:xfrm>
            <a:prstGeom prst="line">
              <a:avLst/>
            </a:prstGeom>
            <a:ln w="57240">
              <a:solidFill>
                <a:srgbClr val="9966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600120" y="3238560"/>
              <a:ext cx="7943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10">
                                  <p:stCondLst>
                                    <p:cond delay="0"/>
                                  </p:stCondLst>
                                  <p:childTnLst>
                                    <p:set>
                                      <p:cBhvr>
                                        <p:cTn id="21" dur="1" fill="hold">
                                          <p:stCondLst>
                                            <p:cond delay="0"/>
                                          </p:stCondLst>
                                        </p:cTn>
                                        <p:tgtEl>
                                          <p:spTgt spid="254"/>
                                        </p:tgtEl>
                                        <p:attrNameLst>
                                          <p:attrName>style.visibility</p:attrName>
                                        </p:attrNameLst>
                                      </p:cBhvr>
                                      <p:to>
                                        <p:strVal val="visible"/>
                                      </p:to>
                                    </p:set>
                                    <p:animEffect filter="fade" transition="in">
                                      <p:cBhvr additive="repl">
                                        <p:cTn id="22" dur="1000"/>
                                        <p:tgtEl>
                                          <p:spTgt spid="254"/>
                                        </p:tgtEl>
                                      </p:cBhvr>
                                    </p:animEffect>
                                  </p:childTnLst>
                                </p:cTn>
                              </p:par>
                            </p:childTnLst>
                          </p:cTn>
                        </p:par>
                        <p:par>
                          <p:cTn id="23" fill="hold">
                            <p:stCondLst>
                              <p:cond delay="1000"/>
                            </p:stCondLst>
                            <p:childTnLst>
                              <p:par>
                                <p:cTn id="24" nodeType="afterEffect" fill="hold" presetClass="entr" presetID="22" presetSubtype="8">
                                  <p:stCondLst>
                                    <p:cond delay="0"/>
                                  </p:stCondLst>
                                  <p:childTnLst>
                                    <p:set>
                                      <p:cBhvr>
                                        <p:cTn id="25" dur="1" fill="hold">
                                          <p:stCondLst>
                                            <p:cond delay="0"/>
                                          </p:stCondLst>
                                        </p:cTn>
                                        <p:tgtEl>
                                          <p:spTgt spid="252"/>
                                        </p:tgtEl>
                                        <p:attrNameLst>
                                          <p:attrName>style.visibility</p:attrName>
                                        </p:attrNameLst>
                                      </p:cBhvr>
                                      <p:to>
                                        <p:strVal val="visible"/>
                                      </p:to>
                                    </p:set>
                                    <p:animEffect filter="wipe(left)" transition="in">
                                      <p:cBhvr additive="repl">
                                        <p:cTn id="26" dur="1000"/>
                                        <p:tgtEl>
                                          <p:spTgt spid="252"/>
                                        </p:tgtEl>
                                      </p:cBhvr>
                                    </p:animEffect>
                                  </p:childTnLst>
                                </p:cTn>
                              </p:par>
                            </p:childTnLst>
                          </p:cTn>
                        </p:par>
                        <p:par>
                          <p:cTn id="27" fill="hold">
                            <p:stCondLst>
                              <p:cond delay="2000"/>
                            </p:stCondLst>
                            <p:childTnLst>
                              <p:par>
                                <p:cTn id="28" nodeType="afterEffect" fill="hold" presetClass="entr" presetID="10">
                                  <p:stCondLst>
                                    <p:cond delay="0"/>
                                  </p:stCondLst>
                                  <p:childTnLst>
                                    <p:set>
                                      <p:cBhvr>
                                        <p:cTn id="29" dur="1" fill="hold">
                                          <p:stCondLst>
                                            <p:cond delay="0"/>
                                          </p:stCondLst>
                                        </p:cTn>
                                        <p:tgtEl>
                                          <p:spTgt spid="256"/>
                                        </p:tgtEl>
                                        <p:attrNameLst>
                                          <p:attrName>style.visibility</p:attrName>
                                        </p:attrNameLst>
                                      </p:cBhvr>
                                      <p:to>
                                        <p:strVal val="visible"/>
                                      </p:to>
                                    </p:set>
                                    <p:animEffect filter="fade" transition="in">
                                      <p:cBhvr additive="repl">
                                        <p:cTn id="30" dur="1000"/>
                                        <p:tgtEl>
                                          <p:spTgt spid="256"/>
                                        </p:tgtEl>
                                      </p:cBhvr>
                                    </p:animEffect>
                                  </p:childTnLst>
                                </p:cTn>
                              </p:par>
                            </p:childTnLst>
                          </p:cTn>
                        </p:par>
                        <p:par>
                          <p:cTn id="31" fill="hold">
                            <p:stCondLst>
                              <p:cond delay="3000"/>
                            </p:stCondLst>
                            <p:childTnLst>
                              <p:par>
                                <p:cTn id="32" nodeType="afterEffect" fill="hold" presetClass="entr" presetID="10">
                                  <p:stCondLst>
                                    <p:cond delay="0"/>
                                  </p:stCondLst>
                                  <p:childTnLst>
                                    <p:set>
                                      <p:cBhvr>
                                        <p:cTn id="33" dur="1" fill="hold">
                                          <p:stCondLst>
                                            <p:cond delay="0"/>
                                          </p:stCondLst>
                                        </p:cTn>
                                        <p:tgtEl>
                                          <p:spTgt spid="255"/>
                                        </p:tgtEl>
                                        <p:attrNameLst>
                                          <p:attrName>style.visibility</p:attrName>
                                        </p:attrNameLst>
                                      </p:cBhvr>
                                      <p:to>
                                        <p:strVal val="visible"/>
                                      </p:to>
                                    </p:set>
                                    <p:animEffect filter="fade" transition="in">
                                      <p:cBhvr additive="repl">
                                        <p:cTn id="34" dur="1000"/>
                                        <p:tgtEl>
                                          <p:spTgt spid="255"/>
                                        </p:tgtEl>
                                      </p:cBhvr>
                                    </p:animEffect>
                                  </p:childTnLst>
                                </p:cTn>
                              </p:par>
                            </p:childTnLst>
                          </p:cTn>
                        </p:par>
                        <p:par>
                          <p:cTn id="35" fill="hold">
                            <p:stCondLst>
                              <p:cond delay="4000"/>
                            </p:stCondLst>
                            <p:childTnLst>
                              <p:par>
                                <p:cTn id="36" nodeType="afterEffect" fill="hold" presetClass="entr" presetID="22" presetSubtype="8">
                                  <p:stCondLst>
                                    <p:cond delay="0"/>
                                  </p:stCondLst>
                                  <p:childTnLst>
                                    <p:set>
                                      <p:cBhvr>
                                        <p:cTn id="37" dur="1" fill="hold">
                                          <p:stCondLst>
                                            <p:cond delay="0"/>
                                          </p:stCondLst>
                                        </p:cTn>
                                        <p:tgtEl>
                                          <p:spTgt spid="253"/>
                                        </p:tgtEl>
                                        <p:attrNameLst>
                                          <p:attrName>style.visibility</p:attrName>
                                        </p:attrNameLst>
                                      </p:cBhvr>
                                      <p:to>
                                        <p:strVal val="visible"/>
                                      </p:to>
                                    </p:set>
                                    <p:animEffect filter="wipe(left)" transition="in">
                                      <p:cBhvr additive="repl">
                                        <p:cTn id="38" dur="10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 Services: User interface for computers</a:t>
            </a:r>
            <a:endParaRPr b="0" lang="en-US" sz="2800" spc="-1" strike="noStrike">
              <a:solidFill>
                <a:srgbClr val="7889fb"/>
              </a:solidFill>
              <a:latin typeface="Arial"/>
            </a:endParaRPr>
          </a:p>
        </p:txBody>
      </p:sp>
      <p:pic>
        <p:nvPicPr>
          <p:cNvPr id="260" name="" descr=""/>
          <p:cNvPicPr/>
          <p:nvPr/>
        </p:nvPicPr>
        <p:blipFill>
          <a:blip r:embed="rId1"/>
          <a:stretch/>
        </p:blipFill>
        <p:spPr>
          <a:xfrm>
            <a:off x="1066680" y="1274760"/>
            <a:ext cx="7772400" cy="4703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XML </a:t>
            </a:r>
            <a:endParaRPr b="0" lang="en-US" sz="2800" spc="-1" strike="noStrike">
              <a:solidFill>
                <a:srgbClr val="ffffff"/>
              </a:solidFill>
              <a:latin typeface="Arial"/>
            </a:endParaRPr>
          </a:p>
        </p:txBody>
      </p:sp>
      <p:pic>
        <p:nvPicPr>
          <p:cNvPr id="262" name="" descr=""/>
          <p:cNvPicPr/>
          <p:nvPr/>
        </p:nvPicPr>
        <p:blipFill>
          <a:blip r:embed="rId1"/>
          <a:stretch/>
        </p:blipFill>
        <p:spPr>
          <a:xfrm>
            <a:off x="2362320" y="1905120"/>
            <a:ext cx="4419360" cy="3668760"/>
          </a:xfrm>
          <a:prstGeom prst="rect">
            <a:avLst/>
          </a:prstGeom>
          <a:ln w="0">
            <a:noFill/>
          </a:ln>
        </p:spPr>
      </p:pic>
      <p:sp>
        <p:nvSpPr>
          <p:cNvPr id="263" name=""/>
          <p:cNvSpPr/>
          <p:nvPr/>
        </p:nvSpPr>
        <p:spPr>
          <a:xfrm>
            <a:off x="933120" y="1257480"/>
            <a:ext cx="57981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HTML was designed with humans in mind.</a:t>
            </a:r>
            <a:endParaRPr b="0" lang="en-US" sz="2200" spc="-1" strike="noStrike">
              <a:solidFill>
                <a:srgbClr val="ffffff"/>
              </a:solidFill>
              <a:latin typeface="Arial"/>
            </a:endParaRPr>
          </a:p>
        </p:txBody>
      </p:sp>
      <p:sp>
        <p:nvSpPr>
          <p:cNvPr id="264" name=""/>
          <p:cNvSpPr/>
          <p:nvPr/>
        </p:nvSpPr>
        <p:spPr>
          <a:xfrm>
            <a:off x="1682640" y="1701720"/>
            <a:ext cx="683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The tags don’t tell</a:t>
            </a:r>
            <a:r>
              <a:rPr b="1" lang="en-US" sz="2200" spc="-1" strike="noStrike">
                <a:solidFill>
                  <a:srgbClr val="ffffff"/>
                </a:solidFill>
                <a:latin typeface="Arial"/>
              </a:rPr>
              <a:t> </a:t>
            </a:r>
            <a:r>
              <a:rPr b="1" lang="en-US" sz="2800" spc="-1" strike="noStrike" u="sng">
                <a:solidFill>
                  <a:srgbClr val="996633"/>
                </a:solidFill>
                <a:uFillTx/>
                <a:latin typeface="Arial"/>
              </a:rPr>
              <a:t>what the information is.</a:t>
            </a:r>
            <a:endParaRPr b="0" lang="en-US" sz="2800" spc="-1" strike="noStrike">
              <a:solidFill>
                <a:srgbClr val="ffffff"/>
              </a:solidFill>
              <a:latin typeface="Arial"/>
            </a:endParaRPr>
          </a:p>
        </p:txBody>
      </p:sp>
    </p:spTree>
  </p:cSld>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53">
                                  <p:stCondLst>
                                    <p:cond delay="0"/>
                                  </p:stCondLst>
                                  <p:childTnLst>
                                    <p:set>
                                      <p:cBhvr>
                                        <p:cTn id="44" dur="1" fill="hold">
                                          <p:stCondLst>
                                            <p:cond delay="0"/>
                                          </p:stCondLst>
                                        </p:cTn>
                                        <p:tgtEl>
                                          <p:spTgt spid="262"/>
                                        </p:tgtEl>
                                        <p:attrNameLst>
                                          <p:attrName>style.visibility</p:attrName>
                                        </p:attrNameLst>
                                      </p:cBhvr>
                                      <p:to>
                                        <p:strVal val="visible"/>
                                      </p:to>
                                    </p:set>
                                    <p:anim calcmode="lin" valueType="num">
                                      <p:cBhvr additive="repl">
                                        <p:cTn id="45" dur="1000" fill="hold"/>
                                        <p:tgtEl>
                                          <p:spTgt spid="262"/>
                                        </p:tgtEl>
                                        <p:attrNameLst>
                                          <p:attrName>ppt_w</p:attrName>
                                        </p:attrNameLst>
                                      </p:cBhvr>
                                      <p:tavLst>
                                        <p:tav tm="0">
                                          <p:val>
                                            <p:fltVal val="0"/>
                                          </p:val>
                                        </p:tav>
                                        <p:tav tm="100000">
                                          <p:val>
                                            <p:strVal val="#ppt_w"/>
                                          </p:val>
                                        </p:tav>
                                      </p:tavLst>
                                    </p:anim>
                                    <p:anim calcmode="lin" valueType="num">
                                      <p:cBhvr additive="repl">
                                        <p:cTn id="46" dur="1000" fill="hold"/>
                                        <p:tgtEl>
                                          <p:spTgt spid="262"/>
                                        </p:tgtEl>
                                        <p:attrNameLst>
                                          <p:attrName>ppt_h</p:attrName>
                                        </p:attrNameLst>
                                      </p:cBhvr>
                                      <p:tavLst>
                                        <p:tav tm="0">
                                          <p:val>
                                            <p:fltVal val="0"/>
                                          </p:val>
                                        </p:tav>
                                        <p:tav tm="100000">
                                          <p:val>
                                            <p:strVal val="#ppt_h"/>
                                          </p:val>
                                        </p:tav>
                                      </p:tavLst>
                                    </p:anim>
                                    <p:animEffect filter="fade" transition="in">
                                      <p:cBhvr additive="repl">
                                        <p:cTn id="47" dur="10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XML</a:t>
            </a:r>
            <a:r>
              <a:rPr b="1" lang="en-US" sz="2800" spc="-1" strike="noStrike">
                <a:solidFill>
                  <a:srgbClr val="333399"/>
                </a:solidFill>
                <a:latin typeface="Arial"/>
              </a:rPr>
              <a:t> </a:t>
            </a:r>
            <a:endParaRPr b="0" lang="en-US" sz="2800" spc="-1" strike="noStrike">
              <a:solidFill>
                <a:srgbClr val="ffffff"/>
              </a:solidFill>
              <a:latin typeface="Arial"/>
            </a:endParaRPr>
          </a:p>
        </p:txBody>
      </p:sp>
      <p:sp>
        <p:nvSpPr>
          <p:cNvPr id="266" name=""/>
          <p:cNvSpPr/>
          <p:nvPr/>
        </p:nvSpPr>
        <p:spPr>
          <a:xfrm>
            <a:off x="880920" y="1282680"/>
            <a:ext cx="48517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XML lets you create your own tags,</a:t>
            </a:r>
            <a:endParaRPr b="0" lang="en-US" sz="2200" spc="-1" strike="noStrike">
              <a:solidFill>
                <a:srgbClr val="ffffff"/>
              </a:solidFill>
              <a:latin typeface="Arial"/>
            </a:endParaRPr>
          </a:p>
        </p:txBody>
      </p:sp>
      <p:sp>
        <p:nvSpPr>
          <p:cNvPr id="267" name=""/>
          <p:cNvSpPr/>
          <p:nvPr/>
        </p:nvSpPr>
        <p:spPr>
          <a:xfrm>
            <a:off x="1616040" y="1682640"/>
            <a:ext cx="683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and was designed</a:t>
            </a:r>
            <a:r>
              <a:rPr b="1" lang="en-US" sz="2200" spc="-1" strike="noStrike">
                <a:solidFill>
                  <a:srgbClr val="ffffff"/>
                </a:solidFill>
                <a:latin typeface="Arial"/>
              </a:rPr>
              <a:t> </a:t>
            </a:r>
            <a:r>
              <a:rPr b="1" lang="en-US" sz="2800" spc="-1" strike="noStrike" u="sng">
                <a:solidFill>
                  <a:srgbClr val="996633"/>
                </a:solidFill>
                <a:uFillTx/>
                <a:latin typeface="Arial"/>
              </a:rPr>
              <a:t>with the Web in mind.</a:t>
            </a:r>
            <a:endParaRPr b="0" lang="en-US" sz="2800" spc="-1" strike="noStrike">
              <a:solidFill>
                <a:srgbClr val="ffffff"/>
              </a:solidFill>
              <a:latin typeface="Arial"/>
            </a:endParaRPr>
          </a:p>
        </p:txBody>
      </p:sp>
      <p:pic>
        <p:nvPicPr>
          <p:cNvPr id="268" name="" descr=""/>
          <p:cNvPicPr/>
          <p:nvPr/>
        </p:nvPicPr>
        <p:blipFill>
          <a:blip r:embed="rId1"/>
          <a:stretch/>
        </p:blipFill>
        <p:spPr>
          <a:xfrm>
            <a:off x="2362320" y="1944720"/>
            <a:ext cx="4419360" cy="3668760"/>
          </a:xfrm>
          <a:prstGeom prst="rect">
            <a:avLst/>
          </a:prstGeom>
          <a:ln w="0">
            <a:noFill/>
          </a:ln>
        </p:spPr>
      </p:pic>
    </p:spTree>
  </p:cSld>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22" presetSubtype="1">
                                  <p:stCondLst>
                                    <p:cond delay="0"/>
                                  </p:stCondLst>
                                  <p:childTnLst>
                                    <p:set>
                                      <p:cBhvr>
                                        <p:cTn id="53" dur="1" fill="hold">
                                          <p:stCondLst>
                                            <p:cond delay="0"/>
                                          </p:stCondLst>
                                        </p:cTn>
                                        <p:tgtEl>
                                          <p:spTgt spid="268"/>
                                        </p:tgtEl>
                                        <p:attrNameLst>
                                          <p:attrName>style.visibility</p:attrName>
                                        </p:attrNameLst>
                                      </p:cBhvr>
                                      <p:to>
                                        <p:strVal val="visible"/>
                                      </p:to>
                                    </p:set>
                                    <p:animEffect filter="wipe(up)" transition="in">
                                      <p:cBhvr additive="repl">
                                        <p:cTn id="54" dur="10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 evolution</a:t>
            </a:r>
            <a:endParaRPr b="0" lang="en-US" sz="2800" spc="-1" strike="noStrike">
              <a:solidFill>
                <a:srgbClr val="7889fb"/>
              </a:solidFill>
              <a:latin typeface="Arial"/>
            </a:endParaRPr>
          </a:p>
        </p:txBody>
      </p:sp>
      <p:pic>
        <p:nvPicPr>
          <p:cNvPr id="142" name="" descr=""/>
          <p:cNvPicPr/>
          <p:nvPr/>
        </p:nvPicPr>
        <p:blipFill>
          <a:blip r:embed="rId1"/>
          <a:stretch/>
        </p:blipFill>
        <p:spPr>
          <a:xfrm>
            <a:off x="533520" y="2136600"/>
            <a:ext cx="8001000" cy="4187880"/>
          </a:xfrm>
          <a:prstGeom prst="rect">
            <a:avLst/>
          </a:prstGeom>
          <a:ln w="0">
            <a:noFill/>
          </a:ln>
        </p:spPr>
      </p:pic>
      <p:sp>
        <p:nvSpPr>
          <p:cNvPr id="143" name=""/>
          <p:cNvSpPr/>
          <p:nvPr/>
        </p:nvSpPr>
        <p:spPr>
          <a:xfrm>
            <a:off x="457200" y="1752480"/>
            <a:ext cx="7848720" cy="0"/>
          </a:xfrm>
          <a:prstGeom prst="line">
            <a:avLst/>
          </a:prstGeom>
          <a:ln w="381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1395360" y="1857240"/>
            <a:ext cx="5153040" cy="4286520"/>
          </a:xfrm>
          <a:prstGeom prst="rect">
            <a:avLst/>
          </a:prstGeom>
          <a:ln w="0">
            <a:noFill/>
          </a:ln>
        </p:spPr>
      </p:pic>
      <p:sp>
        <p:nvSpPr>
          <p:cNvPr id="270"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WSDL describes the Web service</a:t>
            </a:r>
            <a:endParaRPr b="0" lang="en-US" sz="2800" spc="-1" strike="noStrike">
              <a:solidFill>
                <a:srgbClr val="ffffff"/>
              </a:solidFill>
              <a:latin typeface="Arial"/>
            </a:endParaRPr>
          </a:p>
        </p:txBody>
      </p:sp>
      <p:pic>
        <p:nvPicPr>
          <p:cNvPr id="271" name="" descr=""/>
          <p:cNvPicPr/>
          <p:nvPr/>
        </p:nvPicPr>
        <p:blipFill>
          <a:blip r:embed="rId2"/>
          <a:stretch/>
        </p:blipFill>
        <p:spPr>
          <a:xfrm>
            <a:off x="1227240" y="1128600"/>
            <a:ext cx="6402240" cy="1247760"/>
          </a:xfrm>
          <a:prstGeom prst="rect">
            <a:avLst/>
          </a:prstGeom>
          <a:ln w="0">
            <a:noFill/>
          </a:ln>
        </p:spPr>
      </p:pic>
      <p:pic>
        <p:nvPicPr>
          <p:cNvPr id="272" name="" descr=""/>
          <p:cNvPicPr/>
          <p:nvPr/>
        </p:nvPicPr>
        <p:blipFill>
          <a:blip r:embed="rId3"/>
          <a:stretch/>
        </p:blipFill>
        <p:spPr>
          <a:xfrm>
            <a:off x="5738760" y="4352760"/>
            <a:ext cx="2200320" cy="1771920"/>
          </a:xfrm>
          <a:prstGeom prst="rect">
            <a:avLst/>
          </a:prstGeom>
          <a:ln w="0">
            <a:noFill/>
          </a:ln>
        </p:spPr>
      </p:pic>
    </p:spTree>
  </p:cSld>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22" presetSubtype="2">
                                  <p:stCondLst>
                                    <p:cond delay="0"/>
                                  </p:stCondLst>
                                  <p:childTnLst>
                                    <p:set>
                                      <p:cBhvr>
                                        <p:cTn id="60" dur="1" fill="hold">
                                          <p:stCondLst>
                                            <p:cond delay="0"/>
                                          </p:stCondLst>
                                        </p:cTn>
                                        <p:tgtEl>
                                          <p:spTgt spid="269"/>
                                        </p:tgtEl>
                                        <p:attrNameLst>
                                          <p:attrName>style.visibility</p:attrName>
                                        </p:attrNameLst>
                                      </p:cBhvr>
                                      <p:to>
                                        <p:strVal val="visible"/>
                                      </p:to>
                                    </p:set>
                                    <p:animEffect filter="wipe(right)" transition="in">
                                      <p:cBhvr additive="repl">
                                        <p:cTn id="61" dur="1000"/>
                                        <p:tgtEl>
                                          <p:spTgt spid="269"/>
                                        </p:tgtEl>
                                      </p:cBhvr>
                                    </p:animEffect>
                                  </p:childTnLst>
                                </p:cTn>
                              </p:par>
                            </p:childTnLst>
                          </p:cTn>
                        </p:par>
                        <p:par>
                          <p:cTn id="62" fill="hold">
                            <p:stCondLst>
                              <p:cond delay="1000"/>
                            </p:stCondLst>
                            <p:childTnLst>
                              <p:par>
                                <p:cTn id="63" nodeType="afterEffect" fill="hold" presetClass="entr" presetID="22" presetSubtype="8">
                                  <p:stCondLst>
                                    <p:cond delay="0"/>
                                  </p:stCondLst>
                                  <p:childTnLst>
                                    <p:set>
                                      <p:cBhvr>
                                        <p:cTn id="64" dur="1" fill="hold">
                                          <p:stCondLst>
                                            <p:cond delay="0"/>
                                          </p:stCondLst>
                                        </p:cTn>
                                        <p:tgtEl>
                                          <p:spTgt spid="271"/>
                                        </p:tgtEl>
                                        <p:attrNameLst>
                                          <p:attrName>style.visibility</p:attrName>
                                        </p:attrNameLst>
                                      </p:cBhvr>
                                      <p:to>
                                        <p:strVal val="visible"/>
                                      </p:to>
                                    </p:set>
                                    <p:animEffect filter="wipe(left)" transition="in">
                                      <p:cBhvr additive="repl">
                                        <p:cTn id="65" dur="10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SOAP specification defines an “envelope”</a:t>
            </a:r>
            <a:endParaRPr b="0" lang="en-US" sz="2800" spc="-1" strike="noStrike">
              <a:solidFill>
                <a:srgbClr val="ffffff"/>
              </a:solidFill>
              <a:latin typeface="Arial"/>
            </a:endParaRPr>
          </a:p>
        </p:txBody>
      </p:sp>
      <p:sp>
        <p:nvSpPr>
          <p:cNvPr id="274" name=""/>
          <p:cNvSpPr/>
          <p:nvPr/>
        </p:nvSpPr>
        <p:spPr>
          <a:xfrm>
            <a:off x="4622760" y="3887640"/>
            <a:ext cx="4370400" cy="396360"/>
          </a:xfrm>
          <a:prstGeom prst="rect">
            <a:avLst/>
          </a:prstGeom>
          <a:noFill/>
          <a:ln w="0">
            <a:noFill/>
          </a:ln>
        </p:spPr>
        <p:style>
          <a:lnRef idx="0"/>
          <a:fillRef idx="0"/>
          <a:effectRef idx="0"/>
          <a:fontRef idx="minor"/>
        </p:style>
        <p:txBody>
          <a:bodyPr lIns="0" rIns="0" tIns="0" bIns="0" anchor="t">
            <a:spAutoFit/>
          </a:bodyPr>
          <a:p>
            <a:pPr marL="139680" indent="-139680">
              <a:spcAft>
                <a:spcPts val="488"/>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600" spc="-1" strike="noStrike">
                <a:solidFill>
                  <a:srgbClr val="000000"/>
                </a:solidFill>
                <a:latin typeface="Arial"/>
              </a:rPr>
              <a:t>SOAP envelope vocabulary</a:t>
            </a:r>
            <a:endParaRPr b="0" lang="en-US" sz="2600" spc="-1" strike="noStrike">
              <a:solidFill>
                <a:srgbClr val="ffffff"/>
              </a:solidFill>
              <a:latin typeface="Arial"/>
            </a:endParaRPr>
          </a:p>
        </p:txBody>
      </p:sp>
      <p:sp>
        <p:nvSpPr>
          <p:cNvPr id="275" name=""/>
          <p:cNvSpPr/>
          <p:nvPr/>
        </p:nvSpPr>
        <p:spPr>
          <a:xfrm>
            <a:off x="4464000" y="2517840"/>
            <a:ext cx="4313160" cy="792360"/>
          </a:xfrm>
          <a:prstGeom prst="rect">
            <a:avLst/>
          </a:prstGeom>
          <a:noFill/>
          <a:ln w="0">
            <a:noFill/>
          </a:ln>
        </p:spPr>
        <p:style>
          <a:lnRef idx="0"/>
          <a:fillRef idx="0"/>
          <a:effectRef idx="0"/>
          <a:fontRef idx="minor"/>
        </p:style>
        <p:txBody>
          <a:bodyPr lIns="0" rIns="0" tIns="0" bIns="0" anchor="t">
            <a:spAutoFit/>
          </a:bodyPr>
          <a:p>
            <a:pPr marL="139680" indent="-139680">
              <a:spcAft>
                <a:spcPts val="488"/>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600" spc="-1" strike="noStrike">
                <a:solidFill>
                  <a:srgbClr val="000000"/>
                </a:solidFill>
                <a:latin typeface="Arial"/>
              </a:rPr>
              <a:t>Application-specific message vocabulary</a:t>
            </a:r>
            <a:endParaRPr b="0" lang="en-US" sz="2600" spc="-1" strike="noStrike">
              <a:solidFill>
                <a:srgbClr val="ffffff"/>
              </a:solidFill>
              <a:latin typeface="Arial"/>
            </a:endParaRPr>
          </a:p>
        </p:txBody>
      </p:sp>
      <p:sp>
        <p:nvSpPr>
          <p:cNvPr id="276" name=""/>
          <p:cNvSpPr/>
          <p:nvPr/>
        </p:nvSpPr>
        <p:spPr>
          <a:xfrm flipH="1">
            <a:off x="3614760" y="2716200"/>
            <a:ext cx="79848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77" name=""/>
          <p:cNvGrpSpPr/>
          <p:nvPr/>
        </p:nvGrpSpPr>
        <p:grpSpPr>
          <a:xfrm>
            <a:off x="2815560" y="2071800"/>
            <a:ext cx="768960" cy="1524960"/>
            <a:chOff x="2815560" y="2071800"/>
            <a:chExt cx="768960" cy="1524960"/>
          </a:xfrm>
        </p:grpSpPr>
        <p:pic>
          <p:nvPicPr>
            <p:cNvPr id="278" name="" descr=""/>
            <p:cNvPicPr/>
            <p:nvPr/>
          </p:nvPicPr>
          <p:blipFill>
            <a:blip r:embed="rId1"/>
            <a:stretch/>
          </p:blipFill>
          <p:spPr>
            <a:xfrm>
              <a:off x="2989080" y="2071800"/>
              <a:ext cx="543240" cy="1162080"/>
            </a:xfrm>
            <a:prstGeom prst="rect">
              <a:avLst/>
            </a:prstGeom>
            <a:ln w="0">
              <a:noFill/>
            </a:ln>
          </p:spPr>
        </p:pic>
        <p:sp>
          <p:nvSpPr>
            <p:cNvPr id="279" name=""/>
            <p:cNvSpPr/>
            <p:nvPr/>
          </p:nvSpPr>
          <p:spPr>
            <a:xfrm rot="1857600">
              <a:off x="2862000" y="3080880"/>
              <a:ext cx="676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a:t>
              </a:r>
              <a:endParaRPr b="0" lang="en-US" sz="1800" spc="-1" strike="noStrike">
                <a:solidFill>
                  <a:srgbClr val="ffffff"/>
                </a:solidFill>
                <a:latin typeface="Arial"/>
              </a:endParaRPr>
            </a:p>
          </p:txBody>
        </p:sp>
      </p:grpSp>
      <p:grpSp>
        <p:nvGrpSpPr>
          <p:cNvPr id="280" name=""/>
          <p:cNvGrpSpPr/>
          <p:nvPr/>
        </p:nvGrpSpPr>
        <p:grpSpPr>
          <a:xfrm>
            <a:off x="2671920" y="3252960"/>
            <a:ext cx="1085400" cy="1429920"/>
            <a:chOff x="2671920" y="3252960"/>
            <a:chExt cx="1085400" cy="1429920"/>
          </a:xfrm>
        </p:grpSpPr>
        <p:pic>
          <p:nvPicPr>
            <p:cNvPr id="281" name="" descr=""/>
            <p:cNvPicPr/>
            <p:nvPr/>
          </p:nvPicPr>
          <p:blipFill>
            <a:blip r:embed="rId2"/>
            <a:stretch/>
          </p:blipFill>
          <p:spPr>
            <a:xfrm>
              <a:off x="2769840" y="3252960"/>
              <a:ext cx="987480" cy="1247400"/>
            </a:xfrm>
            <a:prstGeom prst="rect">
              <a:avLst/>
            </a:prstGeom>
            <a:ln w="0">
              <a:noFill/>
            </a:ln>
          </p:spPr>
        </p:pic>
        <p:sp>
          <p:nvSpPr>
            <p:cNvPr id="282" name=""/>
            <p:cNvSpPr/>
            <p:nvPr/>
          </p:nvSpPr>
          <p:spPr>
            <a:xfrm rot="1659600">
              <a:off x="2710800" y="4146120"/>
              <a:ext cx="81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AP</a:t>
              </a:r>
              <a:endParaRPr b="0" lang="en-US" sz="1800" spc="-1" strike="noStrike">
                <a:solidFill>
                  <a:srgbClr val="ffffff"/>
                </a:solidFill>
                <a:latin typeface="Arial"/>
              </a:endParaRPr>
            </a:p>
          </p:txBody>
        </p:sp>
      </p:grpSp>
      <p:sp>
        <p:nvSpPr>
          <p:cNvPr id="283" name=""/>
          <p:cNvSpPr/>
          <p:nvPr/>
        </p:nvSpPr>
        <p:spPr>
          <a:xfrm flipH="1">
            <a:off x="3795840" y="4087800"/>
            <a:ext cx="79848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84" name=""/>
          <p:cNvGrpSpPr/>
          <p:nvPr/>
        </p:nvGrpSpPr>
        <p:grpSpPr>
          <a:xfrm>
            <a:off x="123840" y="2076480"/>
            <a:ext cx="2743200" cy="1733400"/>
            <a:chOff x="123840" y="2076480"/>
            <a:chExt cx="2743200" cy="1733400"/>
          </a:xfrm>
        </p:grpSpPr>
        <p:pic>
          <p:nvPicPr>
            <p:cNvPr id="285" name="" descr=""/>
            <p:cNvPicPr/>
            <p:nvPr/>
          </p:nvPicPr>
          <p:blipFill>
            <a:blip r:embed="rId3"/>
            <a:stretch/>
          </p:blipFill>
          <p:spPr>
            <a:xfrm>
              <a:off x="123840" y="2076480"/>
              <a:ext cx="2743200" cy="1733400"/>
            </a:xfrm>
            <a:prstGeom prst="rect">
              <a:avLst/>
            </a:prstGeom>
            <a:ln w="0">
              <a:noFill/>
            </a:ln>
          </p:spPr>
        </p:pic>
        <p:pic>
          <p:nvPicPr>
            <p:cNvPr id="286" name="" descr=""/>
            <p:cNvPicPr/>
            <p:nvPr/>
          </p:nvPicPr>
          <p:blipFill>
            <a:blip r:embed="rId4"/>
            <a:stretch/>
          </p:blipFill>
          <p:spPr>
            <a:xfrm>
              <a:off x="600120" y="2163960"/>
              <a:ext cx="520560" cy="1188720"/>
            </a:xfrm>
            <a:prstGeom prst="rect">
              <a:avLst/>
            </a:prstGeom>
            <a:ln w="0">
              <a:noFill/>
            </a:ln>
          </p:spPr>
        </p:pic>
      </p:grpSp>
    </p:spTree>
  </p:cSld>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10">
                                  <p:stCondLst>
                                    <p:cond delay="0"/>
                                  </p:stCondLst>
                                  <p:childTnLst>
                                    <p:set>
                                      <p:cBhvr>
                                        <p:cTn id="71" dur="1" fill="hold">
                                          <p:stCondLst>
                                            <p:cond delay="0"/>
                                          </p:stCondLst>
                                        </p:cTn>
                                        <p:tgtEl>
                                          <p:spTgt spid="277"/>
                                        </p:tgtEl>
                                        <p:attrNameLst>
                                          <p:attrName>style.visibility</p:attrName>
                                        </p:attrNameLst>
                                      </p:cBhvr>
                                      <p:to>
                                        <p:strVal val="visible"/>
                                      </p:to>
                                    </p:set>
                                    <p:animEffect filter="fade" transition="in">
                                      <p:cBhvr additive="repl">
                                        <p:cTn id="72" dur="1000"/>
                                        <p:tgtEl>
                                          <p:spTgt spid="277"/>
                                        </p:tgtEl>
                                      </p:cBhvr>
                                    </p:animEffect>
                                  </p:childTnLst>
                                </p:cTn>
                              </p:par>
                              <p:par>
                                <p:cTn id="73" nodeType="withEffect" fill="hold" presetClass="entr" presetID="10">
                                  <p:stCondLst>
                                    <p:cond delay="0"/>
                                  </p:stCondLst>
                                  <p:childTnLst>
                                    <p:set>
                                      <p:cBhvr>
                                        <p:cTn id="74" dur="1" fill="hold">
                                          <p:stCondLst>
                                            <p:cond delay="0"/>
                                          </p:stCondLst>
                                        </p:cTn>
                                        <p:tgtEl>
                                          <p:spTgt spid="280"/>
                                        </p:tgtEl>
                                        <p:attrNameLst>
                                          <p:attrName>style.visibility</p:attrName>
                                        </p:attrNameLst>
                                      </p:cBhvr>
                                      <p:to>
                                        <p:strVal val="visible"/>
                                      </p:to>
                                    </p:set>
                                    <p:animEffect filter="fade" transition="in">
                                      <p:cBhvr additive="repl">
                                        <p:cTn id="75" dur="1000"/>
                                        <p:tgtEl>
                                          <p:spTgt spid="280"/>
                                        </p:tgtEl>
                                      </p:cBhvr>
                                    </p:animEffect>
                                  </p:childTnLst>
                                </p:cTn>
                              </p:par>
                            </p:childTnLst>
                          </p:cTn>
                        </p:par>
                        <p:par>
                          <p:cTn id="76" fill="hold">
                            <p:stCondLst>
                              <p:cond delay="1000"/>
                            </p:stCondLst>
                            <p:childTnLst>
                              <p:par>
                                <p:cTn id="77" nodeType="afterEffect" fill="hold" presetClass="entr" presetID="10">
                                  <p:stCondLst>
                                    <p:cond delay="0"/>
                                  </p:stCondLst>
                                  <p:childTnLst>
                                    <p:set>
                                      <p:cBhvr>
                                        <p:cTn id="78" dur="1" fill="hold">
                                          <p:stCondLst>
                                            <p:cond delay="0"/>
                                          </p:stCondLst>
                                        </p:cTn>
                                        <p:tgtEl>
                                          <p:spTgt spid="275"/>
                                        </p:tgtEl>
                                        <p:attrNameLst>
                                          <p:attrName>style.visibility</p:attrName>
                                        </p:attrNameLst>
                                      </p:cBhvr>
                                      <p:to>
                                        <p:strVal val="visible"/>
                                      </p:to>
                                    </p:set>
                                    <p:animEffect filter="fade" transition="in">
                                      <p:cBhvr additive="repl">
                                        <p:cTn id="79" dur="1000"/>
                                        <p:tgtEl>
                                          <p:spTgt spid="275"/>
                                        </p:tgtEl>
                                      </p:cBhvr>
                                    </p:animEffect>
                                  </p:childTnLst>
                                </p:cTn>
                              </p:par>
                              <p:par>
                                <p:cTn id="80" nodeType="withEffect" fill="hold" presetClass="entr" presetID="10">
                                  <p:stCondLst>
                                    <p:cond delay="0"/>
                                  </p:stCondLst>
                                  <p:childTnLst>
                                    <p:set>
                                      <p:cBhvr>
                                        <p:cTn id="81" dur="1" fill="hold">
                                          <p:stCondLst>
                                            <p:cond delay="0"/>
                                          </p:stCondLst>
                                        </p:cTn>
                                        <p:tgtEl>
                                          <p:spTgt spid="276"/>
                                        </p:tgtEl>
                                        <p:attrNameLst>
                                          <p:attrName>style.visibility</p:attrName>
                                        </p:attrNameLst>
                                      </p:cBhvr>
                                      <p:to>
                                        <p:strVal val="visible"/>
                                      </p:to>
                                    </p:set>
                                    <p:animEffect filter="fade" transition="in">
                                      <p:cBhvr additive="repl">
                                        <p:cTn id="82" dur="1000"/>
                                        <p:tgtEl>
                                          <p:spTgt spid="276"/>
                                        </p:tgtEl>
                                      </p:cBhvr>
                                    </p:animEffect>
                                  </p:childTnLst>
                                </p:cTn>
                              </p:par>
                              <p:par>
                                <p:cTn id="83" nodeType="withEffect" fill="hold" presetClass="entr" presetID="10">
                                  <p:stCondLst>
                                    <p:cond delay="0"/>
                                  </p:stCondLst>
                                  <p:childTnLst>
                                    <p:set>
                                      <p:cBhvr>
                                        <p:cTn id="84" dur="1" fill="hold">
                                          <p:stCondLst>
                                            <p:cond delay="0"/>
                                          </p:stCondLst>
                                        </p:cTn>
                                        <p:tgtEl>
                                          <p:spTgt spid="283"/>
                                        </p:tgtEl>
                                        <p:attrNameLst>
                                          <p:attrName>style.visibility</p:attrName>
                                        </p:attrNameLst>
                                      </p:cBhvr>
                                      <p:to>
                                        <p:strVal val="visible"/>
                                      </p:to>
                                    </p:set>
                                    <p:animEffect filter="fade" transition="in">
                                      <p:cBhvr additive="repl">
                                        <p:cTn id="85" dur="1000"/>
                                        <p:tgtEl>
                                          <p:spTgt spid="283"/>
                                        </p:tgtEl>
                                      </p:cBhvr>
                                    </p:animEffect>
                                  </p:childTnLst>
                                </p:cTn>
                              </p:par>
                              <p:par>
                                <p:cTn id="86" nodeType="withEffect" fill="hold" presetClass="entr" presetID="10">
                                  <p:stCondLst>
                                    <p:cond delay="0"/>
                                  </p:stCondLst>
                                  <p:childTnLst>
                                    <p:set>
                                      <p:cBhvr>
                                        <p:cTn id="87" dur="1" fill="hold">
                                          <p:stCondLst>
                                            <p:cond delay="0"/>
                                          </p:stCondLst>
                                        </p:cTn>
                                        <p:tgtEl>
                                          <p:spTgt spid="274"/>
                                        </p:tgtEl>
                                        <p:attrNameLst>
                                          <p:attrName>style.visibility</p:attrName>
                                        </p:attrNameLst>
                                      </p:cBhvr>
                                      <p:to>
                                        <p:strVal val="visible"/>
                                      </p:to>
                                    </p:set>
                                    <p:animEffect filter="fade" transition="in">
                                      <p:cBhvr additive="repl">
                                        <p:cTn id="88" dur="10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 descr=""/>
          <p:cNvPicPr/>
          <p:nvPr/>
        </p:nvPicPr>
        <p:blipFill>
          <a:blip r:embed="rId1"/>
          <a:stretch/>
        </p:blipFill>
        <p:spPr>
          <a:xfrm rot="1908000">
            <a:off x="2804760" y="2719440"/>
            <a:ext cx="5553000" cy="1428840"/>
          </a:xfrm>
          <a:prstGeom prst="rect">
            <a:avLst/>
          </a:prstGeom>
          <a:ln w="0">
            <a:noFill/>
          </a:ln>
        </p:spPr>
      </p:pic>
      <p:sp>
        <p:nvSpPr>
          <p:cNvPr id="288" name=""/>
          <p:cNvSpPr/>
          <p:nvPr/>
        </p:nvSpPr>
        <p:spPr>
          <a:xfrm>
            <a:off x="314280" y="1158840"/>
            <a:ext cx="657216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996633"/>
                </a:solidFill>
                <a:latin typeface="Arial"/>
              </a:rPr>
              <a:t>U</a:t>
            </a:r>
            <a:r>
              <a:rPr b="0" lang="en-US" sz="2600" spc="-1" strike="noStrike">
                <a:solidFill>
                  <a:srgbClr val="000000"/>
                </a:solidFill>
                <a:latin typeface="Arial"/>
              </a:rPr>
              <a:t>niversal </a:t>
            </a: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996633"/>
                </a:solidFill>
                <a:latin typeface="Arial"/>
              </a:rPr>
              <a:t>D</a:t>
            </a:r>
            <a:r>
              <a:rPr b="0" lang="en-US" sz="2600" spc="-1" strike="noStrike">
                <a:solidFill>
                  <a:srgbClr val="000000"/>
                </a:solidFill>
                <a:latin typeface="Arial"/>
              </a:rPr>
              <a:t>escription, </a:t>
            </a: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996633"/>
                </a:solidFill>
                <a:latin typeface="Arial"/>
              </a:rPr>
              <a:t>D</a:t>
            </a:r>
            <a:r>
              <a:rPr b="0" lang="en-US" sz="2600" spc="-1" strike="noStrike">
                <a:solidFill>
                  <a:srgbClr val="000000"/>
                </a:solidFill>
                <a:latin typeface="Arial"/>
              </a:rPr>
              <a:t>iscovery, and</a:t>
            </a:r>
            <a:r>
              <a:rPr b="0" lang="en-US" sz="2600" spc="-1" strike="noStrike">
                <a:solidFill>
                  <a:srgbClr val="ffffff"/>
                </a:solidFill>
                <a:latin typeface="Arial"/>
              </a:rPr>
              <a:t> </a:t>
            </a: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996633"/>
                </a:solidFill>
                <a:latin typeface="Arial"/>
              </a:rPr>
              <a:t>I</a:t>
            </a:r>
            <a:r>
              <a:rPr b="0" lang="en-US" sz="2600" spc="-1" strike="noStrike">
                <a:solidFill>
                  <a:srgbClr val="000000"/>
                </a:solidFill>
                <a:latin typeface="Arial"/>
              </a:rPr>
              <a:t>ntegration</a:t>
            </a: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600" spc="-1" strike="noStrike">
                <a:solidFill>
                  <a:srgbClr val="000000"/>
                </a:solidFill>
                <a:latin typeface="Arial"/>
              </a:rPr>
              <a:t>Standards-based specifications for registry and discovery</a:t>
            </a:r>
            <a:endParaRPr b="0" lang="en-US" sz="2600" spc="-1" strike="noStrike">
              <a:solidFill>
                <a:srgbClr val="ffffff"/>
              </a:solidFill>
              <a:latin typeface="Arial"/>
            </a:endParaRPr>
          </a:p>
        </p:txBody>
      </p:sp>
      <p:pic>
        <p:nvPicPr>
          <p:cNvPr id="289" name="" descr=""/>
          <p:cNvPicPr/>
          <p:nvPr/>
        </p:nvPicPr>
        <p:blipFill>
          <a:blip r:embed="rId2"/>
          <a:stretch/>
        </p:blipFill>
        <p:spPr>
          <a:xfrm>
            <a:off x="6705720" y="3733920"/>
            <a:ext cx="1560240" cy="1847880"/>
          </a:xfrm>
          <a:prstGeom prst="rect">
            <a:avLst/>
          </a:prstGeom>
          <a:ln w="0">
            <a:noFill/>
          </a:ln>
        </p:spPr>
      </p:pic>
      <p:pic>
        <p:nvPicPr>
          <p:cNvPr id="290" name="" descr=""/>
          <p:cNvPicPr/>
          <p:nvPr/>
        </p:nvPicPr>
        <p:blipFill>
          <a:blip r:embed="rId3"/>
          <a:stretch/>
        </p:blipFill>
        <p:spPr>
          <a:xfrm>
            <a:off x="2914560" y="1309680"/>
            <a:ext cx="835200" cy="1604880"/>
          </a:xfrm>
          <a:prstGeom prst="rect">
            <a:avLst/>
          </a:prstGeom>
          <a:ln w="0">
            <a:noFill/>
          </a:ln>
        </p:spPr>
      </p:pic>
      <p:sp>
        <p:nvSpPr>
          <p:cNvPr id="291" name="PlaceHolder 1"/>
          <p:cNvSpPr>
            <a:spLocks noGrp="1"/>
          </p:cNvSpPr>
          <p:nvPr>
            <p:ph type="title"/>
          </p:nvPr>
        </p:nvSpPr>
        <p:spPr>
          <a:xfrm>
            <a:off x="154080" y="533160"/>
            <a:ext cx="8989920" cy="4251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DDI Servers can be used to locate available Web services</a:t>
            </a:r>
            <a:endParaRPr b="0" lang="en-US" sz="2400" spc="-1" strike="noStrike">
              <a:solidFill>
                <a:srgbClr val="7889fb"/>
              </a:solidFill>
              <a:latin typeface="Arial"/>
            </a:endParaRPr>
          </a:p>
        </p:txBody>
      </p:sp>
      <p:sp>
        <p:nvSpPr>
          <p:cNvPr id="292" name=""/>
          <p:cNvSpPr/>
          <p:nvPr/>
        </p:nvSpPr>
        <p:spPr>
          <a:xfrm>
            <a:off x="6095880" y="5715000"/>
            <a:ext cx="2705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DDI Server</a:t>
            </a:r>
            <a:endParaRPr b="0" lang="en-US" sz="2400" spc="-1" strike="noStrike">
              <a:solidFill>
                <a:srgbClr val="ffffff"/>
              </a:solidFill>
              <a:latin typeface="Arial"/>
            </a:endParaRPr>
          </a:p>
        </p:txBody>
      </p:sp>
    </p:spTree>
  </p:cSld>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0">
                                  <p:stCondLst>
                                    <p:cond delay="0"/>
                                  </p:stCondLst>
                                  <p:childTnLst>
                                    <p:set>
                                      <p:cBhvr>
                                        <p:cTn id="94" dur="1" fill="hold">
                                          <p:stCondLst>
                                            <p:cond delay="0"/>
                                          </p:stCondLst>
                                        </p:cTn>
                                        <p:tgtEl>
                                          <p:spTgt spid="288"/>
                                        </p:tgtEl>
                                        <p:attrNameLst>
                                          <p:attrName>style.visibility</p:attrName>
                                        </p:attrNameLst>
                                      </p:cBhvr>
                                      <p:to>
                                        <p:strVal val="visible"/>
                                      </p:to>
                                    </p:set>
                                    <p:animEffect filter="fade" transition="in">
                                      <p:cBhvr additive="repl">
                                        <p:cTn id="95" dur="1000"/>
                                        <p:tgtEl>
                                          <p:spTgt spid="288"/>
                                        </p:tgtEl>
                                      </p:cBhvr>
                                    </p:animEffect>
                                  </p:childTnLst>
                                </p:cTn>
                              </p:par>
                            </p:childTnLst>
                          </p:cTn>
                        </p:par>
                        <p:par>
                          <p:cTn id="96" fill="hold">
                            <p:stCondLst>
                              <p:cond delay="1000"/>
                            </p:stCondLst>
                            <p:childTnLst>
                              <p:par>
                                <p:cTn id="97" nodeType="afterEffect" fill="hold" presetClass="entr" presetID="10">
                                  <p:stCondLst>
                                    <p:cond delay="0"/>
                                  </p:stCondLst>
                                  <p:childTnLst>
                                    <p:set>
                                      <p:cBhvr>
                                        <p:cTn id="98" dur="1" fill="hold">
                                          <p:stCondLst>
                                            <p:cond delay="0"/>
                                          </p:stCondLst>
                                        </p:cTn>
                                        <p:tgtEl>
                                          <p:spTgt spid="287"/>
                                        </p:tgtEl>
                                        <p:attrNameLst>
                                          <p:attrName>style.visibility</p:attrName>
                                        </p:attrNameLst>
                                      </p:cBhvr>
                                      <p:to>
                                        <p:strVal val="visible"/>
                                      </p:to>
                                    </p:set>
                                    <p:animEffect filter="fade" transition="in">
                                      <p:cBhvr additive="repl">
                                        <p:cTn id="99" dur="1000"/>
                                        <p:tgtEl>
                                          <p:spTgt spid="287"/>
                                        </p:tgtEl>
                                      </p:cBhvr>
                                    </p:animEffect>
                                  </p:childTnLst>
                                </p:cTn>
                              </p:par>
                              <p:par>
                                <p:cTn id="100" nodeType="withEffect" fill="hold" presetClass="entr" presetID="10">
                                  <p:stCondLst>
                                    <p:cond delay="0"/>
                                  </p:stCondLst>
                                  <p:childTnLst>
                                    <p:set>
                                      <p:cBhvr>
                                        <p:cTn id="101" dur="1" fill="hold">
                                          <p:stCondLst>
                                            <p:cond delay="0"/>
                                          </p:stCondLst>
                                        </p:cTn>
                                        <p:tgtEl>
                                          <p:spTgt spid="290"/>
                                        </p:tgtEl>
                                        <p:attrNameLst>
                                          <p:attrName>style.visibility</p:attrName>
                                        </p:attrNameLst>
                                      </p:cBhvr>
                                      <p:to>
                                        <p:strVal val="visible"/>
                                      </p:to>
                                    </p:set>
                                    <p:animEffect filter="fade" transition="in">
                                      <p:cBhvr additive="repl">
                                        <p:cTn id="102" dur="10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 descr=""/>
          <p:cNvPicPr/>
          <p:nvPr/>
        </p:nvPicPr>
        <p:blipFill>
          <a:blip r:embed="rId1"/>
          <a:stretch/>
        </p:blipFill>
        <p:spPr>
          <a:xfrm>
            <a:off x="3848040" y="2502000"/>
            <a:ext cx="5143680" cy="3308400"/>
          </a:xfrm>
          <a:prstGeom prst="rect">
            <a:avLst/>
          </a:prstGeom>
          <a:ln w="0">
            <a:noFill/>
          </a:ln>
        </p:spPr>
      </p:pic>
      <p:pic>
        <p:nvPicPr>
          <p:cNvPr id="294" name="" descr=""/>
          <p:cNvPicPr/>
          <p:nvPr/>
        </p:nvPicPr>
        <p:blipFill>
          <a:blip r:embed="rId2"/>
          <a:stretch/>
        </p:blipFill>
        <p:spPr>
          <a:xfrm>
            <a:off x="495360" y="1162080"/>
            <a:ext cx="3114720" cy="2638440"/>
          </a:xfrm>
          <a:prstGeom prst="rect">
            <a:avLst/>
          </a:prstGeom>
          <a:ln w="0">
            <a:noFill/>
          </a:ln>
        </p:spPr>
      </p:pic>
      <p:sp>
        <p:nvSpPr>
          <p:cNvPr id="295"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Web Services Specifications</a:t>
            </a:r>
            <a:endParaRPr b="0" lang="en-US" sz="2800" spc="-1" strike="noStrike">
              <a:solidFill>
                <a:srgbClr val="ffffff"/>
              </a:solidFill>
              <a:latin typeface="Arial"/>
            </a:endParaRPr>
          </a:p>
        </p:txBody>
      </p:sp>
      <p:pic>
        <p:nvPicPr>
          <p:cNvPr id="296" name="" descr=""/>
          <p:cNvPicPr/>
          <p:nvPr/>
        </p:nvPicPr>
        <p:blipFill>
          <a:blip r:embed="rId3"/>
          <a:stretch/>
        </p:blipFill>
        <p:spPr>
          <a:xfrm>
            <a:off x="457200" y="1209600"/>
            <a:ext cx="2962440" cy="712800"/>
          </a:xfrm>
          <a:prstGeom prst="rect">
            <a:avLst/>
          </a:prstGeom>
          <a:ln w="0">
            <a:noFill/>
          </a:ln>
        </p:spPr>
      </p:pic>
      <p:pic>
        <p:nvPicPr>
          <p:cNvPr id="297" name="" descr=""/>
          <p:cNvPicPr/>
          <p:nvPr/>
        </p:nvPicPr>
        <p:blipFill>
          <a:blip r:embed="rId4"/>
          <a:stretch/>
        </p:blipFill>
        <p:spPr>
          <a:xfrm>
            <a:off x="457200" y="1833480"/>
            <a:ext cx="2943360" cy="712800"/>
          </a:xfrm>
          <a:prstGeom prst="rect">
            <a:avLst/>
          </a:prstGeom>
          <a:ln w="0">
            <a:noFill/>
          </a:ln>
        </p:spPr>
      </p:pic>
      <p:pic>
        <p:nvPicPr>
          <p:cNvPr id="298" name="" descr=""/>
          <p:cNvPicPr/>
          <p:nvPr/>
        </p:nvPicPr>
        <p:blipFill>
          <a:blip r:embed="rId5"/>
          <a:stretch/>
        </p:blipFill>
        <p:spPr>
          <a:xfrm>
            <a:off x="457200" y="2455920"/>
            <a:ext cx="2895480" cy="712800"/>
          </a:xfrm>
          <a:prstGeom prst="rect">
            <a:avLst/>
          </a:prstGeom>
          <a:ln w="0">
            <a:noFill/>
          </a:ln>
        </p:spPr>
      </p:pic>
      <p:pic>
        <p:nvPicPr>
          <p:cNvPr id="299" name="" descr=""/>
          <p:cNvPicPr/>
          <p:nvPr/>
        </p:nvPicPr>
        <p:blipFill>
          <a:blip r:embed="rId6"/>
          <a:stretch/>
        </p:blipFill>
        <p:spPr>
          <a:xfrm>
            <a:off x="457200" y="3078000"/>
            <a:ext cx="2867040" cy="712800"/>
          </a:xfrm>
          <a:prstGeom prst="rect">
            <a:avLst/>
          </a:prstGeom>
          <a:ln w="0">
            <a:noFill/>
          </a:ln>
        </p:spPr>
      </p:pic>
      <p:pic>
        <p:nvPicPr>
          <p:cNvPr id="300" name="" descr=""/>
          <p:cNvPicPr/>
          <p:nvPr/>
        </p:nvPicPr>
        <p:blipFill>
          <a:blip r:embed="rId7"/>
          <a:stretch/>
        </p:blipFill>
        <p:spPr>
          <a:xfrm>
            <a:off x="3648240" y="2557440"/>
            <a:ext cx="3476520" cy="712800"/>
          </a:xfrm>
          <a:prstGeom prst="rect">
            <a:avLst/>
          </a:prstGeom>
          <a:ln w="0">
            <a:noFill/>
          </a:ln>
        </p:spPr>
      </p:pic>
      <p:pic>
        <p:nvPicPr>
          <p:cNvPr id="301" name="" descr=""/>
          <p:cNvPicPr/>
          <p:nvPr/>
        </p:nvPicPr>
        <p:blipFill>
          <a:blip r:embed="rId8"/>
          <a:stretch/>
        </p:blipFill>
        <p:spPr>
          <a:xfrm>
            <a:off x="3648240" y="3813120"/>
            <a:ext cx="4333680" cy="712800"/>
          </a:xfrm>
          <a:prstGeom prst="rect">
            <a:avLst/>
          </a:prstGeom>
          <a:ln w="0">
            <a:noFill/>
          </a:ln>
        </p:spPr>
      </p:pic>
      <p:pic>
        <p:nvPicPr>
          <p:cNvPr id="302" name="" descr=""/>
          <p:cNvPicPr/>
          <p:nvPr/>
        </p:nvPicPr>
        <p:blipFill>
          <a:blip r:embed="rId9"/>
          <a:stretch/>
        </p:blipFill>
        <p:spPr>
          <a:xfrm>
            <a:off x="3648240" y="4440240"/>
            <a:ext cx="3238200" cy="712800"/>
          </a:xfrm>
          <a:prstGeom prst="rect">
            <a:avLst/>
          </a:prstGeom>
          <a:ln w="0">
            <a:noFill/>
          </a:ln>
        </p:spPr>
      </p:pic>
      <p:pic>
        <p:nvPicPr>
          <p:cNvPr id="303" name="" descr=""/>
          <p:cNvPicPr/>
          <p:nvPr/>
        </p:nvPicPr>
        <p:blipFill>
          <a:blip r:embed="rId10"/>
          <a:stretch/>
        </p:blipFill>
        <p:spPr>
          <a:xfrm>
            <a:off x="3648240" y="5067360"/>
            <a:ext cx="4760640" cy="712800"/>
          </a:xfrm>
          <a:prstGeom prst="rect">
            <a:avLst/>
          </a:prstGeom>
          <a:ln w="0">
            <a:noFill/>
          </a:ln>
        </p:spPr>
      </p:pic>
      <p:pic>
        <p:nvPicPr>
          <p:cNvPr id="304" name="" descr=""/>
          <p:cNvPicPr/>
          <p:nvPr/>
        </p:nvPicPr>
        <p:blipFill>
          <a:blip r:embed="rId11"/>
          <a:stretch/>
        </p:blipFill>
        <p:spPr>
          <a:xfrm>
            <a:off x="3638520" y="3181320"/>
            <a:ext cx="3753000" cy="704880"/>
          </a:xfrm>
          <a:prstGeom prst="rect">
            <a:avLst/>
          </a:prstGeom>
          <a:ln w="0">
            <a:noFill/>
          </a:ln>
        </p:spPr>
      </p:pic>
    </p:spTree>
  </p:cSld>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22" presetSubtype="8">
                                  <p:stCondLst>
                                    <p:cond delay="0"/>
                                  </p:stCondLst>
                                  <p:childTnLst>
                                    <p:set>
                                      <p:cBhvr>
                                        <p:cTn id="108" dur="1" fill="hold">
                                          <p:stCondLst>
                                            <p:cond delay="0"/>
                                          </p:stCondLst>
                                        </p:cTn>
                                        <p:tgtEl>
                                          <p:spTgt spid="296"/>
                                        </p:tgtEl>
                                        <p:attrNameLst>
                                          <p:attrName>style.visibility</p:attrName>
                                        </p:attrNameLst>
                                      </p:cBhvr>
                                      <p:to>
                                        <p:strVal val="visible"/>
                                      </p:to>
                                    </p:set>
                                    <p:animEffect filter="wipe(left)" transition="in">
                                      <p:cBhvr additive="repl">
                                        <p:cTn id="109" dur="1000"/>
                                        <p:tgtEl>
                                          <p:spTgt spid="296"/>
                                        </p:tgtEl>
                                      </p:cBhvr>
                                    </p:animEffect>
                                  </p:childTnLst>
                                </p:cTn>
                              </p:par>
                              <p:par>
                                <p:cTn id="110" nodeType="withEffect" fill="hold" presetClass="entr" presetID="22" presetSubtype="8">
                                  <p:stCondLst>
                                    <p:cond delay="0"/>
                                  </p:stCondLst>
                                  <p:childTnLst>
                                    <p:set>
                                      <p:cBhvr>
                                        <p:cTn id="111" dur="1" fill="hold">
                                          <p:stCondLst>
                                            <p:cond delay="0"/>
                                          </p:stCondLst>
                                        </p:cTn>
                                        <p:tgtEl>
                                          <p:spTgt spid="297"/>
                                        </p:tgtEl>
                                        <p:attrNameLst>
                                          <p:attrName>style.visibility</p:attrName>
                                        </p:attrNameLst>
                                      </p:cBhvr>
                                      <p:to>
                                        <p:strVal val="visible"/>
                                      </p:to>
                                    </p:set>
                                    <p:animEffect filter="wipe(left)" transition="in">
                                      <p:cBhvr additive="repl">
                                        <p:cTn id="112" dur="1000"/>
                                        <p:tgtEl>
                                          <p:spTgt spid="297"/>
                                        </p:tgtEl>
                                      </p:cBhvr>
                                    </p:animEffect>
                                  </p:childTnLst>
                                </p:cTn>
                              </p:par>
                              <p:par>
                                <p:cTn id="113" nodeType="withEffect" fill="hold" presetClass="entr" presetID="22" presetSubtype="8">
                                  <p:stCondLst>
                                    <p:cond delay="0"/>
                                  </p:stCondLst>
                                  <p:childTnLst>
                                    <p:set>
                                      <p:cBhvr>
                                        <p:cTn id="114" dur="1" fill="hold">
                                          <p:stCondLst>
                                            <p:cond delay="0"/>
                                          </p:stCondLst>
                                        </p:cTn>
                                        <p:tgtEl>
                                          <p:spTgt spid="298"/>
                                        </p:tgtEl>
                                        <p:attrNameLst>
                                          <p:attrName>style.visibility</p:attrName>
                                        </p:attrNameLst>
                                      </p:cBhvr>
                                      <p:to>
                                        <p:strVal val="visible"/>
                                      </p:to>
                                    </p:set>
                                    <p:animEffect filter="wipe(left)" transition="in">
                                      <p:cBhvr additive="repl">
                                        <p:cTn id="115" dur="1000"/>
                                        <p:tgtEl>
                                          <p:spTgt spid="298"/>
                                        </p:tgtEl>
                                      </p:cBhvr>
                                    </p:animEffect>
                                  </p:childTnLst>
                                </p:cTn>
                              </p:par>
                              <p:par>
                                <p:cTn id="116" nodeType="withEffect" fill="hold" presetClass="entr" presetID="22" presetSubtype="8">
                                  <p:stCondLst>
                                    <p:cond delay="0"/>
                                  </p:stCondLst>
                                  <p:childTnLst>
                                    <p:set>
                                      <p:cBhvr>
                                        <p:cTn id="117" dur="1" fill="hold">
                                          <p:stCondLst>
                                            <p:cond delay="0"/>
                                          </p:stCondLst>
                                        </p:cTn>
                                        <p:tgtEl>
                                          <p:spTgt spid="299"/>
                                        </p:tgtEl>
                                        <p:attrNameLst>
                                          <p:attrName>style.visibility</p:attrName>
                                        </p:attrNameLst>
                                      </p:cBhvr>
                                      <p:to>
                                        <p:strVal val="visible"/>
                                      </p:to>
                                    </p:set>
                                    <p:animEffect filter="wipe(left)" transition="in">
                                      <p:cBhvr additive="repl">
                                        <p:cTn id="118" dur="1000"/>
                                        <p:tgtEl>
                                          <p:spTgt spid="299"/>
                                        </p:tgtEl>
                                      </p:cBhvr>
                                    </p:animEffect>
                                  </p:childTnLst>
                                </p:cTn>
                              </p:par>
                            </p:childTnLst>
                          </p:cTn>
                        </p:par>
                        <p:par>
                          <p:cTn id="119" fill="hold">
                            <p:stCondLst>
                              <p:cond delay="1000"/>
                            </p:stCondLst>
                            <p:childTnLst>
                              <p:par>
                                <p:cTn id="120" nodeType="afterEffect" fill="hold" presetClass="entr" presetID="10">
                                  <p:stCondLst>
                                    <p:cond delay="0"/>
                                  </p:stCondLst>
                                  <p:childTnLst>
                                    <p:set>
                                      <p:cBhvr>
                                        <p:cTn id="121" dur="1" fill="hold">
                                          <p:stCondLst>
                                            <p:cond delay="0"/>
                                          </p:stCondLst>
                                        </p:cTn>
                                        <p:tgtEl>
                                          <p:spTgt spid="294"/>
                                        </p:tgtEl>
                                        <p:attrNameLst>
                                          <p:attrName>style.visibility</p:attrName>
                                        </p:attrNameLst>
                                      </p:cBhvr>
                                      <p:to>
                                        <p:strVal val="visible"/>
                                      </p:to>
                                    </p:set>
                                    <p:animEffect filter="fade" transition="in">
                                      <p:cBhvr additive="repl">
                                        <p:cTn id="122" dur="1000"/>
                                        <p:tgtEl>
                                          <p:spTgt spid="294"/>
                                        </p:tgtEl>
                                      </p:cBhvr>
                                    </p:animEffect>
                                  </p:childTnLst>
                                </p:cTn>
                              </p:par>
                            </p:childTnLst>
                          </p:cTn>
                        </p:par>
                        <p:par>
                          <p:cTn id="123" fill="hold">
                            <p:stCondLst>
                              <p:cond delay="2000"/>
                            </p:stCondLst>
                            <p:childTnLst>
                              <p:par>
                                <p:cTn id="124" nodeType="afterEffect" fill="hold" presetClass="entr" presetID="22" presetSubtype="8">
                                  <p:stCondLst>
                                    <p:cond delay="0"/>
                                  </p:stCondLst>
                                  <p:childTnLst>
                                    <p:set>
                                      <p:cBhvr>
                                        <p:cTn id="125" dur="1" fill="hold">
                                          <p:stCondLst>
                                            <p:cond delay="0"/>
                                          </p:stCondLst>
                                        </p:cTn>
                                        <p:tgtEl>
                                          <p:spTgt spid="300"/>
                                        </p:tgtEl>
                                        <p:attrNameLst>
                                          <p:attrName>style.visibility</p:attrName>
                                        </p:attrNameLst>
                                      </p:cBhvr>
                                      <p:to>
                                        <p:strVal val="visible"/>
                                      </p:to>
                                    </p:set>
                                    <p:animEffect filter="wipe(left)" transition="in">
                                      <p:cBhvr additive="repl">
                                        <p:cTn id="126" dur="1000"/>
                                        <p:tgtEl>
                                          <p:spTgt spid="300"/>
                                        </p:tgtEl>
                                      </p:cBhvr>
                                    </p:animEffect>
                                  </p:childTnLst>
                                </p:cTn>
                              </p:par>
                              <p:par>
                                <p:cTn id="127" nodeType="withEffect" fill="hold" presetClass="entr" presetID="22" presetSubtype="8">
                                  <p:stCondLst>
                                    <p:cond delay="0"/>
                                  </p:stCondLst>
                                  <p:childTnLst>
                                    <p:set>
                                      <p:cBhvr>
                                        <p:cTn id="128" dur="1" fill="hold">
                                          <p:stCondLst>
                                            <p:cond delay="0"/>
                                          </p:stCondLst>
                                        </p:cTn>
                                        <p:tgtEl>
                                          <p:spTgt spid="304"/>
                                        </p:tgtEl>
                                        <p:attrNameLst>
                                          <p:attrName>style.visibility</p:attrName>
                                        </p:attrNameLst>
                                      </p:cBhvr>
                                      <p:to>
                                        <p:strVal val="visible"/>
                                      </p:to>
                                    </p:set>
                                    <p:animEffect filter="wipe(left)" transition="in">
                                      <p:cBhvr additive="repl">
                                        <p:cTn id="129" dur="1000"/>
                                        <p:tgtEl>
                                          <p:spTgt spid="304"/>
                                        </p:tgtEl>
                                      </p:cBhvr>
                                    </p:animEffect>
                                  </p:childTnLst>
                                </p:cTn>
                              </p:par>
                              <p:par>
                                <p:cTn id="130" nodeType="withEffect" fill="hold" presetClass="entr" presetID="22" presetSubtype="8">
                                  <p:stCondLst>
                                    <p:cond delay="0"/>
                                  </p:stCondLst>
                                  <p:childTnLst>
                                    <p:set>
                                      <p:cBhvr>
                                        <p:cTn id="131" dur="1" fill="hold">
                                          <p:stCondLst>
                                            <p:cond delay="0"/>
                                          </p:stCondLst>
                                        </p:cTn>
                                        <p:tgtEl>
                                          <p:spTgt spid="301"/>
                                        </p:tgtEl>
                                        <p:attrNameLst>
                                          <p:attrName>style.visibility</p:attrName>
                                        </p:attrNameLst>
                                      </p:cBhvr>
                                      <p:to>
                                        <p:strVal val="visible"/>
                                      </p:to>
                                    </p:set>
                                    <p:animEffect filter="wipe(left)" transition="in">
                                      <p:cBhvr additive="repl">
                                        <p:cTn id="132" dur="1000"/>
                                        <p:tgtEl>
                                          <p:spTgt spid="301"/>
                                        </p:tgtEl>
                                      </p:cBhvr>
                                    </p:animEffect>
                                  </p:childTnLst>
                                </p:cTn>
                              </p:par>
                              <p:par>
                                <p:cTn id="133" nodeType="withEffect" fill="hold" presetClass="entr" presetID="22" presetSubtype="8">
                                  <p:stCondLst>
                                    <p:cond delay="0"/>
                                  </p:stCondLst>
                                  <p:childTnLst>
                                    <p:set>
                                      <p:cBhvr>
                                        <p:cTn id="134" dur="1" fill="hold">
                                          <p:stCondLst>
                                            <p:cond delay="0"/>
                                          </p:stCondLst>
                                        </p:cTn>
                                        <p:tgtEl>
                                          <p:spTgt spid="302"/>
                                        </p:tgtEl>
                                        <p:attrNameLst>
                                          <p:attrName>style.visibility</p:attrName>
                                        </p:attrNameLst>
                                      </p:cBhvr>
                                      <p:to>
                                        <p:strVal val="visible"/>
                                      </p:to>
                                    </p:set>
                                    <p:animEffect filter="wipe(left)" transition="in">
                                      <p:cBhvr additive="repl">
                                        <p:cTn id="135" dur="1000"/>
                                        <p:tgtEl>
                                          <p:spTgt spid="302"/>
                                        </p:tgtEl>
                                      </p:cBhvr>
                                    </p:animEffect>
                                  </p:childTnLst>
                                </p:cTn>
                              </p:par>
                              <p:par>
                                <p:cTn id="136" nodeType="withEffect" fill="hold" presetClass="entr" presetID="22" presetSubtype="8">
                                  <p:stCondLst>
                                    <p:cond delay="0"/>
                                  </p:stCondLst>
                                  <p:childTnLst>
                                    <p:set>
                                      <p:cBhvr>
                                        <p:cTn id="137" dur="1" fill="hold">
                                          <p:stCondLst>
                                            <p:cond delay="0"/>
                                          </p:stCondLst>
                                        </p:cTn>
                                        <p:tgtEl>
                                          <p:spTgt spid="303"/>
                                        </p:tgtEl>
                                        <p:attrNameLst>
                                          <p:attrName>style.visibility</p:attrName>
                                        </p:attrNameLst>
                                      </p:cBhvr>
                                      <p:to>
                                        <p:strVal val="visible"/>
                                      </p:to>
                                    </p:set>
                                    <p:animEffect filter="wipe(left)" transition="in">
                                      <p:cBhvr additive="repl">
                                        <p:cTn id="138" dur="1000"/>
                                        <p:tgtEl>
                                          <p:spTgt spid="303"/>
                                        </p:tgtEl>
                                      </p:cBhvr>
                                    </p:animEffect>
                                  </p:childTnLst>
                                </p:cTn>
                              </p:par>
                            </p:childTnLst>
                          </p:cTn>
                        </p:par>
                        <p:par>
                          <p:cTn id="139" fill="hold">
                            <p:stCondLst>
                              <p:cond delay="3000"/>
                            </p:stCondLst>
                            <p:childTnLst>
                              <p:par>
                                <p:cTn id="140" nodeType="afterEffect" fill="hold" presetClass="entr" presetID="10">
                                  <p:stCondLst>
                                    <p:cond delay="0"/>
                                  </p:stCondLst>
                                  <p:childTnLst>
                                    <p:set>
                                      <p:cBhvr>
                                        <p:cTn id="141" dur="1" fill="hold">
                                          <p:stCondLst>
                                            <p:cond delay="0"/>
                                          </p:stCondLst>
                                        </p:cTn>
                                        <p:tgtEl>
                                          <p:spTgt spid="293"/>
                                        </p:tgtEl>
                                        <p:attrNameLst>
                                          <p:attrName>style.visibility</p:attrName>
                                        </p:attrNameLst>
                                      </p:cBhvr>
                                      <p:to>
                                        <p:strVal val="visible"/>
                                      </p:to>
                                    </p:set>
                                    <p:animEffect filter="fade" transition="in">
                                      <p:cBhvr additive="repl">
                                        <p:cTn id="142" dur="10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tandards</a:t>
            </a:r>
            <a:endParaRPr b="0" lang="en-US" sz="2800" spc="-1" strike="noStrike">
              <a:solidFill>
                <a:srgbClr val="7889fb"/>
              </a:solidFill>
              <a:latin typeface="Arial"/>
            </a:endParaRPr>
          </a:p>
        </p:txBody>
      </p:sp>
      <p:pic>
        <p:nvPicPr>
          <p:cNvPr id="306" name="" descr=""/>
          <p:cNvPicPr/>
          <p:nvPr/>
        </p:nvPicPr>
        <p:blipFill>
          <a:blip r:embed="rId1"/>
          <a:stretch/>
        </p:blipFill>
        <p:spPr>
          <a:xfrm>
            <a:off x="1112760" y="1776240"/>
            <a:ext cx="7348680" cy="3902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2187720" y="2933640"/>
            <a:ext cx="1538280" cy="1589040"/>
          </a:xfrm>
          <a:custGeom>
            <a:avLst/>
            <a:gdLst>
              <a:gd name="textAreaLeft" fmla="*/ 0 w 1538280"/>
              <a:gd name="textAreaRight" fmla="*/ 1538640 w 1538280"/>
              <a:gd name="textAreaTop" fmla="*/ 0 h 1589040"/>
              <a:gd name="textAreaBottom" fmla="*/ 1589400 h 15890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08" name=""/>
          <p:cNvSpPr/>
          <p:nvPr/>
        </p:nvSpPr>
        <p:spPr>
          <a:xfrm>
            <a:off x="2187720" y="5527800"/>
            <a:ext cx="3944880" cy="37944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09" name=""/>
          <p:cNvSpPr/>
          <p:nvPr/>
        </p:nvSpPr>
        <p:spPr>
          <a:xfrm>
            <a:off x="2187720" y="5089680"/>
            <a:ext cx="3944880" cy="37908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0" name=""/>
          <p:cNvSpPr/>
          <p:nvPr/>
        </p:nvSpPr>
        <p:spPr>
          <a:xfrm>
            <a:off x="6191280" y="5094360"/>
            <a:ext cx="2413080" cy="80964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1" name=""/>
          <p:cNvSpPr/>
          <p:nvPr/>
        </p:nvSpPr>
        <p:spPr>
          <a:xfrm>
            <a:off x="2187720" y="4629240"/>
            <a:ext cx="6406920" cy="37944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2" name=""/>
          <p:cNvSpPr/>
          <p:nvPr/>
        </p:nvSpPr>
        <p:spPr>
          <a:xfrm>
            <a:off x="2192400" y="2065320"/>
            <a:ext cx="6406920" cy="78264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3" name=""/>
          <p:cNvSpPr/>
          <p:nvPr/>
        </p:nvSpPr>
        <p:spPr>
          <a:xfrm>
            <a:off x="3822840" y="2933640"/>
            <a:ext cx="1538280" cy="1589040"/>
          </a:xfrm>
          <a:custGeom>
            <a:avLst/>
            <a:gdLst>
              <a:gd name="textAreaLeft" fmla="*/ 0 w 1538280"/>
              <a:gd name="textAreaRight" fmla="*/ 1538640 w 1538280"/>
              <a:gd name="textAreaTop" fmla="*/ 0 h 1589040"/>
              <a:gd name="textAreaBottom" fmla="*/ 1589400 h 15890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4" name=""/>
          <p:cNvSpPr/>
          <p:nvPr/>
        </p:nvSpPr>
        <p:spPr>
          <a:xfrm>
            <a:off x="5442120" y="2933640"/>
            <a:ext cx="1538280" cy="1589040"/>
          </a:xfrm>
          <a:custGeom>
            <a:avLst/>
            <a:gdLst>
              <a:gd name="textAreaLeft" fmla="*/ 0 w 1538280"/>
              <a:gd name="textAreaRight" fmla="*/ 1538640 w 1538280"/>
              <a:gd name="textAreaTop" fmla="*/ 0 h 1589040"/>
              <a:gd name="textAreaBottom" fmla="*/ 1589400 h 15890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5" name=""/>
          <p:cNvSpPr/>
          <p:nvPr/>
        </p:nvSpPr>
        <p:spPr>
          <a:xfrm>
            <a:off x="7061040" y="2933640"/>
            <a:ext cx="1538280" cy="1589040"/>
          </a:xfrm>
          <a:custGeom>
            <a:avLst/>
            <a:gdLst>
              <a:gd name="textAreaLeft" fmla="*/ 0 w 1538280"/>
              <a:gd name="textAreaRight" fmla="*/ 1538640 w 1538280"/>
              <a:gd name="textAreaTop" fmla="*/ 0 h 1589040"/>
              <a:gd name="textAreaBottom" fmla="*/ 1589400 h 15890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6" name=""/>
          <p:cNvSpPr/>
          <p:nvPr/>
        </p:nvSpPr>
        <p:spPr>
          <a:xfrm>
            <a:off x="444600" y="2917800"/>
            <a:ext cx="1650960" cy="159876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317" name=""/>
          <p:cNvSpPr/>
          <p:nvPr/>
        </p:nvSpPr>
        <p:spPr>
          <a:xfrm>
            <a:off x="444600" y="2049480"/>
            <a:ext cx="1650960" cy="77616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318" name=""/>
          <p:cNvSpPr/>
          <p:nvPr/>
        </p:nvSpPr>
        <p:spPr>
          <a:xfrm>
            <a:off x="444600" y="4618080"/>
            <a:ext cx="1650960" cy="40320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319" name=""/>
          <p:cNvSpPr/>
          <p:nvPr/>
        </p:nvSpPr>
        <p:spPr>
          <a:xfrm>
            <a:off x="444600" y="5068800"/>
            <a:ext cx="1650960" cy="83340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3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Open Standards Progress</a:t>
            </a:r>
            <a:endParaRPr b="0" lang="en-US" sz="2800" spc="-1" strike="noStrike">
              <a:solidFill>
                <a:srgbClr val="7889fb"/>
              </a:solidFill>
              <a:latin typeface="Arial"/>
            </a:endParaRPr>
          </a:p>
        </p:txBody>
      </p:sp>
      <p:sp>
        <p:nvSpPr>
          <p:cNvPr id="321" name=""/>
          <p:cNvSpPr/>
          <p:nvPr/>
        </p:nvSpPr>
        <p:spPr>
          <a:xfrm>
            <a:off x="155520" y="1265400"/>
            <a:ext cx="8988480" cy="8809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59595"/>
                </a:solidFill>
                <a:latin typeface="Arial"/>
              </a:rPr>
              <a:t>Web services collaboration makes “secure, reliable, managed and transacted” a reality</a:t>
            </a:r>
            <a:endParaRPr b="0" lang="en-US" sz="2000" spc="-1" strike="noStrike">
              <a:solidFill>
                <a:srgbClr val="ffffff"/>
              </a:solidFill>
              <a:latin typeface="Arial"/>
            </a:endParaRPr>
          </a:p>
        </p:txBody>
      </p:sp>
      <p:sp>
        <p:nvSpPr>
          <p:cNvPr id="322" name=""/>
          <p:cNvSpPr/>
          <p:nvPr/>
        </p:nvSpPr>
        <p:spPr>
          <a:xfrm>
            <a:off x="473040" y="2097000"/>
            <a:ext cx="15969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siness Processes</a:t>
            </a:r>
            <a:endParaRPr b="0" lang="en-US" sz="2000" spc="-1" strike="noStrike">
              <a:solidFill>
                <a:srgbClr val="ffffff"/>
              </a:solidFill>
              <a:latin typeface="Arial"/>
            </a:endParaRPr>
          </a:p>
        </p:txBody>
      </p:sp>
      <p:sp>
        <p:nvSpPr>
          <p:cNvPr id="323" name=""/>
          <p:cNvSpPr/>
          <p:nvPr/>
        </p:nvSpPr>
        <p:spPr>
          <a:xfrm>
            <a:off x="563400" y="3373560"/>
            <a:ext cx="14097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Quality  of Service</a:t>
            </a:r>
            <a:endParaRPr b="0" lang="en-US" sz="2000" spc="-1" strike="noStrike">
              <a:solidFill>
                <a:srgbClr val="ffffff"/>
              </a:solidFill>
              <a:latin typeface="Arial"/>
            </a:endParaRPr>
          </a:p>
        </p:txBody>
      </p:sp>
      <p:sp>
        <p:nvSpPr>
          <p:cNvPr id="324" name=""/>
          <p:cNvSpPr/>
          <p:nvPr/>
        </p:nvSpPr>
        <p:spPr>
          <a:xfrm>
            <a:off x="404640" y="4603680"/>
            <a:ext cx="1773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scription</a:t>
            </a:r>
            <a:endParaRPr b="0" lang="en-US" sz="2000" spc="-1" strike="noStrike">
              <a:solidFill>
                <a:srgbClr val="ffffff"/>
              </a:solidFill>
              <a:latin typeface="Arial"/>
            </a:endParaRPr>
          </a:p>
        </p:txBody>
      </p:sp>
      <p:sp>
        <p:nvSpPr>
          <p:cNvPr id="325" name=""/>
          <p:cNvSpPr/>
          <p:nvPr/>
        </p:nvSpPr>
        <p:spPr>
          <a:xfrm>
            <a:off x="398520" y="5272200"/>
            <a:ext cx="1773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ssaging</a:t>
            </a:r>
            <a:endParaRPr b="0" lang="en-US" sz="2000" spc="-1" strike="noStrike">
              <a:solidFill>
                <a:srgbClr val="ffffff"/>
              </a:solidFill>
              <a:latin typeface="Arial"/>
            </a:endParaRPr>
          </a:p>
        </p:txBody>
      </p:sp>
      <p:sp>
        <p:nvSpPr>
          <p:cNvPr id="326" name=""/>
          <p:cNvSpPr/>
          <p:nvPr/>
        </p:nvSpPr>
        <p:spPr>
          <a:xfrm>
            <a:off x="2660760" y="2168640"/>
            <a:ext cx="537516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Process Execution Language</a:t>
            </a:r>
            <a:endParaRPr b="0" lang="en-US" sz="1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Web Services (BPEL4WS)</a:t>
            </a:r>
            <a:endParaRPr b="0" lang="en-US" sz="1800" spc="-1" strike="noStrike">
              <a:solidFill>
                <a:srgbClr val="ffffff"/>
              </a:solidFill>
              <a:latin typeface="Arial"/>
            </a:endParaRPr>
          </a:p>
        </p:txBody>
      </p:sp>
      <p:sp>
        <p:nvSpPr>
          <p:cNvPr id="327" name=""/>
          <p:cNvSpPr/>
          <p:nvPr/>
        </p:nvSpPr>
        <p:spPr>
          <a:xfrm>
            <a:off x="7172280" y="3560760"/>
            <a:ext cx="13143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a:t>
            </a:r>
            <a:endParaRPr b="0" lang="en-US" sz="1800" spc="-1" strike="noStrike">
              <a:solidFill>
                <a:srgbClr val="ffffff"/>
              </a:solidFill>
              <a:latin typeface="Arial"/>
            </a:endParaRPr>
          </a:p>
        </p:txBody>
      </p:sp>
      <p:sp>
        <p:nvSpPr>
          <p:cNvPr id="328" name=""/>
          <p:cNvSpPr/>
          <p:nvPr/>
        </p:nvSpPr>
        <p:spPr>
          <a:xfrm>
            <a:off x="2293920" y="3560760"/>
            <a:ext cx="13143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iability</a:t>
            </a:r>
            <a:endParaRPr b="0" lang="en-US" sz="1800" spc="-1" strike="noStrike">
              <a:solidFill>
                <a:srgbClr val="ffffff"/>
              </a:solidFill>
              <a:latin typeface="Arial"/>
            </a:endParaRPr>
          </a:p>
        </p:txBody>
      </p:sp>
      <p:sp>
        <p:nvSpPr>
          <p:cNvPr id="329" name=""/>
          <p:cNvSpPr/>
          <p:nvPr/>
        </p:nvSpPr>
        <p:spPr>
          <a:xfrm>
            <a:off x="5386320" y="3560760"/>
            <a:ext cx="166392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ffffff"/>
              </a:solidFill>
              <a:latin typeface="Arial"/>
            </a:endParaRPr>
          </a:p>
        </p:txBody>
      </p:sp>
      <p:sp>
        <p:nvSpPr>
          <p:cNvPr id="330" name=""/>
          <p:cNvSpPr/>
          <p:nvPr/>
        </p:nvSpPr>
        <p:spPr>
          <a:xfrm>
            <a:off x="3754440" y="3560760"/>
            <a:ext cx="16635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s</a:t>
            </a:r>
            <a:endParaRPr b="0" lang="en-US" sz="1800" spc="-1" strike="noStrike">
              <a:solidFill>
                <a:srgbClr val="ffffff"/>
              </a:solidFill>
              <a:latin typeface="Arial"/>
            </a:endParaRPr>
          </a:p>
        </p:txBody>
      </p:sp>
      <p:sp>
        <p:nvSpPr>
          <p:cNvPr id="331" name=""/>
          <p:cNvSpPr/>
          <p:nvPr/>
        </p:nvSpPr>
        <p:spPr>
          <a:xfrm>
            <a:off x="2757600" y="4662360"/>
            <a:ext cx="52941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 Description Language (WSDL)</a:t>
            </a:r>
            <a:endParaRPr b="0" lang="en-US" sz="1800" spc="-1" strike="noStrike">
              <a:solidFill>
                <a:srgbClr val="ffffff"/>
              </a:solidFill>
              <a:latin typeface="Arial"/>
            </a:endParaRPr>
          </a:p>
        </p:txBody>
      </p:sp>
      <p:sp>
        <p:nvSpPr>
          <p:cNvPr id="332" name=""/>
          <p:cNvSpPr/>
          <p:nvPr/>
        </p:nvSpPr>
        <p:spPr>
          <a:xfrm>
            <a:off x="2192400" y="5124600"/>
            <a:ext cx="393696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Object Access Protocol (SOAP)</a:t>
            </a:r>
            <a:endParaRPr b="0" lang="en-US" sz="1600" spc="-1" strike="noStrike">
              <a:solidFill>
                <a:srgbClr val="ffffff"/>
              </a:solidFill>
              <a:latin typeface="Arial"/>
            </a:endParaRPr>
          </a:p>
        </p:txBody>
      </p:sp>
      <p:sp>
        <p:nvSpPr>
          <p:cNvPr id="333" name=""/>
          <p:cNvSpPr/>
          <p:nvPr/>
        </p:nvSpPr>
        <p:spPr>
          <a:xfrm>
            <a:off x="2139840" y="5557680"/>
            <a:ext cx="40039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sive Markup Language (XML)</a:t>
            </a:r>
            <a:endParaRPr b="0" lang="en-US" sz="1600" spc="-1" strike="noStrike">
              <a:solidFill>
                <a:srgbClr val="ffffff"/>
              </a:solidFill>
              <a:latin typeface="Arial"/>
            </a:endParaRPr>
          </a:p>
        </p:txBody>
      </p:sp>
      <p:sp>
        <p:nvSpPr>
          <p:cNvPr id="334" name=""/>
          <p:cNvSpPr/>
          <p:nvPr/>
        </p:nvSpPr>
        <p:spPr>
          <a:xfrm>
            <a:off x="6375240" y="5203800"/>
            <a:ext cx="197352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rotocols Other Services</a:t>
            </a:r>
            <a:endParaRPr b="0" lang="en-US" sz="1800" spc="-1" strike="noStrike">
              <a:solidFill>
                <a:srgbClr val="ffffff"/>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335" name=""/>
          <p:cNvCxnSpPr>
            <a:stCxn id="336" idx="2"/>
            <a:endCxn id="337" idx="0"/>
          </p:cNvCxnSpPr>
          <p:nvPr/>
        </p:nvCxnSpPr>
        <p:spPr>
          <a:xfrm flipH="1">
            <a:off x="3346200" y="3130560"/>
            <a:ext cx="2160" cy="1365840"/>
          </a:xfrm>
          <a:prstGeom prst="straightConnector1">
            <a:avLst/>
          </a:prstGeom>
          <a:ln w="28440">
            <a:solidFill>
              <a:srgbClr val="cc6600"/>
            </a:solidFill>
            <a:miter/>
            <a:headEnd len="med" type="triangle" w="med"/>
            <a:tailEnd len="med" type="triangle" w="med"/>
          </a:ln>
        </p:spPr>
      </p:cxnSp>
      <p:sp>
        <p:nvSpPr>
          <p:cNvPr id="338" name="PlaceHolder 1"/>
          <p:cNvSpPr>
            <a:spLocks noGrp="1"/>
          </p:cNvSpPr>
          <p:nvPr>
            <p:ph type="title"/>
          </p:nvPr>
        </p:nvSpPr>
        <p:spPr>
          <a:xfrm>
            <a:off x="1522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 and B2B</a:t>
            </a:r>
            <a:endParaRPr b="0" lang="en-US" sz="2800" spc="-1" strike="noStrike">
              <a:solidFill>
                <a:srgbClr val="7889fb"/>
              </a:solidFill>
              <a:latin typeface="Arial"/>
            </a:endParaRPr>
          </a:p>
        </p:txBody>
      </p:sp>
      <p:sp>
        <p:nvSpPr>
          <p:cNvPr id="339" name="PlaceHolder 2"/>
          <p:cNvSpPr>
            <a:spLocks noGrp="1"/>
          </p:cNvSpPr>
          <p:nvPr>
            <p:ph/>
          </p:nvPr>
        </p:nvSpPr>
        <p:spPr>
          <a:xfrm>
            <a:off x="5790960" y="1066320"/>
            <a:ext cx="3352680" cy="3902040"/>
          </a:xfrm>
          <a:prstGeom prst="rect">
            <a:avLst/>
          </a:prstGeom>
          <a:noFill/>
          <a:ln w="0">
            <a:noFill/>
          </a:ln>
        </p:spPr>
        <p:txBody>
          <a:bodyPr lIns="90000" rIns="90000" tIns="46800" bIns="46800" anchor="t">
            <a:normAutofit fontScale="81000"/>
          </a:bodyPr>
          <a:p>
            <a:pPr>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ugh Web Services will be delivered onto an increasing range of end-customer devices, the </a:t>
            </a:r>
            <a:r>
              <a:rPr b="1" lang="en-US" sz="1200" spc="-1" strike="noStrike">
                <a:solidFill>
                  <a:srgbClr val="000000"/>
                </a:solidFill>
                <a:latin typeface="Arial"/>
              </a:rPr>
              <a:t>external application</a:t>
            </a:r>
            <a:r>
              <a:rPr b="0" lang="en-US" sz="1200" spc="-1" strike="noStrike">
                <a:solidFill>
                  <a:srgbClr val="000000"/>
                </a:solidFill>
                <a:latin typeface="Arial"/>
              </a:rPr>
              <a:t> of Web Service today is </a:t>
            </a:r>
            <a:r>
              <a:rPr b="1" lang="en-US" sz="1200" spc="-1" strike="noStrike">
                <a:solidFill>
                  <a:srgbClr val="000000"/>
                </a:solidFill>
                <a:latin typeface="Arial"/>
              </a:rPr>
              <a:t>most likely</a:t>
            </a:r>
            <a:r>
              <a:rPr b="0" lang="en-US" sz="1200" spc="-1" strike="noStrike">
                <a:solidFill>
                  <a:srgbClr val="000000"/>
                </a:solidFill>
                <a:latin typeface="Arial"/>
              </a:rPr>
              <a:t> in an </a:t>
            </a:r>
            <a:r>
              <a:rPr b="1" lang="en-US" sz="1200" spc="-1" strike="noStrike">
                <a:solidFill>
                  <a:srgbClr val="000000"/>
                </a:solidFill>
                <a:latin typeface="Arial"/>
              </a:rPr>
              <a:t>EDI</a:t>
            </a:r>
            <a:r>
              <a:rPr b="0" lang="en-US" sz="1200" spc="-1" strike="noStrike">
                <a:solidFill>
                  <a:srgbClr val="000000"/>
                </a:solidFill>
                <a:latin typeface="Arial"/>
              </a:rPr>
              <a:t> or </a:t>
            </a:r>
            <a:r>
              <a:rPr b="1" lang="en-US" sz="1200" spc="-1" strike="noStrike">
                <a:solidFill>
                  <a:srgbClr val="000000"/>
                </a:solidFill>
                <a:latin typeface="Arial"/>
              </a:rPr>
              <a:t>B2B</a:t>
            </a:r>
            <a:r>
              <a:rPr b="0" lang="en-US" sz="1200" spc="-1" strike="noStrike">
                <a:solidFill>
                  <a:srgbClr val="000000"/>
                </a:solidFill>
                <a:latin typeface="Arial"/>
              </a:rPr>
              <a:t> context. </a:t>
            </a:r>
            <a:endParaRPr b="0" lang="en-US" sz="1200" spc="-1" strike="noStrike">
              <a:solidFill>
                <a:srgbClr val="000000"/>
              </a:solidFill>
              <a:latin typeface="Arial"/>
            </a:endParaRPr>
          </a:p>
          <a:p>
            <a:pPr>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a:t>
            </a:r>
            <a:r>
              <a:rPr b="1" lang="en-US" sz="1200" spc="-1" strike="noStrike">
                <a:solidFill>
                  <a:srgbClr val="000000"/>
                </a:solidFill>
                <a:latin typeface="Arial"/>
              </a:rPr>
              <a:t>proprietary EDI</a:t>
            </a:r>
            <a:r>
              <a:rPr b="0" lang="en-US" sz="1200" spc="-1" strike="noStrike">
                <a:solidFill>
                  <a:srgbClr val="000000"/>
                </a:solidFill>
                <a:latin typeface="Arial"/>
              </a:rPr>
              <a:t> and </a:t>
            </a:r>
            <a:r>
              <a:rPr b="1" lang="en-US" sz="1200" spc="-1" strike="noStrike">
                <a:solidFill>
                  <a:srgbClr val="000000"/>
                </a:solidFill>
                <a:latin typeface="Arial"/>
              </a:rPr>
              <a:t>B2B gateways</a:t>
            </a:r>
            <a:r>
              <a:rPr b="0" lang="en-US" sz="1200" spc="-1" strike="noStrike">
                <a:solidFill>
                  <a:srgbClr val="000000"/>
                </a:solidFill>
                <a:latin typeface="Arial"/>
              </a:rPr>
              <a:t> are widely used by large organizations but the </a:t>
            </a:r>
            <a:r>
              <a:rPr b="1" lang="en-US" sz="1200" spc="-1" strike="noStrike">
                <a:solidFill>
                  <a:srgbClr val="000000"/>
                </a:solidFill>
                <a:latin typeface="Arial"/>
              </a:rPr>
              <a:t>high cost</a:t>
            </a:r>
            <a:r>
              <a:rPr b="0" lang="en-US" sz="1200" spc="-1" strike="noStrike">
                <a:solidFill>
                  <a:srgbClr val="000000"/>
                </a:solidFill>
                <a:latin typeface="Arial"/>
              </a:rPr>
              <a:t> of implementation has </a:t>
            </a:r>
            <a:r>
              <a:rPr b="1" lang="en-US" sz="1200" spc="-1" strike="noStrike">
                <a:solidFill>
                  <a:srgbClr val="000000"/>
                </a:solidFill>
                <a:latin typeface="Arial"/>
              </a:rPr>
              <a:t>prohibited</a:t>
            </a:r>
            <a:r>
              <a:rPr b="0" lang="en-US" sz="1200" spc="-1" strike="noStrike">
                <a:solidFill>
                  <a:srgbClr val="000000"/>
                </a:solidFill>
                <a:latin typeface="Arial"/>
              </a:rPr>
              <a:t> their many </a:t>
            </a:r>
            <a:r>
              <a:rPr b="1" lang="en-US" sz="1200" spc="-1" strike="noStrike">
                <a:solidFill>
                  <a:srgbClr val="000000"/>
                </a:solidFill>
                <a:latin typeface="Arial"/>
              </a:rPr>
              <a:t>smaller suppliers</a:t>
            </a:r>
            <a:r>
              <a:rPr b="0" lang="en-US" sz="1200" spc="-1" strike="noStrike">
                <a:solidFill>
                  <a:srgbClr val="000000"/>
                </a:solidFill>
                <a:latin typeface="Arial"/>
              </a:rPr>
              <a:t> and partners from utilizing this approach. </a:t>
            </a:r>
            <a:endParaRPr b="0" lang="en-US" sz="1200" spc="-1" strike="noStrike">
              <a:solidFill>
                <a:srgbClr val="000000"/>
              </a:solidFill>
              <a:latin typeface="Arial"/>
            </a:endParaRPr>
          </a:p>
          <a:p>
            <a:pPr>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EDI community</a:t>
            </a:r>
            <a:r>
              <a:rPr b="0" lang="en-US" sz="1200" spc="-1" strike="noStrike">
                <a:solidFill>
                  <a:srgbClr val="000000"/>
                </a:solidFill>
                <a:latin typeface="Arial"/>
              </a:rPr>
              <a:t> and various B2B groups are already working on evolving their existing standards to support Web Services. The use of Web Services will look little different to the other scenarios covered here. However, they will overlay </a:t>
            </a:r>
            <a:r>
              <a:rPr b="1" lang="en-US" sz="1200" spc="-1" strike="noStrike">
                <a:solidFill>
                  <a:srgbClr val="000000"/>
                </a:solidFill>
                <a:latin typeface="Arial"/>
              </a:rPr>
              <a:t>standards</a:t>
            </a:r>
            <a:r>
              <a:rPr b="0" lang="en-US" sz="1200" spc="-1" strike="noStrike">
                <a:solidFill>
                  <a:srgbClr val="000000"/>
                </a:solidFill>
                <a:latin typeface="Arial"/>
              </a:rPr>
              <a:t> that facilitate B2B activity. These will provide standards for the</a:t>
            </a:r>
            <a:endParaRPr b="0" lang="en-US" sz="12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ocument Schemas</a:t>
            </a:r>
            <a:endParaRPr b="0" lang="en-US" sz="10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 Definitions</a:t>
            </a:r>
            <a:endParaRPr b="0" lang="en-US" sz="10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cess Models</a:t>
            </a:r>
            <a:endParaRPr b="0" lang="en-US" sz="1000" spc="-1" strike="noStrike">
              <a:solidFill>
                <a:srgbClr val="000000"/>
              </a:solidFill>
              <a:latin typeface="Arial"/>
            </a:endParaRPr>
          </a:p>
          <a:p>
            <a:pPr>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t>
            </a:r>
            <a:r>
              <a:rPr b="1" lang="en-US" sz="1200" spc="-1" strike="noStrike">
                <a:solidFill>
                  <a:srgbClr val="000000"/>
                </a:solidFill>
                <a:latin typeface="Arial"/>
              </a:rPr>
              <a:t>advantages</a:t>
            </a:r>
            <a:r>
              <a:rPr b="0" lang="en-US" sz="1200" spc="-1" strike="noStrike">
                <a:solidFill>
                  <a:srgbClr val="000000"/>
                </a:solidFill>
                <a:latin typeface="Arial"/>
              </a:rPr>
              <a:t> of Web Service B2B include</a:t>
            </a:r>
            <a:endParaRPr b="0" lang="en-US" sz="12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wer technology costs</a:t>
            </a:r>
            <a:r>
              <a:rPr b="0" lang="en-US" sz="1000" spc="-1" strike="noStrike">
                <a:solidFill>
                  <a:srgbClr val="000000"/>
                </a:solidFill>
                <a:latin typeface="Arial"/>
              </a:rPr>
              <a:t>, enabling all participants regardless of size </a:t>
            </a:r>
            <a:endParaRPr b="0" lang="en-US" sz="10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pen standards</a:t>
            </a:r>
            <a:r>
              <a:rPr b="0" lang="en-US" sz="1000" spc="-1" strike="noStrike">
                <a:solidFill>
                  <a:srgbClr val="000000"/>
                </a:solidFill>
                <a:latin typeface="Arial"/>
              </a:rPr>
              <a:t> rather than proprietary gateways and networks </a:t>
            </a:r>
            <a:endParaRPr b="0" lang="en-US" sz="1000" spc="-1" strike="noStrike">
              <a:solidFill>
                <a:srgbClr val="000000"/>
              </a:solidFill>
              <a:latin typeface="Arial"/>
            </a:endParaRPr>
          </a:p>
        </p:txBody>
      </p:sp>
      <p:sp>
        <p:nvSpPr>
          <p:cNvPr id="340" name=""/>
          <p:cNvSpPr/>
          <p:nvPr/>
        </p:nvSpPr>
        <p:spPr>
          <a:xfrm>
            <a:off x="2808360" y="5576760"/>
            <a:ext cx="1079280" cy="648000"/>
          </a:xfrm>
          <a:prstGeom prst="rect">
            <a:avLst/>
          </a:prstGeom>
          <a:solidFill>
            <a:srgbClr val="ccecff"/>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ervice</a:t>
            </a:r>
            <a:br>
              <a:rPr sz="1400"/>
            </a:br>
            <a:r>
              <a:rPr b="1" lang="en-GB" sz="1400" spc="-1" strike="noStrike">
                <a:solidFill>
                  <a:srgbClr val="000000"/>
                </a:solidFill>
                <a:latin typeface="Arial"/>
              </a:rPr>
              <a:t>Provider</a:t>
            </a:r>
            <a:endParaRPr b="0" lang="en-US" sz="1400" spc="-1" strike="noStrike">
              <a:solidFill>
                <a:srgbClr val="ffffff"/>
              </a:solidFill>
              <a:latin typeface="Arial"/>
            </a:endParaRPr>
          </a:p>
        </p:txBody>
      </p:sp>
      <p:grpSp>
        <p:nvGrpSpPr>
          <p:cNvPr id="341" name=""/>
          <p:cNvGrpSpPr/>
          <p:nvPr/>
        </p:nvGrpSpPr>
        <p:grpSpPr>
          <a:xfrm>
            <a:off x="2087640" y="3414600"/>
            <a:ext cx="2520720" cy="941040"/>
            <a:chOff x="2087640" y="3414600"/>
            <a:chExt cx="2520720" cy="941040"/>
          </a:xfrm>
        </p:grpSpPr>
        <p:sp>
          <p:nvSpPr>
            <p:cNvPr id="342" name=""/>
            <p:cNvSpPr/>
            <p:nvPr/>
          </p:nvSpPr>
          <p:spPr>
            <a:xfrm>
              <a:off x="2087640" y="3414600"/>
              <a:ext cx="2520720" cy="93672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
            <p:cNvSpPr/>
            <p:nvPr/>
          </p:nvSpPr>
          <p:spPr>
            <a:xfrm>
              <a:off x="2249280" y="3414600"/>
              <a:ext cx="26712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
            <p:cNvSpPr/>
            <p:nvPr/>
          </p:nvSpPr>
          <p:spPr>
            <a:xfrm>
              <a:off x="2892600" y="3416040"/>
              <a:ext cx="26712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
            <p:cNvSpPr/>
            <p:nvPr/>
          </p:nvSpPr>
          <p:spPr>
            <a:xfrm>
              <a:off x="3535920" y="3417840"/>
              <a:ext cx="2667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6" name=""/>
            <p:cNvSpPr/>
            <p:nvPr/>
          </p:nvSpPr>
          <p:spPr>
            <a:xfrm>
              <a:off x="4179240" y="3419280"/>
              <a:ext cx="2667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
            <p:cNvSpPr/>
            <p:nvPr/>
          </p:nvSpPr>
          <p:spPr>
            <a:xfrm rot="10800000">
              <a:off x="4178880" y="4212720"/>
              <a:ext cx="2667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
            <p:cNvSpPr/>
            <p:nvPr/>
          </p:nvSpPr>
          <p:spPr>
            <a:xfrm rot="10800000">
              <a:off x="3535560" y="4211640"/>
              <a:ext cx="266760" cy="142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
            <p:cNvSpPr/>
            <p:nvPr/>
          </p:nvSpPr>
          <p:spPr>
            <a:xfrm rot="10800000">
              <a:off x="2892600" y="4209480"/>
              <a:ext cx="26712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
            <p:cNvSpPr/>
            <p:nvPr/>
          </p:nvSpPr>
          <p:spPr>
            <a:xfrm rot="10800000">
              <a:off x="2249280" y="4208040"/>
              <a:ext cx="26712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51" name=""/>
          <p:cNvSpPr/>
          <p:nvPr/>
        </p:nvSpPr>
        <p:spPr>
          <a:xfrm rot="5400000">
            <a:off x="4334760" y="3860640"/>
            <a:ext cx="15264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2" name=""/>
          <p:cNvSpPr/>
          <p:nvPr/>
        </p:nvSpPr>
        <p:spPr>
          <a:xfrm rot="5400000">
            <a:off x="3649320" y="401328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3" name=""/>
          <p:cNvSpPr/>
          <p:nvPr/>
        </p:nvSpPr>
        <p:spPr>
          <a:xfrm rot="5400000">
            <a:off x="3344760" y="3632040"/>
            <a:ext cx="15264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4" name=""/>
          <p:cNvSpPr/>
          <p:nvPr/>
        </p:nvSpPr>
        <p:spPr>
          <a:xfrm rot="5400000">
            <a:off x="2963160" y="4089240"/>
            <a:ext cx="15264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5" name=""/>
          <p:cNvSpPr/>
          <p:nvPr/>
        </p:nvSpPr>
        <p:spPr>
          <a:xfrm rot="5400000">
            <a:off x="2887560" y="3555720"/>
            <a:ext cx="15228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6" name=""/>
          <p:cNvSpPr/>
          <p:nvPr/>
        </p:nvSpPr>
        <p:spPr>
          <a:xfrm rot="5400000">
            <a:off x="2201760" y="3860640"/>
            <a:ext cx="15264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357" name=""/>
          <p:cNvCxnSpPr>
            <a:stCxn id="351" idx="4"/>
            <a:endCxn id="352" idx="1"/>
          </p:cNvCxnSpPr>
          <p:nvPr/>
        </p:nvCxnSpPr>
        <p:spPr>
          <a:xfrm flipH="1">
            <a:off x="3777840" y="3936960"/>
            <a:ext cx="558000" cy="99360"/>
          </a:xfrm>
          <a:prstGeom prst="straightConnector1">
            <a:avLst/>
          </a:prstGeom>
          <a:ln w="12600">
            <a:solidFill>
              <a:srgbClr val="ffffff"/>
            </a:solidFill>
            <a:miter/>
          </a:ln>
        </p:spPr>
      </p:cxnSp>
      <p:cxnSp>
        <p:nvCxnSpPr>
          <p:cNvPr id="358" name=""/>
          <p:cNvCxnSpPr>
            <a:stCxn id="352" idx="4"/>
            <a:endCxn id="353" idx="7"/>
          </p:cNvCxnSpPr>
          <p:nvPr/>
        </p:nvCxnSpPr>
        <p:spPr>
          <a:xfrm flipH="1" flipV="1">
            <a:off x="3472920" y="3760560"/>
            <a:ext cx="175680" cy="327600"/>
          </a:xfrm>
          <a:prstGeom prst="straightConnector1">
            <a:avLst/>
          </a:prstGeom>
          <a:ln w="12600">
            <a:solidFill>
              <a:srgbClr val="ffffff"/>
            </a:solidFill>
            <a:miter/>
          </a:ln>
        </p:spPr>
      </p:cxnSp>
      <p:cxnSp>
        <p:nvCxnSpPr>
          <p:cNvPr id="359" name=""/>
          <p:cNvCxnSpPr>
            <a:stCxn id="353" idx="5"/>
            <a:endCxn id="354" idx="1"/>
          </p:cNvCxnSpPr>
          <p:nvPr/>
        </p:nvCxnSpPr>
        <p:spPr>
          <a:xfrm flipH="1">
            <a:off x="3091680" y="3760920"/>
            <a:ext cx="275400" cy="351360"/>
          </a:xfrm>
          <a:prstGeom prst="straightConnector1">
            <a:avLst/>
          </a:prstGeom>
          <a:ln w="12600">
            <a:solidFill>
              <a:srgbClr val="ffffff"/>
            </a:solidFill>
            <a:miter/>
          </a:ln>
        </p:spPr>
      </p:cxnSp>
      <p:cxnSp>
        <p:nvCxnSpPr>
          <p:cNvPr id="360" name=""/>
          <p:cNvCxnSpPr>
            <a:stCxn id="353" idx="4"/>
            <a:endCxn id="355" idx="0"/>
          </p:cNvCxnSpPr>
          <p:nvPr/>
        </p:nvCxnSpPr>
        <p:spPr>
          <a:xfrm flipH="1" flipV="1">
            <a:off x="3037680" y="3630600"/>
            <a:ext cx="305640" cy="76680"/>
          </a:xfrm>
          <a:prstGeom prst="straightConnector1">
            <a:avLst/>
          </a:prstGeom>
          <a:ln w="12600">
            <a:solidFill>
              <a:srgbClr val="ffffff"/>
            </a:solidFill>
            <a:miter/>
          </a:ln>
        </p:spPr>
      </p:cxnSp>
      <p:cxnSp>
        <p:nvCxnSpPr>
          <p:cNvPr id="361" name=""/>
          <p:cNvCxnSpPr>
            <a:stCxn id="355" idx="4"/>
            <a:endCxn id="356" idx="1"/>
          </p:cNvCxnSpPr>
          <p:nvPr/>
        </p:nvCxnSpPr>
        <p:spPr>
          <a:xfrm flipH="1">
            <a:off x="2329920" y="3630240"/>
            <a:ext cx="556560" cy="253080"/>
          </a:xfrm>
          <a:prstGeom prst="straightConnector1">
            <a:avLst/>
          </a:prstGeom>
          <a:ln w="12600">
            <a:solidFill>
              <a:srgbClr val="ffffff"/>
            </a:solidFill>
            <a:miter/>
          </a:ln>
        </p:spPr>
      </p:cxnSp>
      <p:cxnSp>
        <p:nvCxnSpPr>
          <p:cNvPr id="362" name=""/>
          <p:cNvCxnSpPr>
            <a:stCxn id="354" idx="4"/>
            <a:endCxn id="356" idx="0"/>
          </p:cNvCxnSpPr>
          <p:nvPr/>
        </p:nvCxnSpPr>
        <p:spPr>
          <a:xfrm flipH="1" flipV="1">
            <a:off x="2352240" y="3934800"/>
            <a:ext cx="610560" cy="229320"/>
          </a:xfrm>
          <a:prstGeom prst="straightConnector1">
            <a:avLst/>
          </a:prstGeom>
          <a:ln w="12600">
            <a:solidFill>
              <a:srgbClr val="ffffff"/>
            </a:solidFill>
            <a:miter/>
          </a:ln>
        </p:spPr>
      </p:cxnSp>
      <p:sp>
        <p:nvSpPr>
          <p:cNvPr id="363" name=""/>
          <p:cNvSpPr/>
          <p:nvPr/>
        </p:nvSpPr>
        <p:spPr>
          <a:xfrm rot="5400000">
            <a:off x="3877560" y="3632040"/>
            <a:ext cx="15264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364" name=""/>
          <p:cNvCxnSpPr>
            <a:stCxn id="351" idx="4"/>
            <a:endCxn id="363" idx="7"/>
          </p:cNvCxnSpPr>
          <p:nvPr/>
        </p:nvCxnSpPr>
        <p:spPr>
          <a:xfrm flipH="1" flipV="1">
            <a:off x="4006440" y="3760200"/>
            <a:ext cx="329040" cy="176760"/>
          </a:xfrm>
          <a:prstGeom prst="straightConnector1">
            <a:avLst/>
          </a:prstGeom>
          <a:ln w="12600">
            <a:solidFill>
              <a:srgbClr val="ffffff"/>
            </a:solidFill>
            <a:miter/>
          </a:ln>
        </p:spPr>
      </p:cxnSp>
      <p:cxnSp>
        <p:nvCxnSpPr>
          <p:cNvPr id="365" name=""/>
          <p:cNvCxnSpPr>
            <a:stCxn id="363" idx="4"/>
            <a:endCxn id="353" idx="0"/>
          </p:cNvCxnSpPr>
          <p:nvPr/>
        </p:nvCxnSpPr>
        <p:spPr>
          <a:xfrm flipH="1">
            <a:off x="3494880" y="3706560"/>
            <a:ext cx="381960" cy="1080"/>
          </a:xfrm>
          <a:prstGeom prst="straightConnector1">
            <a:avLst/>
          </a:prstGeom>
          <a:ln w="12600">
            <a:solidFill>
              <a:srgbClr val="ffffff"/>
            </a:solidFill>
            <a:miter/>
          </a:ln>
        </p:spPr>
      </p:cxnSp>
      <p:cxnSp>
        <p:nvCxnSpPr>
          <p:cNvPr id="366" name=""/>
          <p:cNvCxnSpPr>
            <a:stCxn id="354" idx="0"/>
            <a:endCxn id="352" idx="4"/>
          </p:cNvCxnSpPr>
          <p:nvPr/>
        </p:nvCxnSpPr>
        <p:spPr>
          <a:xfrm flipV="1">
            <a:off x="3114720" y="4087800"/>
            <a:ext cx="534240" cy="76680"/>
          </a:xfrm>
          <a:prstGeom prst="straightConnector1">
            <a:avLst/>
          </a:prstGeom>
          <a:ln w="12600">
            <a:solidFill>
              <a:srgbClr val="ffffff"/>
            </a:solidFill>
            <a:miter/>
          </a:ln>
        </p:spPr>
      </p:cxnSp>
      <p:sp>
        <p:nvSpPr>
          <p:cNvPr id="367" name=""/>
          <p:cNvSpPr/>
          <p:nvPr/>
        </p:nvSpPr>
        <p:spPr>
          <a:xfrm>
            <a:off x="2158920" y="4495680"/>
            <a:ext cx="647640" cy="648000"/>
          </a:xfrm>
          <a:prstGeom prst="ellipse">
            <a:avLst/>
          </a:prstGeom>
          <a:solidFill>
            <a:srgbClr val="ccecff"/>
          </a:solidFill>
          <a:ln w="12600">
            <a:solidFill>
              <a:srgbClr val="ffffff"/>
            </a:solidFill>
            <a:miter/>
          </a:ln>
        </p:spPr>
        <p:style>
          <a:lnRef idx="0"/>
          <a:fillRef idx="0"/>
          <a:effectRef idx="0"/>
          <a:fontRef idx="minor"/>
        </p:style>
        <p:txBody>
          <a:bodyPr wrap="none" lIns="54000" rIns="54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rvice</a:t>
            </a:r>
            <a:endParaRPr b="0" lang="en-US" sz="1200" spc="-1" strike="noStrike">
              <a:solidFill>
                <a:srgbClr val="ffffff"/>
              </a:solidFill>
              <a:latin typeface="Arial"/>
            </a:endParaRPr>
          </a:p>
        </p:txBody>
      </p:sp>
      <p:sp>
        <p:nvSpPr>
          <p:cNvPr id="337" name=""/>
          <p:cNvSpPr/>
          <p:nvPr/>
        </p:nvSpPr>
        <p:spPr>
          <a:xfrm>
            <a:off x="3022560" y="4495680"/>
            <a:ext cx="647640" cy="648000"/>
          </a:xfrm>
          <a:prstGeom prst="ellipse">
            <a:avLst/>
          </a:prstGeom>
          <a:solidFill>
            <a:srgbClr val="ccecff"/>
          </a:solidFill>
          <a:ln w="12600">
            <a:solidFill>
              <a:srgbClr val="ffffff"/>
            </a:solidFill>
            <a:miter/>
          </a:ln>
        </p:spPr>
        <p:style>
          <a:lnRef idx="0"/>
          <a:fillRef idx="0"/>
          <a:effectRef idx="0"/>
          <a:fontRef idx="minor"/>
        </p:style>
        <p:txBody>
          <a:bodyPr wrap="none" lIns="54000" rIns="54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rvice</a:t>
            </a:r>
            <a:endParaRPr b="0" lang="en-US" sz="1200" spc="-1" strike="noStrike">
              <a:solidFill>
                <a:srgbClr val="ffffff"/>
              </a:solidFill>
              <a:latin typeface="Arial"/>
            </a:endParaRPr>
          </a:p>
        </p:txBody>
      </p:sp>
      <p:sp>
        <p:nvSpPr>
          <p:cNvPr id="368" name=""/>
          <p:cNvSpPr/>
          <p:nvPr/>
        </p:nvSpPr>
        <p:spPr>
          <a:xfrm>
            <a:off x="3886200" y="4495680"/>
            <a:ext cx="647640" cy="648000"/>
          </a:xfrm>
          <a:prstGeom prst="ellipse">
            <a:avLst/>
          </a:prstGeom>
          <a:solidFill>
            <a:srgbClr val="ccecff"/>
          </a:solidFill>
          <a:ln w="12600">
            <a:solidFill>
              <a:srgbClr val="ffffff"/>
            </a:solidFill>
            <a:miter/>
          </a:ln>
        </p:spPr>
        <p:style>
          <a:lnRef idx="0"/>
          <a:fillRef idx="0"/>
          <a:effectRef idx="0"/>
          <a:fontRef idx="minor"/>
        </p:style>
        <p:txBody>
          <a:bodyPr wrap="none" lIns="54000" rIns="54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rvice</a:t>
            </a:r>
            <a:endParaRPr b="0" lang="en-US" sz="1200" spc="-1" strike="noStrike">
              <a:solidFill>
                <a:srgbClr val="ffffff"/>
              </a:solidFill>
              <a:latin typeface="Arial"/>
            </a:endParaRPr>
          </a:p>
        </p:txBody>
      </p:sp>
      <p:grpSp>
        <p:nvGrpSpPr>
          <p:cNvPr id="369" name=""/>
          <p:cNvGrpSpPr/>
          <p:nvPr/>
        </p:nvGrpSpPr>
        <p:grpSpPr>
          <a:xfrm>
            <a:off x="2879640" y="2624040"/>
            <a:ext cx="936720" cy="506160"/>
            <a:chOff x="2879640" y="2624040"/>
            <a:chExt cx="936720" cy="506160"/>
          </a:xfrm>
        </p:grpSpPr>
        <p:sp>
          <p:nvSpPr>
            <p:cNvPr id="336" name=""/>
            <p:cNvSpPr/>
            <p:nvPr/>
          </p:nvSpPr>
          <p:spPr>
            <a:xfrm>
              <a:off x="2879640" y="2624040"/>
              <a:ext cx="936720" cy="506160"/>
            </a:xfrm>
            <a:prstGeom prst="rect">
              <a:avLst/>
            </a:prstGeom>
            <a:solidFill>
              <a:srgbClr val="ccecff"/>
            </a:solidFill>
            <a:ln w="12600">
              <a:solidFill>
                <a:srgbClr val="ffffff"/>
              </a:solidFill>
              <a:miter/>
            </a:ln>
          </p:spPr>
          <p:style>
            <a:lnRef idx="0"/>
            <a:fillRef idx="0"/>
            <a:effectRef idx="0"/>
            <a:fontRef idx="minor"/>
          </p:style>
          <p:txBody>
            <a:bodyPr lIns="54000" rIns="54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essage</a:t>
              </a:r>
              <a:endParaRPr b="0" lang="en-US" sz="1200" spc="-1" strike="noStrike">
                <a:solidFill>
                  <a:srgbClr val="ffffff"/>
                </a:solidFill>
                <a:latin typeface="Arial"/>
              </a:endParaRPr>
            </a:p>
          </p:txBody>
        </p:sp>
        <p:sp>
          <p:nvSpPr>
            <p:cNvPr id="370" name=""/>
            <p:cNvSpPr/>
            <p:nvPr/>
          </p:nvSpPr>
          <p:spPr>
            <a:xfrm flipV="1">
              <a:off x="2879640" y="2624040"/>
              <a:ext cx="936720" cy="168480"/>
            </a:xfrm>
            <a:prstGeom prst="triangle">
              <a:avLst>
                <a:gd name="adj" fmla="val 50000"/>
              </a:avLst>
            </a:prstGeom>
            <a:solidFill>
              <a:srgbClr val="ccecff"/>
            </a:solidFill>
            <a:ln w="12600">
              <a:solidFill>
                <a:srgbClr val="ffffff"/>
              </a:solidFill>
              <a:miter/>
            </a:ln>
          </p:spPr>
          <p:style>
            <a:lnRef idx="0"/>
            <a:fillRef idx="0"/>
            <a:effectRef idx="0"/>
            <a:fontRef idx="minor"/>
          </p:style>
          <p:txBody>
            <a:bodyPr wrap="none" lIns="90000" rIns="90000" tIns="9360" bIns="9360" anchor="ctr">
              <a:noAutofit/>
            </a:bodyPr>
            <a:p>
              <a:endParaRPr b="0" lang="en-US" sz="1800" spc="-1" strike="noStrike">
                <a:solidFill>
                  <a:srgbClr val="ffffff"/>
                </a:solidFill>
                <a:latin typeface="Arial"/>
              </a:endParaRPr>
            </a:p>
          </p:txBody>
        </p:sp>
      </p:grpSp>
      <p:sp>
        <p:nvSpPr>
          <p:cNvPr id="371" name=""/>
          <p:cNvSpPr/>
          <p:nvPr/>
        </p:nvSpPr>
        <p:spPr>
          <a:xfrm>
            <a:off x="289080" y="2190600"/>
            <a:ext cx="1079280" cy="935280"/>
          </a:xfrm>
          <a:prstGeom prst="foldedCorner">
            <a:avLst>
              <a:gd name="adj" fmla="val 12500"/>
            </a:avLst>
          </a:prstGeom>
          <a:solidFill>
            <a:srgbClr val="80808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Document</a:t>
            </a:r>
            <a:br>
              <a:rPr sz="1400"/>
            </a:br>
            <a:r>
              <a:rPr b="1" lang="en-GB" sz="1400" spc="-1" strike="noStrike">
                <a:solidFill>
                  <a:srgbClr val="ffffff"/>
                </a:solidFill>
                <a:latin typeface="Arial"/>
              </a:rPr>
              <a:t>Schemas</a:t>
            </a:r>
            <a:br>
              <a:rPr sz="1400"/>
            </a:br>
            <a:r>
              <a:rPr b="1" lang="en-GB" sz="1400" spc="-1" strike="noStrike">
                <a:solidFill>
                  <a:srgbClr val="ffffff"/>
                </a:solidFill>
                <a:latin typeface="Arial"/>
              </a:rPr>
              <a:t>(XSD)</a:t>
            </a:r>
            <a:endParaRPr b="0" lang="en-US" sz="1400" spc="-1" strike="noStrike">
              <a:solidFill>
                <a:srgbClr val="ffffff"/>
              </a:solidFill>
              <a:latin typeface="Arial"/>
            </a:endParaRPr>
          </a:p>
        </p:txBody>
      </p:sp>
      <p:sp>
        <p:nvSpPr>
          <p:cNvPr id="372" name=""/>
          <p:cNvSpPr/>
          <p:nvPr/>
        </p:nvSpPr>
        <p:spPr>
          <a:xfrm>
            <a:off x="289080" y="3414600"/>
            <a:ext cx="1079280" cy="935280"/>
          </a:xfrm>
          <a:prstGeom prst="foldedCorner">
            <a:avLst>
              <a:gd name="adj" fmla="val 12500"/>
            </a:avLst>
          </a:prstGeom>
          <a:solidFill>
            <a:srgbClr val="80808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rocess</a:t>
            </a:r>
            <a:br>
              <a:rPr sz="1400"/>
            </a:br>
            <a:r>
              <a:rPr b="1" lang="en-GB" sz="1400" spc="-1" strike="noStrike">
                <a:solidFill>
                  <a:srgbClr val="ffffff"/>
                </a:solidFill>
                <a:latin typeface="Arial"/>
              </a:rPr>
              <a:t>Models</a:t>
            </a:r>
            <a:br>
              <a:rPr sz="1400"/>
            </a:br>
            <a:r>
              <a:rPr b="1" lang="en-GB" sz="1400" spc="-1" strike="noStrike">
                <a:solidFill>
                  <a:srgbClr val="ffffff"/>
                </a:solidFill>
                <a:latin typeface="Arial"/>
              </a:rPr>
              <a:t>(BPEL)</a:t>
            </a:r>
            <a:endParaRPr b="0" lang="en-US" sz="1400" spc="-1" strike="noStrike">
              <a:solidFill>
                <a:srgbClr val="ffffff"/>
              </a:solidFill>
              <a:latin typeface="Arial"/>
            </a:endParaRPr>
          </a:p>
        </p:txBody>
      </p:sp>
      <p:sp>
        <p:nvSpPr>
          <p:cNvPr id="373" name=""/>
          <p:cNvSpPr/>
          <p:nvPr/>
        </p:nvSpPr>
        <p:spPr>
          <a:xfrm>
            <a:off x="289080" y="4567320"/>
            <a:ext cx="1079280" cy="934920"/>
          </a:xfrm>
          <a:prstGeom prst="foldedCorner">
            <a:avLst>
              <a:gd name="adj" fmla="val 12500"/>
            </a:avLst>
          </a:prstGeom>
          <a:solidFill>
            <a:srgbClr val="80808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ervice</a:t>
            </a:r>
            <a:br>
              <a:rPr sz="1400"/>
            </a:br>
            <a:r>
              <a:rPr b="1" lang="en-GB" sz="1400" spc="-1" strike="noStrike">
                <a:solidFill>
                  <a:srgbClr val="ffffff"/>
                </a:solidFill>
                <a:latin typeface="Arial"/>
              </a:rPr>
              <a:t>Definitions</a:t>
            </a:r>
            <a:br>
              <a:rPr sz="1400"/>
            </a:br>
            <a:r>
              <a:rPr b="1" lang="en-GB" sz="1400" spc="-1" strike="noStrike">
                <a:solidFill>
                  <a:srgbClr val="ffffff"/>
                </a:solidFill>
                <a:latin typeface="Arial"/>
              </a:rPr>
              <a:t>(WSDL)</a:t>
            </a:r>
            <a:endParaRPr b="0" lang="en-US" sz="1400" spc="-1" strike="noStrike">
              <a:solidFill>
                <a:srgbClr val="ffffff"/>
              </a:solidFill>
              <a:latin typeface="Arial"/>
            </a:endParaRPr>
          </a:p>
        </p:txBody>
      </p:sp>
      <p:grpSp>
        <p:nvGrpSpPr>
          <p:cNvPr id="374" name=""/>
          <p:cNvGrpSpPr/>
          <p:nvPr/>
        </p:nvGrpSpPr>
        <p:grpSpPr>
          <a:xfrm>
            <a:off x="1584360" y="1333440"/>
            <a:ext cx="865080" cy="714600"/>
            <a:chOff x="1584360" y="1333440"/>
            <a:chExt cx="865080" cy="714600"/>
          </a:xfrm>
        </p:grpSpPr>
        <p:sp>
          <p:nvSpPr>
            <p:cNvPr id="375" name=""/>
            <p:cNvSpPr/>
            <p:nvPr/>
          </p:nvSpPr>
          <p:spPr>
            <a:xfrm>
              <a:off x="1584360" y="1333440"/>
              <a:ext cx="865080" cy="682920"/>
            </a:xfrm>
            <a:custGeom>
              <a:avLst/>
              <a:gdLst/>
              <a:ahLst/>
              <a:rect l="l" t="t" r="r" b="b"/>
              <a:pathLst>
                <a:path w="16350" h="12909">
                  <a:moveTo>
                    <a:pt x="16350" y="8360"/>
                  </a:moveTo>
                  <a:lnTo>
                    <a:pt x="15924" y="8360"/>
                  </a:lnTo>
                  <a:lnTo>
                    <a:pt x="15434" y="6684"/>
                  </a:lnTo>
                  <a:lnTo>
                    <a:pt x="6684" y="6684"/>
                  </a:lnTo>
                  <a:lnTo>
                    <a:pt x="6684" y="4798"/>
                  </a:lnTo>
                  <a:lnTo>
                    <a:pt x="7128" y="4790"/>
                  </a:lnTo>
                  <a:lnTo>
                    <a:pt x="7128" y="4112"/>
                  </a:lnTo>
                  <a:lnTo>
                    <a:pt x="4283" y="0"/>
                  </a:lnTo>
                  <a:lnTo>
                    <a:pt x="1437" y="4112"/>
                  </a:lnTo>
                  <a:lnTo>
                    <a:pt x="1437" y="4790"/>
                  </a:lnTo>
                  <a:lnTo>
                    <a:pt x="1880" y="4798"/>
                  </a:lnTo>
                  <a:lnTo>
                    <a:pt x="1880" y="6684"/>
                  </a:lnTo>
                  <a:lnTo>
                    <a:pt x="919" y="6684"/>
                  </a:lnTo>
                  <a:lnTo>
                    <a:pt x="428" y="8360"/>
                  </a:lnTo>
                  <a:lnTo>
                    <a:pt x="0" y="8360"/>
                  </a:lnTo>
                  <a:lnTo>
                    <a:pt x="0" y="9666"/>
                  </a:lnTo>
                  <a:lnTo>
                    <a:pt x="562" y="9666"/>
                  </a:lnTo>
                  <a:lnTo>
                    <a:pt x="562" y="12909"/>
                  </a:lnTo>
                  <a:lnTo>
                    <a:pt x="15767" y="12909"/>
                  </a:lnTo>
                  <a:lnTo>
                    <a:pt x="15767" y="9666"/>
                  </a:lnTo>
                  <a:lnTo>
                    <a:pt x="16350" y="9666"/>
                  </a:lnTo>
                  <a:lnTo>
                    <a:pt x="16350" y="83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1627200" y="1846440"/>
              <a:ext cx="777600" cy="155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1697040" y="1587600"/>
              <a:ext cx="225360" cy="100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1596960" y="1792440"/>
              <a:ext cx="839880" cy="38160"/>
            </a:xfrm>
            <a:prstGeom prst="rect">
              <a:avLst/>
            </a:prstGeom>
            <a:solidFill>
              <a:srgbClr val="ccecff"/>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79" name=""/>
            <p:cNvSpPr/>
            <p:nvPr/>
          </p:nvSpPr>
          <p:spPr>
            <a:xfrm>
              <a:off x="1625400" y="1703520"/>
              <a:ext cx="782640" cy="71280"/>
            </a:xfrm>
            <a:custGeom>
              <a:avLst/>
              <a:gdLst/>
              <a:ahLst/>
              <a:rect l="l" t="t" r="r" b="b"/>
              <a:pathLst>
                <a:path w="14791" h="1351">
                  <a:moveTo>
                    <a:pt x="14419" y="0"/>
                  </a:moveTo>
                  <a:lnTo>
                    <a:pt x="372" y="0"/>
                  </a:lnTo>
                  <a:lnTo>
                    <a:pt x="0" y="1351"/>
                  </a:lnTo>
                  <a:lnTo>
                    <a:pt x="14791" y="1351"/>
                  </a:lnTo>
                  <a:lnTo>
                    <a:pt x="14419" y="0"/>
                  </a:lnTo>
                  <a:close/>
                </a:path>
              </a:pathLst>
            </a:custGeom>
            <a:solidFill>
              <a:srgbClr val="ccecff"/>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80" name=""/>
            <p:cNvSpPr/>
            <p:nvPr/>
          </p:nvSpPr>
          <p:spPr>
            <a:xfrm>
              <a:off x="1674720" y="1363680"/>
              <a:ext cx="271440" cy="209520"/>
            </a:xfrm>
            <a:custGeom>
              <a:avLst/>
              <a:gdLst/>
              <a:ahLst/>
              <a:rect l="l" t="t" r="r" b="b"/>
              <a:pathLst>
                <a:path w="5120" h="3960">
                  <a:moveTo>
                    <a:pt x="0" y="3960"/>
                  </a:moveTo>
                  <a:lnTo>
                    <a:pt x="5120" y="3960"/>
                  </a:lnTo>
                  <a:lnTo>
                    <a:pt x="5120" y="3611"/>
                  </a:lnTo>
                  <a:lnTo>
                    <a:pt x="2560" y="0"/>
                  </a:lnTo>
                  <a:lnTo>
                    <a:pt x="0" y="3611"/>
                  </a:lnTo>
                  <a:lnTo>
                    <a:pt x="0" y="3960"/>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a:off x="2227320" y="1895760"/>
              <a:ext cx="161640" cy="75960"/>
            </a:xfrm>
            <a:custGeom>
              <a:avLst/>
              <a:gdLst/>
              <a:ahLst/>
              <a:rect l="l" t="t" r="r" b="b"/>
              <a:pathLst>
                <a:path w="3044" h="1420">
                  <a:moveTo>
                    <a:pt x="3044" y="1401"/>
                  </a:moveTo>
                  <a:lnTo>
                    <a:pt x="0" y="1420"/>
                  </a:lnTo>
                  <a:lnTo>
                    <a:pt x="0" y="0"/>
                  </a:lnTo>
                  <a:lnTo>
                    <a:pt x="3044" y="19"/>
                  </a:lnTo>
                  <a:lnTo>
                    <a:pt x="3044" y="1401"/>
                  </a:lnTo>
                  <a:close/>
                </a:path>
              </a:pathLst>
            </a:custGeom>
            <a:solidFill>
              <a:srgbClr val="99ccff"/>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82" name=""/>
            <p:cNvSpPr/>
            <p:nvPr/>
          </p:nvSpPr>
          <p:spPr>
            <a:xfrm>
              <a:off x="1644480" y="1895760"/>
              <a:ext cx="162000" cy="75960"/>
            </a:xfrm>
            <a:custGeom>
              <a:avLst/>
              <a:gdLst/>
              <a:ahLst/>
              <a:rect l="l" t="t" r="r" b="b"/>
              <a:pathLst>
                <a:path w="3044" h="1420">
                  <a:moveTo>
                    <a:pt x="3044" y="1420"/>
                  </a:moveTo>
                  <a:lnTo>
                    <a:pt x="0" y="1401"/>
                  </a:lnTo>
                  <a:lnTo>
                    <a:pt x="0" y="19"/>
                  </a:lnTo>
                  <a:lnTo>
                    <a:pt x="3044" y="0"/>
                  </a:lnTo>
                  <a:lnTo>
                    <a:pt x="3044" y="1420"/>
                  </a:lnTo>
                  <a:close/>
                </a:path>
              </a:pathLst>
            </a:custGeom>
            <a:solidFill>
              <a:srgbClr val="99ccff"/>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83" name=""/>
            <p:cNvSpPr/>
            <p:nvPr/>
          </p:nvSpPr>
          <p:spPr>
            <a:xfrm>
              <a:off x="1716120" y="1611360"/>
              <a:ext cx="98280" cy="25560"/>
            </a:xfrm>
            <a:prstGeom prst="rect">
              <a:avLst/>
            </a:prstGeom>
            <a:solidFill>
              <a:srgbClr val="99cc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384" name=""/>
            <p:cNvSpPr/>
            <p:nvPr/>
          </p:nvSpPr>
          <p:spPr>
            <a:xfrm>
              <a:off x="1822320" y="1865520"/>
              <a:ext cx="388800" cy="14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1833480" y="1879560"/>
              <a:ext cx="82440" cy="1224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1927080" y="1879560"/>
              <a:ext cx="82440" cy="1224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2022480" y="1879560"/>
              <a:ext cx="82440" cy="1224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2117520" y="1879560"/>
              <a:ext cx="82800" cy="1224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1758960" y="1720800"/>
              <a:ext cx="500040" cy="158760"/>
            </a:xfrm>
            <a:custGeom>
              <a:avLst/>
              <a:gdLst/>
              <a:ahLst/>
              <a:rect l="l" t="t" r="r" b="b"/>
              <a:pathLst>
                <a:path w="9462" h="2993">
                  <a:moveTo>
                    <a:pt x="0" y="1616"/>
                  </a:moveTo>
                  <a:lnTo>
                    <a:pt x="0" y="2993"/>
                  </a:lnTo>
                  <a:lnTo>
                    <a:pt x="9462" y="2993"/>
                  </a:lnTo>
                  <a:lnTo>
                    <a:pt x="9462" y="1616"/>
                  </a:lnTo>
                  <a:lnTo>
                    <a:pt x="7666" y="1616"/>
                  </a:lnTo>
                  <a:lnTo>
                    <a:pt x="7643" y="1529"/>
                  </a:lnTo>
                  <a:lnTo>
                    <a:pt x="7614" y="1445"/>
                  </a:lnTo>
                  <a:lnTo>
                    <a:pt x="7580" y="1361"/>
                  </a:lnTo>
                  <a:lnTo>
                    <a:pt x="7540" y="1279"/>
                  </a:lnTo>
                  <a:lnTo>
                    <a:pt x="7494" y="1199"/>
                  </a:lnTo>
                  <a:lnTo>
                    <a:pt x="7443" y="1122"/>
                  </a:lnTo>
                  <a:lnTo>
                    <a:pt x="7387" y="1046"/>
                  </a:lnTo>
                  <a:lnTo>
                    <a:pt x="7325" y="971"/>
                  </a:lnTo>
                  <a:lnTo>
                    <a:pt x="7259" y="900"/>
                  </a:lnTo>
                  <a:lnTo>
                    <a:pt x="7188" y="829"/>
                  </a:lnTo>
                  <a:lnTo>
                    <a:pt x="7113" y="762"/>
                  </a:lnTo>
                  <a:lnTo>
                    <a:pt x="7032" y="696"/>
                  </a:lnTo>
                  <a:lnTo>
                    <a:pt x="6947" y="634"/>
                  </a:lnTo>
                  <a:lnTo>
                    <a:pt x="6858" y="572"/>
                  </a:lnTo>
                  <a:lnTo>
                    <a:pt x="6765" y="515"/>
                  </a:lnTo>
                  <a:lnTo>
                    <a:pt x="6668" y="460"/>
                  </a:lnTo>
                  <a:lnTo>
                    <a:pt x="6567" y="407"/>
                  </a:lnTo>
                  <a:lnTo>
                    <a:pt x="6462" y="357"/>
                  </a:lnTo>
                  <a:lnTo>
                    <a:pt x="6353" y="311"/>
                  </a:lnTo>
                  <a:lnTo>
                    <a:pt x="6242" y="267"/>
                  </a:lnTo>
                  <a:lnTo>
                    <a:pt x="6127" y="226"/>
                  </a:lnTo>
                  <a:lnTo>
                    <a:pt x="6008" y="188"/>
                  </a:lnTo>
                  <a:lnTo>
                    <a:pt x="5886" y="153"/>
                  </a:lnTo>
                  <a:lnTo>
                    <a:pt x="5762" y="121"/>
                  </a:lnTo>
                  <a:lnTo>
                    <a:pt x="5635" y="94"/>
                  </a:lnTo>
                  <a:lnTo>
                    <a:pt x="5505" y="69"/>
                  </a:lnTo>
                  <a:lnTo>
                    <a:pt x="5372" y="49"/>
                  </a:lnTo>
                  <a:lnTo>
                    <a:pt x="5238" y="31"/>
                  </a:lnTo>
                  <a:lnTo>
                    <a:pt x="5101" y="17"/>
                  </a:lnTo>
                  <a:lnTo>
                    <a:pt x="4962" y="8"/>
                  </a:lnTo>
                  <a:lnTo>
                    <a:pt x="4821" y="2"/>
                  </a:lnTo>
                  <a:lnTo>
                    <a:pt x="4679" y="0"/>
                  </a:lnTo>
                  <a:lnTo>
                    <a:pt x="4536" y="2"/>
                  </a:lnTo>
                  <a:lnTo>
                    <a:pt x="4395" y="8"/>
                  </a:lnTo>
                  <a:lnTo>
                    <a:pt x="4256" y="17"/>
                  </a:lnTo>
                  <a:lnTo>
                    <a:pt x="4119" y="31"/>
                  </a:lnTo>
                  <a:lnTo>
                    <a:pt x="3984" y="49"/>
                  </a:lnTo>
                  <a:lnTo>
                    <a:pt x="3851" y="69"/>
                  </a:lnTo>
                  <a:lnTo>
                    <a:pt x="3721" y="94"/>
                  </a:lnTo>
                  <a:lnTo>
                    <a:pt x="3594" y="121"/>
                  </a:lnTo>
                  <a:lnTo>
                    <a:pt x="3470" y="153"/>
                  </a:lnTo>
                  <a:lnTo>
                    <a:pt x="3348" y="188"/>
                  </a:lnTo>
                  <a:lnTo>
                    <a:pt x="3230" y="226"/>
                  </a:lnTo>
                  <a:lnTo>
                    <a:pt x="3114" y="267"/>
                  </a:lnTo>
                  <a:lnTo>
                    <a:pt x="3003" y="311"/>
                  </a:lnTo>
                  <a:lnTo>
                    <a:pt x="2894" y="357"/>
                  </a:lnTo>
                  <a:lnTo>
                    <a:pt x="2789" y="407"/>
                  </a:lnTo>
                  <a:lnTo>
                    <a:pt x="2688" y="460"/>
                  </a:lnTo>
                  <a:lnTo>
                    <a:pt x="2591" y="515"/>
                  </a:lnTo>
                  <a:lnTo>
                    <a:pt x="2498" y="572"/>
                  </a:lnTo>
                  <a:lnTo>
                    <a:pt x="2409" y="634"/>
                  </a:lnTo>
                  <a:lnTo>
                    <a:pt x="2324" y="696"/>
                  </a:lnTo>
                  <a:lnTo>
                    <a:pt x="2243" y="762"/>
                  </a:lnTo>
                  <a:lnTo>
                    <a:pt x="2168" y="829"/>
                  </a:lnTo>
                  <a:lnTo>
                    <a:pt x="2096" y="900"/>
                  </a:lnTo>
                  <a:lnTo>
                    <a:pt x="2031" y="971"/>
                  </a:lnTo>
                  <a:lnTo>
                    <a:pt x="1970" y="1046"/>
                  </a:lnTo>
                  <a:lnTo>
                    <a:pt x="1913" y="1122"/>
                  </a:lnTo>
                  <a:lnTo>
                    <a:pt x="1862" y="1199"/>
                  </a:lnTo>
                  <a:lnTo>
                    <a:pt x="1816" y="1279"/>
                  </a:lnTo>
                  <a:lnTo>
                    <a:pt x="1777" y="1361"/>
                  </a:lnTo>
                  <a:lnTo>
                    <a:pt x="1742" y="1445"/>
                  </a:lnTo>
                  <a:lnTo>
                    <a:pt x="1713" y="1529"/>
                  </a:lnTo>
                  <a:lnTo>
                    <a:pt x="1691" y="1616"/>
                  </a:lnTo>
                  <a:lnTo>
                    <a:pt x="0" y="16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1771560" y="1737000"/>
              <a:ext cx="471600" cy="128520"/>
            </a:xfrm>
            <a:custGeom>
              <a:avLst/>
              <a:gdLst/>
              <a:ahLst/>
              <a:rect l="l" t="t" r="r" b="b"/>
              <a:pathLst>
                <a:path w="8902" h="2434">
                  <a:moveTo>
                    <a:pt x="8902" y="1616"/>
                  </a:moveTo>
                  <a:lnTo>
                    <a:pt x="8902" y="2434"/>
                  </a:lnTo>
                  <a:lnTo>
                    <a:pt x="0" y="2434"/>
                  </a:lnTo>
                  <a:lnTo>
                    <a:pt x="0" y="1616"/>
                  </a:lnTo>
                  <a:lnTo>
                    <a:pt x="1639" y="1616"/>
                  </a:lnTo>
                  <a:lnTo>
                    <a:pt x="1653" y="1492"/>
                  </a:lnTo>
                  <a:lnTo>
                    <a:pt x="1667" y="1415"/>
                  </a:lnTo>
                  <a:lnTo>
                    <a:pt x="1685" y="1338"/>
                  </a:lnTo>
                  <a:lnTo>
                    <a:pt x="1711" y="1262"/>
                  </a:lnTo>
                  <a:lnTo>
                    <a:pt x="1742" y="1189"/>
                  </a:lnTo>
                  <a:lnTo>
                    <a:pt x="1779" y="1116"/>
                  </a:lnTo>
                  <a:lnTo>
                    <a:pt x="1822" y="1044"/>
                  </a:lnTo>
                  <a:lnTo>
                    <a:pt x="1870" y="975"/>
                  </a:lnTo>
                  <a:lnTo>
                    <a:pt x="1923" y="906"/>
                  </a:lnTo>
                  <a:lnTo>
                    <a:pt x="1982" y="840"/>
                  </a:lnTo>
                  <a:lnTo>
                    <a:pt x="2046" y="775"/>
                  </a:lnTo>
                  <a:lnTo>
                    <a:pt x="2114" y="713"/>
                  </a:lnTo>
                  <a:lnTo>
                    <a:pt x="2188" y="653"/>
                  </a:lnTo>
                  <a:lnTo>
                    <a:pt x="2265" y="594"/>
                  </a:lnTo>
                  <a:lnTo>
                    <a:pt x="2348" y="538"/>
                  </a:lnTo>
                  <a:lnTo>
                    <a:pt x="2434" y="484"/>
                  </a:lnTo>
                  <a:lnTo>
                    <a:pt x="2525" y="433"/>
                  </a:lnTo>
                  <a:lnTo>
                    <a:pt x="2619" y="384"/>
                  </a:lnTo>
                  <a:lnTo>
                    <a:pt x="2718" y="337"/>
                  </a:lnTo>
                  <a:lnTo>
                    <a:pt x="2819" y="293"/>
                  </a:lnTo>
                  <a:lnTo>
                    <a:pt x="2925" y="252"/>
                  </a:lnTo>
                  <a:lnTo>
                    <a:pt x="3033" y="213"/>
                  </a:lnTo>
                  <a:lnTo>
                    <a:pt x="3145" y="177"/>
                  </a:lnTo>
                  <a:lnTo>
                    <a:pt x="3260" y="145"/>
                  </a:lnTo>
                  <a:lnTo>
                    <a:pt x="3377" y="116"/>
                  </a:lnTo>
                  <a:lnTo>
                    <a:pt x="3497" y="89"/>
                  </a:lnTo>
                  <a:lnTo>
                    <a:pt x="3619" y="66"/>
                  </a:lnTo>
                  <a:lnTo>
                    <a:pt x="3744" y="46"/>
                  </a:lnTo>
                  <a:lnTo>
                    <a:pt x="3872" y="30"/>
                  </a:lnTo>
                  <a:lnTo>
                    <a:pt x="4001" y="17"/>
                  </a:lnTo>
                  <a:lnTo>
                    <a:pt x="4131" y="7"/>
                  </a:lnTo>
                  <a:lnTo>
                    <a:pt x="4263" y="1"/>
                  </a:lnTo>
                  <a:lnTo>
                    <a:pt x="4398" y="0"/>
                  </a:lnTo>
                  <a:lnTo>
                    <a:pt x="4532" y="1"/>
                  </a:lnTo>
                  <a:lnTo>
                    <a:pt x="4664" y="7"/>
                  </a:lnTo>
                  <a:lnTo>
                    <a:pt x="4795" y="17"/>
                  </a:lnTo>
                  <a:lnTo>
                    <a:pt x="4923" y="30"/>
                  </a:lnTo>
                  <a:lnTo>
                    <a:pt x="5051" y="46"/>
                  </a:lnTo>
                  <a:lnTo>
                    <a:pt x="5176" y="66"/>
                  </a:lnTo>
                  <a:lnTo>
                    <a:pt x="5298" y="89"/>
                  </a:lnTo>
                  <a:lnTo>
                    <a:pt x="5418" y="116"/>
                  </a:lnTo>
                  <a:lnTo>
                    <a:pt x="5535" y="145"/>
                  </a:lnTo>
                  <a:lnTo>
                    <a:pt x="5650" y="177"/>
                  </a:lnTo>
                  <a:lnTo>
                    <a:pt x="5761" y="213"/>
                  </a:lnTo>
                  <a:lnTo>
                    <a:pt x="5871" y="252"/>
                  </a:lnTo>
                  <a:lnTo>
                    <a:pt x="5976" y="293"/>
                  </a:lnTo>
                  <a:lnTo>
                    <a:pt x="6077" y="337"/>
                  </a:lnTo>
                  <a:lnTo>
                    <a:pt x="6175" y="384"/>
                  </a:lnTo>
                  <a:lnTo>
                    <a:pt x="6270" y="433"/>
                  </a:lnTo>
                  <a:lnTo>
                    <a:pt x="6361" y="484"/>
                  </a:lnTo>
                  <a:lnTo>
                    <a:pt x="6447" y="538"/>
                  </a:lnTo>
                  <a:lnTo>
                    <a:pt x="6530" y="594"/>
                  </a:lnTo>
                  <a:lnTo>
                    <a:pt x="6607" y="653"/>
                  </a:lnTo>
                  <a:lnTo>
                    <a:pt x="6681" y="713"/>
                  </a:lnTo>
                  <a:lnTo>
                    <a:pt x="6749" y="775"/>
                  </a:lnTo>
                  <a:lnTo>
                    <a:pt x="6813" y="840"/>
                  </a:lnTo>
                  <a:lnTo>
                    <a:pt x="6872" y="906"/>
                  </a:lnTo>
                  <a:lnTo>
                    <a:pt x="6925" y="975"/>
                  </a:lnTo>
                  <a:lnTo>
                    <a:pt x="6973" y="1044"/>
                  </a:lnTo>
                  <a:lnTo>
                    <a:pt x="7016" y="1116"/>
                  </a:lnTo>
                  <a:lnTo>
                    <a:pt x="7053" y="1189"/>
                  </a:lnTo>
                  <a:lnTo>
                    <a:pt x="7085" y="1262"/>
                  </a:lnTo>
                  <a:lnTo>
                    <a:pt x="7109" y="1338"/>
                  </a:lnTo>
                  <a:lnTo>
                    <a:pt x="7129" y="1415"/>
                  </a:lnTo>
                  <a:lnTo>
                    <a:pt x="7142" y="1492"/>
                  </a:lnTo>
                  <a:lnTo>
                    <a:pt x="7156" y="1616"/>
                  </a:lnTo>
                  <a:lnTo>
                    <a:pt x="8902" y="1616"/>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1917720" y="1757520"/>
              <a:ext cx="163440" cy="93600"/>
            </a:xfrm>
            <a:custGeom>
              <a:avLst/>
              <a:gdLst/>
              <a:ahLst/>
              <a:rect l="l" t="t" r="r" b="b"/>
              <a:pathLst>
                <a:path w="3069" h="1774">
                  <a:moveTo>
                    <a:pt x="3068" y="1076"/>
                  </a:moveTo>
                  <a:lnTo>
                    <a:pt x="3067" y="1070"/>
                  </a:lnTo>
                  <a:lnTo>
                    <a:pt x="3066" y="1064"/>
                  </a:lnTo>
                  <a:lnTo>
                    <a:pt x="3065" y="1058"/>
                  </a:lnTo>
                  <a:lnTo>
                    <a:pt x="3064" y="1052"/>
                  </a:lnTo>
                  <a:lnTo>
                    <a:pt x="3061" y="1046"/>
                  </a:lnTo>
                  <a:lnTo>
                    <a:pt x="3059" y="1040"/>
                  </a:lnTo>
                  <a:lnTo>
                    <a:pt x="3054" y="1035"/>
                  </a:lnTo>
                  <a:lnTo>
                    <a:pt x="3050" y="1029"/>
                  </a:lnTo>
                  <a:lnTo>
                    <a:pt x="3050" y="1028"/>
                  </a:lnTo>
                  <a:lnTo>
                    <a:pt x="3049" y="1028"/>
                  </a:lnTo>
                  <a:lnTo>
                    <a:pt x="3049" y="1027"/>
                  </a:lnTo>
                  <a:lnTo>
                    <a:pt x="3048" y="1027"/>
                  </a:lnTo>
                  <a:lnTo>
                    <a:pt x="3048" y="1026"/>
                  </a:lnTo>
                  <a:lnTo>
                    <a:pt x="3047" y="1026"/>
                  </a:lnTo>
                  <a:lnTo>
                    <a:pt x="3046" y="1025"/>
                  </a:lnTo>
                  <a:lnTo>
                    <a:pt x="3046" y="1025"/>
                  </a:lnTo>
                  <a:lnTo>
                    <a:pt x="3037" y="1012"/>
                  </a:lnTo>
                  <a:lnTo>
                    <a:pt x="3026" y="1000"/>
                  </a:lnTo>
                  <a:lnTo>
                    <a:pt x="3014" y="988"/>
                  </a:lnTo>
                  <a:lnTo>
                    <a:pt x="2999" y="977"/>
                  </a:lnTo>
                  <a:lnTo>
                    <a:pt x="2984" y="964"/>
                  </a:lnTo>
                  <a:lnTo>
                    <a:pt x="2967" y="952"/>
                  </a:lnTo>
                  <a:lnTo>
                    <a:pt x="2949" y="940"/>
                  </a:lnTo>
                  <a:lnTo>
                    <a:pt x="2929" y="927"/>
                  </a:lnTo>
                  <a:lnTo>
                    <a:pt x="2908" y="914"/>
                  </a:lnTo>
                  <a:lnTo>
                    <a:pt x="2886" y="902"/>
                  </a:lnTo>
                  <a:lnTo>
                    <a:pt x="2862" y="890"/>
                  </a:lnTo>
                  <a:lnTo>
                    <a:pt x="2838" y="877"/>
                  </a:lnTo>
                  <a:lnTo>
                    <a:pt x="2784" y="853"/>
                  </a:lnTo>
                  <a:lnTo>
                    <a:pt x="2725" y="828"/>
                  </a:lnTo>
                  <a:lnTo>
                    <a:pt x="2662" y="804"/>
                  </a:lnTo>
                  <a:lnTo>
                    <a:pt x="2595" y="780"/>
                  </a:lnTo>
                  <a:lnTo>
                    <a:pt x="2523" y="757"/>
                  </a:lnTo>
                  <a:lnTo>
                    <a:pt x="2447" y="733"/>
                  </a:lnTo>
                  <a:lnTo>
                    <a:pt x="2368" y="711"/>
                  </a:lnTo>
                  <a:lnTo>
                    <a:pt x="2284" y="688"/>
                  </a:lnTo>
                  <a:lnTo>
                    <a:pt x="2197" y="668"/>
                  </a:lnTo>
                  <a:lnTo>
                    <a:pt x="2107" y="647"/>
                  </a:lnTo>
                  <a:lnTo>
                    <a:pt x="2162" y="631"/>
                  </a:lnTo>
                  <a:lnTo>
                    <a:pt x="2217" y="615"/>
                  </a:lnTo>
                  <a:lnTo>
                    <a:pt x="2270" y="599"/>
                  </a:lnTo>
                  <a:lnTo>
                    <a:pt x="2321" y="582"/>
                  </a:lnTo>
                  <a:lnTo>
                    <a:pt x="2370" y="566"/>
                  </a:lnTo>
                  <a:lnTo>
                    <a:pt x="2419" y="549"/>
                  </a:lnTo>
                  <a:lnTo>
                    <a:pt x="2465" y="532"/>
                  </a:lnTo>
                  <a:lnTo>
                    <a:pt x="2510" y="514"/>
                  </a:lnTo>
                  <a:lnTo>
                    <a:pt x="2553" y="497"/>
                  </a:lnTo>
                  <a:lnTo>
                    <a:pt x="2595" y="481"/>
                  </a:lnTo>
                  <a:lnTo>
                    <a:pt x="2634" y="463"/>
                  </a:lnTo>
                  <a:lnTo>
                    <a:pt x="2672" y="445"/>
                  </a:lnTo>
                  <a:lnTo>
                    <a:pt x="2708" y="428"/>
                  </a:lnTo>
                  <a:lnTo>
                    <a:pt x="2742" y="410"/>
                  </a:lnTo>
                  <a:lnTo>
                    <a:pt x="2773" y="393"/>
                  </a:lnTo>
                  <a:lnTo>
                    <a:pt x="2804" y="375"/>
                  </a:lnTo>
                  <a:lnTo>
                    <a:pt x="2832" y="359"/>
                  </a:lnTo>
                  <a:lnTo>
                    <a:pt x="2857" y="342"/>
                  </a:lnTo>
                  <a:lnTo>
                    <a:pt x="2881" y="324"/>
                  </a:lnTo>
                  <a:lnTo>
                    <a:pt x="2902" y="308"/>
                  </a:lnTo>
                  <a:lnTo>
                    <a:pt x="2922" y="290"/>
                  </a:lnTo>
                  <a:lnTo>
                    <a:pt x="2938" y="274"/>
                  </a:lnTo>
                  <a:lnTo>
                    <a:pt x="2952" y="258"/>
                  </a:lnTo>
                  <a:lnTo>
                    <a:pt x="2965" y="242"/>
                  </a:lnTo>
                  <a:lnTo>
                    <a:pt x="2974" y="226"/>
                  </a:lnTo>
                  <a:lnTo>
                    <a:pt x="2981" y="211"/>
                  </a:lnTo>
                  <a:lnTo>
                    <a:pt x="2986" y="195"/>
                  </a:lnTo>
                  <a:lnTo>
                    <a:pt x="2988" y="180"/>
                  </a:lnTo>
                  <a:lnTo>
                    <a:pt x="2987" y="166"/>
                  </a:lnTo>
                  <a:lnTo>
                    <a:pt x="2984" y="151"/>
                  </a:lnTo>
                  <a:lnTo>
                    <a:pt x="2978" y="138"/>
                  </a:lnTo>
                  <a:lnTo>
                    <a:pt x="2969" y="125"/>
                  </a:lnTo>
                  <a:lnTo>
                    <a:pt x="2955" y="109"/>
                  </a:lnTo>
                  <a:lnTo>
                    <a:pt x="2937" y="95"/>
                  </a:lnTo>
                  <a:lnTo>
                    <a:pt x="2916" y="82"/>
                  </a:lnTo>
                  <a:lnTo>
                    <a:pt x="2892" y="69"/>
                  </a:lnTo>
                  <a:lnTo>
                    <a:pt x="2863" y="58"/>
                  </a:lnTo>
                  <a:lnTo>
                    <a:pt x="2833" y="48"/>
                  </a:lnTo>
                  <a:lnTo>
                    <a:pt x="2799" y="39"/>
                  </a:lnTo>
                  <a:lnTo>
                    <a:pt x="2761" y="31"/>
                  </a:lnTo>
                  <a:lnTo>
                    <a:pt x="2721" y="23"/>
                  </a:lnTo>
                  <a:lnTo>
                    <a:pt x="2678" y="16"/>
                  </a:lnTo>
                  <a:lnTo>
                    <a:pt x="2633" y="11"/>
                  </a:lnTo>
                  <a:lnTo>
                    <a:pt x="2585" y="7"/>
                  </a:lnTo>
                  <a:lnTo>
                    <a:pt x="2535" y="4"/>
                  </a:lnTo>
                  <a:lnTo>
                    <a:pt x="2482" y="2"/>
                  </a:lnTo>
                  <a:lnTo>
                    <a:pt x="2428" y="0"/>
                  </a:lnTo>
                  <a:lnTo>
                    <a:pt x="2371" y="0"/>
                  </a:lnTo>
                  <a:lnTo>
                    <a:pt x="2312" y="1"/>
                  </a:lnTo>
                  <a:lnTo>
                    <a:pt x="2250" y="2"/>
                  </a:lnTo>
                  <a:lnTo>
                    <a:pt x="2188" y="5"/>
                  </a:lnTo>
                  <a:lnTo>
                    <a:pt x="2124" y="9"/>
                  </a:lnTo>
                  <a:lnTo>
                    <a:pt x="2057" y="13"/>
                  </a:lnTo>
                  <a:lnTo>
                    <a:pt x="1990" y="19"/>
                  </a:lnTo>
                  <a:lnTo>
                    <a:pt x="1921" y="26"/>
                  </a:lnTo>
                  <a:lnTo>
                    <a:pt x="1852" y="34"/>
                  </a:lnTo>
                  <a:lnTo>
                    <a:pt x="1780" y="42"/>
                  </a:lnTo>
                  <a:lnTo>
                    <a:pt x="1708" y="52"/>
                  </a:lnTo>
                  <a:lnTo>
                    <a:pt x="1635" y="62"/>
                  </a:lnTo>
                  <a:lnTo>
                    <a:pt x="1560" y="74"/>
                  </a:lnTo>
                  <a:lnTo>
                    <a:pt x="1486" y="87"/>
                  </a:lnTo>
                  <a:lnTo>
                    <a:pt x="1410" y="100"/>
                  </a:lnTo>
                  <a:lnTo>
                    <a:pt x="1335" y="114"/>
                  </a:lnTo>
                  <a:lnTo>
                    <a:pt x="1259" y="131"/>
                  </a:lnTo>
                  <a:lnTo>
                    <a:pt x="1183" y="147"/>
                  </a:lnTo>
                  <a:lnTo>
                    <a:pt x="1109" y="164"/>
                  </a:lnTo>
                  <a:lnTo>
                    <a:pt x="1036" y="181"/>
                  </a:lnTo>
                  <a:lnTo>
                    <a:pt x="966" y="199"/>
                  </a:lnTo>
                  <a:lnTo>
                    <a:pt x="897" y="218"/>
                  </a:lnTo>
                  <a:lnTo>
                    <a:pt x="831" y="236"/>
                  </a:lnTo>
                  <a:lnTo>
                    <a:pt x="765" y="256"/>
                  </a:lnTo>
                  <a:lnTo>
                    <a:pt x="703" y="275"/>
                  </a:lnTo>
                  <a:lnTo>
                    <a:pt x="642" y="294"/>
                  </a:lnTo>
                  <a:lnTo>
                    <a:pt x="584" y="315"/>
                  </a:lnTo>
                  <a:lnTo>
                    <a:pt x="527" y="335"/>
                  </a:lnTo>
                  <a:lnTo>
                    <a:pt x="474" y="356"/>
                  </a:lnTo>
                  <a:lnTo>
                    <a:pt x="422" y="376"/>
                  </a:lnTo>
                  <a:lnTo>
                    <a:pt x="374" y="397"/>
                  </a:lnTo>
                  <a:lnTo>
                    <a:pt x="328" y="418"/>
                  </a:lnTo>
                  <a:lnTo>
                    <a:pt x="284" y="439"/>
                  </a:lnTo>
                  <a:lnTo>
                    <a:pt x="243" y="460"/>
                  </a:lnTo>
                  <a:lnTo>
                    <a:pt x="205" y="481"/>
                  </a:lnTo>
                  <a:lnTo>
                    <a:pt x="171" y="501"/>
                  </a:lnTo>
                  <a:lnTo>
                    <a:pt x="139" y="522"/>
                  </a:lnTo>
                  <a:lnTo>
                    <a:pt x="110" y="542"/>
                  </a:lnTo>
                  <a:lnTo>
                    <a:pt x="85" y="562"/>
                  </a:lnTo>
                  <a:lnTo>
                    <a:pt x="62" y="583"/>
                  </a:lnTo>
                  <a:lnTo>
                    <a:pt x="43" y="602"/>
                  </a:lnTo>
                  <a:lnTo>
                    <a:pt x="27" y="622"/>
                  </a:lnTo>
                  <a:lnTo>
                    <a:pt x="14" y="640"/>
                  </a:lnTo>
                  <a:lnTo>
                    <a:pt x="6" y="660"/>
                  </a:lnTo>
                  <a:lnTo>
                    <a:pt x="1" y="677"/>
                  </a:lnTo>
                  <a:lnTo>
                    <a:pt x="0" y="695"/>
                  </a:lnTo>
                  <a:lnTo>
                    <a:pt x="2" y="713"/>
                  </a:lnTo>
                  <a:lnTo>
                    <a:pt x="8" y="729"/>
                  </a:lnTo>
                  <a:lnTo>
                    <a:pt x="18" y="746"/>
                  </a:lnTo>
                  <a:lnTo>
                    <a:pt x="19" y="746"/>
                  </a:lnTo>
                  <a:lnTo>
                    <a:pt x="19" y="747"/>
                  </a:lnTo>
                  <a:lnTo>
                    <a:pt x="20" y="748"/>
                  </a:lnTo>
                  <a:lnTo>
                    <a:pt x="22" y="748"/>
                  </a:lnTo>
                  <a:lnTo>
                    <a:pt x="23" y="749"/>
                  </a:lnTo>
                  <a:lnTo>
                    <a:pt x="24" y="750"/>
                  </a:lnTo>
                  <a:lnTo>
                    <a:pt x="24" y="751"/>
                  </a:lnTo>
                  <a:lnTo>
                    <a:pt x="25" y="751"/>
                  </a:lnTo>
                  <a:lnTo>
                    <a:pt x="34" y="763"/>
                  </a:lnTo>
                  <a:lnTo>
                    <a:pt x="45" y="775"/>
                  </a:lnTo>
                  <a:lnTo>
                    <a:pt x="57" y="787"/>
                  </a:lnTo>
                  <a:lnTo>
                    <a:pt x="71" y="799"/>
                  </a:lnTo>
                  <a:lnTo>
                    <a:pt x="86" y="811"/>
                  </a:lnTo>
                  <a:lnTo>
                    <a:pt x="102" y="823"/>
                  </a:lnTo>
                  <a:lnTo>
                    <a:pt x="121" y="836"/>
                  </a:lnTo>
                  <a:lnTo>
                    <a:pt x="140" y="848"/>
                  </a:lnTo>
                  <a:lnTo>
                    <a:pt x="160" y="861"/>
                  </a:lnTo>
                  <a:lnTo>
                    <a:pt x="183" y="873"/>
                  </a:lnTo>
                  <a:lnTo>
                    <a:pt x="206" y="886"/>
                  </a:lnTo>
                  <a:lnTo>
                    <a:pt x="231" y="898"/>
                  </a:lnTo>
                  <a:lnTo>
                    <a:pt x="284" y="922"/>
                  </a:lnTo>
                  <a:lnTo>
                    <a:pt x="342" y="947"/>
                  </a:lnTo>
                  <a:lnTo>
                    <a:pt x="405" y="972"/>
                  </a:lnTo>
                  <a:lnTo>
                    <a:pt x="472" y="995"/>
                  </a:lnTo>
                  <a:lnTo>
                    <a:pt x="544" y="1019"/>
                  </a:lnTo>
                  <a:lnTo>
                    <a:pt x="619" y="1042"/>
                  </a:lnTo>
                  <a:lnTo>
                    <a:pt x="698" y="1065"/>
                  </a:lnTo>
                  <a:lnTo>
                    <a:pt x="782" y="1086"/>
                  </a:lnTo>
                  <a:lnTo>
                    <a:pt x="869" y="1108"/>
                  </a:lnTo>
                  <a:lnTo>
                    <a:pt x="959" y="1128"/>
                  </a:lnTo>
                  <a:lnTo>
                    <a:pt x="902" y="1144"/>
                  </a:lnTo>
                  <a:lnTo>
                    <a:pt x="849" y="1160"/>
                  </a:lnTo>
                  <a:lnTo>
                    <a:pt x="796" y="1176"/>
                  </a:lnTo>
                  <a:lnTo>
                    <a:pt x="745" y="1192"/>
                  </a:lnTo>
                  <a:lnTo>
                    <a:pt x="696" y="1210"/>
                  </a:lnTo>
                  <a:lnTo>
                    <a:pt x="648" y="1226"/>
                  </a:lnTo>
                  <a:lnTo>
                    <a:pt x="602" y="1244"/>
                  </a:lnTo>
                  <a:lnTo>
                    <a:pt x="557" y="1261"/>
                  </a:lnTo>
                  <a:lnTo>
                    <a:pt x="514" y="1277"/>
                  </a:lnTo>
                  <a:lnTo>
                    <a:pt x="473" y="1295"/>
                  </a:lnTo>
                  <a:lnTo>
                    <a:pt x="433" y="1312"/>
                  </a:lnTo>
                  <a:lnTo>
                    <a:pt x="396" y="1329"/>
                  </a:lnTo>
                  <a:lnTo>
                    <a:pt x="360" y="1347"/>
                  </a:lnTo>
                  <a:lnTo>
                    <a:pt x="326" y="1364"/>
                  </a:lnTo>
                  <a:lnTo>
                    <a:pt x="294" y="1382"/>
                  </a:lnTo>
                  <a:lnTo>
                    <a:pt x="265" y="1399"/>
                  </a:lnTo>
                  <a:lnTo>
                    <a:pt x="237" y="1416"/>
                  </a:lnTo>
                  <a:lnTo>
                    <a:pt x="212" y="1434"/>
                  </a:lnTo>
                  <a:lnTo>
                    <a:pt x="188" y="1450"/>
                  </a:lnTo>
                  <a:lnTo>
                    <a:pt x="167" y="1468"/>
                  </a:lnTo>
                  <a:lnTo>
                    <a:pt x="147" y="1484"/>
                  </a:lnTo>
                  <a:lnTo>
                    <a:pt x="131" y="1500"/>
                  </a:lnTo>
                  <a:lnTo>
                    <a:pt x="117" y="1517"/>
                  </a:lnTo>
                  <a:lnTo>
                    <a:pt x="104" y="1532"/>
                  </a:lnTo>
                  <a:lnTo>
                    <a:pt x="95" y="1548"/>
                  </a:lnTo>
                  <a:lnTo>
                    <a:pt x="88" y="1564"/>
                  </a:lnTo>
                  <a:lnTo>
                    <a:pt x="84" y="1579"/>
                  </a:lnTo>
                  <a:lnTo>
                    <a:pt x="82" y="1593"/>
                  </a:lnTo>
                  <a:lnTo>
                    <a:pt x="82" y="1609"/>
                  </a:lnTo>
                  <a:lnTo>
                    <a:pt x="86" y="1623"/>
                  </a:lnTo>
                  <a:lnTo>
                    <a:pt x="92" y="1636"/>
                  </a:lnTo>
                  <a:lnTo>
                    <a:pt x="100" y="1650"/>
                  </a:lnTo>
                  <a:lnTo>
                    <a:pt x="115" y="1665"/>
                  </a:lnTo>
                  <a:lnTo>
                    <a:pt x="132" y="1679"/>
                  </a:lnTo>
                  <a:lnTo>
                    <a:pt x="153" y="1693"/>
                  </a:lnTo>
                  <a:lnTo>
                    <a:pt x="178" y="1705"/>
                  </a:lnTo>
                  <a:lnTo>
                    <a:pt x="205" y="1716"/>
                  </a:lnTo>
                  <a:lnTo>
                    <a:pt x="236" y="1726"/>
                  </a:lnTo>
                  <a:lnTo>
                    <a:pt x="271" y="1736"/>
                  </a:lnTo>
                  <a:lnTo>
                    <a:pt x="308" y="1744"/>
                  </a:lnTo>
                  <a:lnTo>
                    <a:pt x="347" y="1751"/>
                  </a:lnTo>
                  <a:lnTo>
                    <a:pt x="390" y="1757"/>
                  </a:lnTo>
                  <a:lnTo>
                    <a:pt x="435" y="1762"/>
                  </a:lnTo>
                  <a:lnTo>
                    <a:pt x="483" y="1767"/>
                  </a:lnTo>
                  <a:lnTo>
                    <a:pt x="534" y="1770"/>
                  </a:lnTo>
                  <a:lnTo>
                    <a:pt x="587" y="1772"/>
                  </a:lnTo>
                  <a:lnTo>
                    <a:pt x="642" y="1773"/>
                  </a:lnTo>
                  <a:lnTo>
                    <a:pt x="699" y="1774"/>
                  </a:lnTo>
                  <a:lnTo>
                    <a:pt x="757" y="1773"/>
                  </a:lnTo>
                  <a:lnTo>
                    <a:pt x="819" y="1771"/>
                  </a:lnTo>
                  <a:lnTo>
                    <a:pt x="881" y="1769"/>
                  </a:lnTo>
                  <a:lnTo>
                    <a:pt x="945" y="1765"/>
                  </a:lnTo>
                  <a:lnTo>
                    <a:pt x="1012" y="1761"/>
                  </a:lnTo>
                  <a:lnTo>
                    <a:pt x="1079" y="1755"/>
                  </a:lnTo>
                  <a:lnTo>
                    <a:pt x="1148" y="1749"/>
                  </a:lnTo>
                  <a:lnTo>
                    <a:pt x="1218" y="1741"/>
                  </a:lnTo>
                  <a:lnTo>
                    <a:pt x="1290" y="1732"/>
                  </a:lnTo>
                  <a:lnTo>
                    <a:pt x="1361" y="1722"/>
                  </a:lnTo>
                  <a:lnTo>
                    <a:pt x="1435" y="1712"/>
                  </a:lnTo>
                  <a:lnTo>
                    <a:pt x="1508" y="1700"/>
                  </a:lnTo>
                  <a:lnTo>
                    <a:pt x="1583" y="1687"/>
                  </a:lnTo>
                  <a:lnTo>
                    <a:pt x="1659" y="1674"/>
                  </a:lnTo>
                  <a:lnTo>
                    <a:pt x="1734" y="1659"/>
                  </a:lnTo>
                  <a:lnTo>
                    <a:pt x="1811" y="1643"/>
                  </a:lnTo>
                  <a:lnTo>
                    <a:pt x="1872" y="1630"/>
                  </a:lnTo>
                  <a:lnTo>
                    <a:pt x="1933" y="1617"/>
                  </a:lnTo>
                  <a:lnTo>
                    <a:pt x="1993" y="1603"/>
                  </a:lnTo>
                  <a:lnTo>
                    <a:pt x="2051" y="1588"/>
                  </a:lnTo>
                  <a:lnTo>
                    <a:pt x="2108" y="1574"/>
                  </a:lnTo>
                  <a:lnTo>
                    <a:pt x="2164" y="1559"/>
                  </a:lnTo>
                  <a:lnTo>
                    <a:pt x="2220" y="1543"/>
                  </a:lnTo>
                  <a:lnTo>
                    <a:pt x="2273" y="1528"/>
                  </a:lnTo>
                  <a:lnTo>
                    <a:pt x="2325" y="1512"/>
                  </a:lnTo>
                  <a:lnTo>
                    <a:pt x="2376" y="1496"/>
                  </a:lnTo>
                  <a:lnTo>
                    <a:pt x="2425" y="1480"/>
                  </a:lnTo>
                  <a:lnTo>
                    <a:pt x="2473" y="1463"/>
                  </a:lnTo>
                  <a:lnTo>
                    <a:pt x="2519" y="1447"/>
                  </a:lnTo>
                  <a:lnTo>
                    <a:pt x="2564" y="1430"/>
                  </a:lnTo>
                  <a:lnTo>
                    <a:pt x="2607" y="1413"/>
                  </a:lnTo>
                  <a:lnTo>
                    <a:pt x="2649" y="1397"/>
                  </a:lnTo>
                  <a:lnTo>
                    <a:pt x="2689" y="1380"/>
                  </a:lnTo>
                  <a:lnTo>
                    <a:pt x="2726" y="1362"/>
                  </a:lnTo>
                  <a:lnTo>
                    <a:pt x="2763" y="1346"/>
                  </a:lnTo>
                  <a:lnTo>
                    <a:pt x="2798" y="1328"/>
                  </a:lnTo>
                  <a:lnTo>
                    <a:pt x="2831" y="1312"/>
                  </a:lnTo>
                  <a:lnTo>
                    <a:pt x="2861" y="1295"/>
                  </a:lnTo>
                  <a:lnTo>
                    <a:pt x="2890" y="1277"/>
                  </a:lnTo>
                  <a:lnTo>
                    <a:pt x="2916" y="1261"/>
                  </a:lnTo>
                  <a:lnTo>
                    <a:pt x="2941" y="1245"/>
                  </a:lnTo>
                  <a:lnTo>
                    <a:pt x="2965" y="1227"/>
                  </a:lnTo>
                  <a:lnTo>
                    <a:pt x="2985" y="1211"/>
                  </a:lnTo>
                  <a:lnTo>
                    <a:pt x="3003" y="1194"/>
                  </a:lnTo>
                  <a:lnTo>
                    <a:pt x="3020" y="1179"/>
                  </a:lnTo>
                  <a:lnTo>
                    <a:pt x="3034" y="1163"/>
                  </a:lnTo>
                  <a:lnTo>
                    <a:pt x="3045" y="1147"/>
                  </a:lnTo>
                  <a:lnTo>
                    <a:pt x="3055" y="1131"/>
                  </a:lnTo>
                  <a:lnTo>
                    <a:pt x="3055" y="1131"/>
                  </a:lnTo>
                  <a:lnTo>
                    <a:pt x="3056" y="1130"/>
                  </a:lnTo>
                  <a:lnTo>
                    <a:pt x="3056" y="1130"/>
                  </a:lnTo>
                  <a:lnTo>
                    <a:pt x="3058" y="1129"/>
                  </a:lnTo>
                  <a:lnTo>
                    <a:pt x="3058" y="1128"/>
                  </a:lnTo>
                  <a:lnTo>
                    <a:pt x="3059" y="1128"/>
                  </a:lnTo>
                  <a:lnTo>
                    <a:pt x="3060" y="1127"/>
                  </a:lnTo>
                  <a:lnTo>
                    <a:pt x="3060" y="1126"/>
                  </a:lnTo>
                  <a:lnTo>
                    <a:pt x="3063" y="1120"/>
                  </a:lnTo>
                  <a:lnTo>
                    <a:pt x="3065" y="1114"/>
                  </a:lnTo>
                  <a:lnTo>
                    <a:pt x="3067" y="1108"/>
                  </a:lnTo>
                  <a:lnTo>
                    <a:pt x="3068" y="1101"/>
                  </a:lnTo>
                  <a:lnTo>
                    <a:pt x="3069" y="1095"/>
                  </a:lnTo>
                  <a:lnTo>
                    <a:pt x="3069" y="1089"/>
                  </a:lnTo>
                  <a:lnTo>
                    <a:pt x="3069" y="1083"/>
                  </a:lnTo>
                  <a:lnTo>
                    <a:pt x="3068" y="1076"/>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1706400" y="1940040"/>
              <a:ext cx="71640" cy="1033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1703160" y="2038320"/>
              <a:ext cx="74880" cy="9720"/>
            </a:xfrm>
            <a:custGeom>
              <a:avLst/>
              <a:gdLst/>
              <a:ahLst/>
              <a:rect l="l" t="t" r="r" b="b"/>
              <a:pathLst>
                <a:path w="1404" h="162">
                  <a:moveTo>
                    <a:pt x="0" y="81"/>
                  </a:moveTo>
                  <a:lnTo>
                    <a:pt x="81" y="162"/>
                  </a:lnTo>
                  <a:lnTo>
                    <a:pt x="1404" y="162"/>
                  </a:lnTo>
                  <a:lnTo>
                    <a:pt x="1404" y="0"/>
                  </a:lnTo>
                  <a:lnTo>
                    <a:pt x="81" y="0"/>
                  </a:lnTo>
                  <a:lnTo>
                    <a:pt x="161" y="81"/>
                  </a:lnTo>
                  <a:lnTo>
                    <a:pt x="0" y="8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94" name=""/>
            <p:cNvSpPr/>
            <p:nvPr/>
          </p:nvSpPr>
          <p:spPr>
            <a:xfrm>
              <a:off x="1703160" y="1935360"/>
              <a:ext cx="7920" cy="108000"/>
            </a:xfrm>
            <a:custGeom>
              <a:avLst/>
              <a:gdLst/>
              <a:ahLst/>
              <a:rect l="l" t="t" r="r" b="b"/>
              <a:pathLst>
                <a:path w="161" h="2040">
                  <a:moveTo>
                    <a:pt x="81" y="0"/>
                  </a:moveTo>
                  <a:lnTo>
                    <a:pt x="0" y="80"/>
                  </a:lnTo>
                  <a:lnTo>
                    <a:pt x="0" y="2040"/>
                  </a:lnTo>
                  <a:lnTo>
                    <a:pt x="161" y="2040"/>
                  </a:lnTo>
                  <a:lnTo>
                    <a:pt x="161" y="80"/>
                  </a:lnTo>
                  <a:lnTo>
                    <a:pt x="81" y="161"/>
                  </a:lnTo>
                  <a:lnTo>
                    <a:pt x="8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1706400" y="1935360"/>
              <a:ext cx="74520" cy="7920"/>
            </a:xfrm>
            <a:custGeom>
              <a:avLst/>
              <a:gdLst/>
              <a:ahLst/>
              <a:rect l="l" t="t" r="r" b="b"/>
              <a:pathLst>
                <a:path w="1404" h="161">
                  <a:moveTo>
                    <a:pt x="1404" y="80"/>
                  </a:moveTo>
                  <a:lnTo>
                    <a:pt x="1323" y="0"/>
                  </a:lnTo>
                  <a:lnTo>
                    <a:pt x="0" y="0"/>
                  </a:lnTo>
                  <a:lnTo>
                    <a:pt x="0" y="161"/>
                  </a:lnTo>
                  <a:lnTo>
                    <a:pt x="1323" y="161"/>
                  </a:lnTo>
                  <a:lnTo>
                    <a:pt x="1242" y="80"/>
                  </a:lnTo>
                  <a:lnTo>
                    <a:pt x="1404" y="8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6" name=""/>
            <p:cNvSpPr/>
            <p:nvPr/>
          </p:nvSpPr>
          <p:spPr>
            <a:xfrm>
              <a:off x="1773000" y="1940040"/>
              <a:ext cx="7920" cy="108000"/>
            </a:xfrm>
            <a:custGeom>
              <a:avLst/>
              <a:gdLst/>
              <a:ahLst/>
              <a:rect l="l" t="t" r="r" b="b"/>
              <a:pathLst>
                <a:path w="162" h="2041">
                  <a:moveTo>
                    <a:pt x="81" y="2041"/>
                  </a:moveTo>
                  <a:lnTo>
                    <a:pt x="162" y="1960"/>
                  </a:lnTo>
                  <a:lnTo>
                    <a:pt x="162" y="0"/>
                  </a:lnTo>
                  <a:lnTo>
                    <a:pt x="0" y="0"/>
                  </a:lnTo>
                  <a:lnTo>
                    <a:pt x="0" y="1960"/>
                  </a:lnTo>
                  <a:lnTo>
                    <a:pt x="81" y="1879"/>
                  </a:lnTo>
                  <a:lnTo>
                    <a:pt x="81" y="20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1778040" y="2038320"/>
              <a:ext cx="1440" cy="9720"/>
            </a:xfrm>
            <a:custGeom>
              <a:avLst/>
              <a:gdLst/>
              <a:ahLst/>
              <a:rect l="l" t="t" r="r" b="b"/>
              <a:pathLst>
                <a:path w="0" h="162">
                  <a:moveTo>
                    <a:pt x="0" y="162"/>
                  </a:moveTo>
                  <a:lnTo>
                    <a:pt x="0" y="81"/>
                  </a:lnTo>
                  <a:lnTo>
                    <a:pt x="0" y="0"/>
                  </a:lnTo>
                  <a:lnTo>
                    <a:pt x="0" y="16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98" name=""/>
            <p:cNvSpPr/>
            <p:nvPr/>
          </p:nvSpPr>
          <p:spPr>
            <a:xfrm>
              <a:off x="1728720" y="1957680"/>
              <a:ext cx="22320" cy="23760"/>
            </a:xfrm>
            <a:custGeom>
              <a:avLst/>
              <a:gdLst/>
              <a:ahLst/>
              <a:rect l="l" t="t" r="r" b="b"/>
              <a:pathLst>
                <a:path w="433" h="436">
                  <a:moveTo>
                    <a:pt x="433" y="218"/>
                  </a:moveTo>
                  <a:lnTo>
                    <a:pt x="432" y="241"/>
                  </a:lnTo>
                  <a:lnTo>
                    <a:pt x="427" y="262"/>
                  </a:lnTo>
                  <a:lnTo>
                    <a:pt x="422" y="282"/>
                  </a:lnTo>
                  <a:lnTo>
                    <a:pt x="415" y="303"/>
                  </a:lnTo>
                  <a:lnTo>
                    <a:pt x="406" y="321"/>
                  </a:lnTo>
                  <a:lnTo>
                    <a:pt x="396" y="340"/>
                  </a:lnTo>
                  <a:lnTo>
                    <a:pt x="383" y="356"/>
                  </a:lnTo>
                  <a:lnTo>
                    <a:pt x="369" y="371"/>
                  </a:lnTo>
                  <a:lnTo>
                    <a:pt x="354" y="386"/>
                  </a:lnTo>
                  <a:lnTo>
                    <a:pt x="337" y="398"/>
                  </a:lnTo>
                  <a:lnTo>
                    <a:pt x="319" y="409"/>
                  </a:lnTo>
                  <a:lnTo>
                    <a:pt x="301" y="419"/>
                  </a:lnTo>
                  <a:lnTo>
                    <a:pt x="280" y="426"/>
                  </a:lnTo>
                  <a:lnTo>
                    <a:pt x="260" y="431"/>
                  </a:lnTo>
                  <a:lnTo>
                    <a:pt x="249" y="433"/>
                  </a:lnTo>
                  <a:lnTo>
                    <a:pt x="238" y="435"/>
                  </a:lnTo>
                  <a:lnTo>
                    <a:pt x="227" y="435"/>
                  </a:lnTo>
                  <a:lnTo>
                    <a:pt x="216" y="436"/>
                  </a:lnTo>
                  <a:lnTo>
                    <a:pt x="205" y="435"/>
                  </a:lnTo>
                  <a:lnTo>
                    <a:pt x="193" y="435"/>
                  </a:lnTo>
                  <a:lnTo>
                    <a:pt x="183" y="433"/>
                  </a:lnTo>
                  <a:lnTo>
                    <a:pt x="172" y="431"/>
                  </a:lnTo>
                  <a:lnTo>
                    <a:pt x="152" y="426"/>
                  </a:lnTo>
                  <a:lnTo>
                    <a:pt x="132" y="419"/>
                  </a:lnTo>
                  <a:lnTo>
                    <a:pt x="113" y="409"/>
                  </a:lnTo>
                  <a:lnTo>
                    <a:pt x="95" y="398"/>
                  </a:lnTo>
                  <a:lnTo>
                    <a:pt x="79" y="386"/>
                  </a:lnTo>
                  <a:lnTo>
                    <a:pt x="64" y="371"/>
                  </a:lnTo>
                  <a:lnTo>
                    <a:pt x="49" y="356"/>
                  </a:lnTo>
                  <a:lnTo>
                    <a:pt x="37" y="340"/>
                  </a:lnTo>
                  <a:lnTo>
                    <a:pt x="26" y="321"/>
                  </a:lnTo>
                  <a:lnTo>
                    <a:pt x="17" y="303"/>
                  </a:lnTo>
                  <a:lnTo>
                    <a:pt x="10" y="282"/>
                  </a:lnTo>
                  <a:lnTo>
                    <a:pt x="4" y="262"/>
                  </a:lnTo>
                  <a:lnTo>
                    <a:pt x="2" y="251"/>
                  </a:lnTo>
                  <a:lnTo>
                    <a:pt x="1" y="241"/>
                  </a:lnTo>
                  <a:lnTo>
                    <a:pt x="0" y="229"/>
                  </a:lnTo>
                  <a:lnTo>
                    <a:pt x="0" y="218"/>
                  </a:lnTo>
                  <a:lnTo>
                    <a:pt x="0" y="207"/>
                  </a:lnTo>
                  <a:lnTo>
                    <a:pt x="1" y="196"/>
                  </a:lnTo>
                  <a:lnTo>
                    <a:pt x="2" y="184"/>
                  </a:lnTo>
                  <a:lnTo>
                    <a:pt x="4" y="174"/>
                  </a:lnTo>
                  <a:lnTo>
                    <a:pt x="10" y="154"/>
                  </a:lnTo>
                  <a:lnTo>
                    <a:pt x="17" y="133"/>
                  </a:lnTo>
                  <a:lnTo>
                    <a:pt x="26" y="114"/>
                  </a:lnTo>
                  <a:lnTo>
                    <a:pt x="37" y="96"/>
                  </a:lnTo>
                  <a:lnTo>
                    <a:pt x="49" y="79"/>
                  </a:lnTo>
                  <a:lnTo>
                    <a:pt x="64" y="64"/>
                  </a:lnTo>
                  <a:lnTo>
                    <a:pt x="79" y="49"/>
                  </a:lnTo>
                  <a:lnTo>
                    <a:pt x="95" y="37"/>
                  </a:lnTo>
                  <a:lnTo>
                    <a:pt x="113" y="27"/>
                  </a:lnTo>
                  <a:lnTo>
                    <a:pt x="132" y="18"/>
                  </a:lnTo>
                  <a:lnTo>
                    <a:pt x="152" y="9"/>
                  </a:lnTo>
                  <a:lnTo>
                    <a:pt x="172" y="4"/>
                  </a:lnTo>
                  <a:lnTo>
                    <a:pt x="183" y="2"/>
                  </a:lnTo>
                  <a:lnTo>
                    <a:pt x="193" y="1"/>
                  </a:lnTo>
                  <a:lnTo>
                    <a:pt x="205" y="0"/>
                  </a:lnTo>
                  <a:lnTo>
                    <a:pt x="216" y="0"/>
                  </a:lnTo>
                  <a:lnTo>
                    <a:pt x="238" y="1"/>
                  </a:lnTo>
                  <a:lnTo>
                    <a:pt x="260" y="4"/>
                  </a:lnTo>
                  <a:lnTo>
                    <a:pt x="280" y="9"/>
                  </a:lnTo>
                  <a:lnTo>
                    <a:pt x="301" y="18"/>
                  </a:lnTo>
                  <a:lnTo>
                    <a:pt x="319" y="27"/>
                  </a:lnTo>
                  <a:lnTo>
                    <a:pt x="337" y="37"/>
                  </a:lnTo>
                  <a:lnTo>
                    <a:pt x="354" y="49"/>
                  </a:lnTo>
                  <a:lnTo>
                    <a:pt x="369" y="64"/>
                  </a:lnTo>
                  <a:lnTo>
                    <a:pt x="383" y="79"/>
                  </a:lnTo>
                  <a:lnTo>
                    <a:pt x="396" y="96"/>
                  </a:lnTo>
                  <a:lnTo>
                    <a:pt x="406" y="114"/>
                  </a:lnTo>
                  <a:lnTo>
                    <a:pt x="415" y="133"/>
                  </a:lnTo>
                  <a:lnTo>
                    <a:pt x="422" y="154"/>
                  </a:lnTo>
                  <a:lnTo>
                    <a:pt x="427" y="174"/>
                  </a:lnTo>
                  <a:lnTo>
                    <a:pt x="432" y="196"/>
                  </a:lnTo>
                  <a:lnTo>
                    <a:pt x="433" y="21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99" name=""/>
            <p:cNvSpPr/>
            <p:nvPr/>
          </p:nvSpPr>
          <p:spPr>
            <a:xfrm>
              <a:off x="1780920" y="1940040"/>
              <a:ext cx="69840" cy="1033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1776240" y="2038320"/>
              <a:ext cx="74520" cy="9720"/>
            </a:xfrm>
            <a:custGeom>
              <a:avLst/>
              <a:gdLst/>
              <a:ahLst/>
              <a:rect l="l" t="t" r="r" b="b"/>
              <a:pathLst>
                <a:path w="1404" h="162">
                  <a:moveTo>
                    <a:pt x="0" y="81"/>
                  </a:moveTo>
                  <a:lnTo>
                    <a:pt x="80" y="162"/>
                  </a:lnTo>
                  <a:lnTo>
                    <a:pt x="1404" y="162"/>
                  </a:lnTo>
                  <a:lnTo>
                    <a:pt x="1404" y="0"/>
                  </a:lnTo>
                  <a:lnTo>
                    <a:pt x="80" y="0"/>
                  </a:lnTo>
                  <a:lnTo>
                    <a:pt x="160" y="81"/>
                  </a:lnTo>
                  <a:lnTo>
                    <a:pt x="0" y="8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01" name=""/>
            <p:cNvSpPr/>
            <p:nvPr/>
          </p:nvSpPr>
          <p:spPr>
            <a:xfrm>
              <a:off x="1776240" y="1935360"/>
              <a:ext cx="7920" cy="108000"/>
            </a:xfrm>
            <a:custGeom>
              <a:avLst/>
              <a:gdLst/>
              <a:ahLst/>
              <a:rect l="l" t="t" r="r" b="b"/>
              <a:pathLst>
                <a:path w="160" h="2040">
                  <a:moveTo>
                    <a:pt x="80" y="0"/>
                  </a:moveTo>
                  <a:lnTo>
                    <a:pt x="0" y="80"/>
                  </a:lnTo>
                  <a:lnTo>
                    <a:pt x="0" y="2040"/>
                  </a:lnTo>
                  <a:lnTo>
                    <a:pt x="160" y="2040"/>
                  </a:lnTo>
                  <a:lnTo>
                    <a:pt x="160" y="80"/>
                  </a:lnTo>
                  <a:lnTo>
                    <a:pt x="80" y="161"/>
                  </a:lnTo>
                  <a:lnTo>
                    <a:pt x="8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
            <p:cNvSpPr/>
            <p:nvPr/>
          </p:nvSpPr>
          <p:spPr>
            <a:xfrm>
              <a:off x="1780920" y="1935360"/>
              <a:ext cx="73080" cy="7920"/>
            </a:xfrm>
            <a:custGeom>
              <a:avLst/>
              <a:gdLst/>
              <a:ahLst/>
              <a:rect l="l" t="t" r="r" b="b"/>
              <a:pathLst>
                <a:path w="1404" h="161">
                  <a:moveTo>
                    <a:pt x="1404" y="80"/>
                  </a:moveTo>
                  <a:lnTo>
                    <a:pt x="1324" y="0"/>
                  </a:lnTo>
                  <a:lnTo>
                    <a:pt x="0" y="0"/>
                  </a:lnTo>
                  <a:lnTo>
                    <a:pt x="0" y="161"/>
                  </a:lnTo>
                  <a:lnTo>
                    <a:pt x="1324" y="161"/>
                  </a:lnTo>
                  <a:lnTo>
                    <a:pt x="1243" y="80"/>
                  </a:lnTo>
                  <a:lnTo>
                    <a:pt x="1404" y="8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03" name=""/>
            <p:cNvSpPr/>
            <p:nvPr/>
          </p:nvSpPr>
          <p:spPr>
            <a:xfrm>
              <a:off x="1846080" y="1940040"/>
              <a:ext cx="7920" cy="108000"/>
            </a:xfrm>
            <a:custGeom>
              <a:avLst/>
              <a:gdLst/>
              <a:ahLst/>
              <a:rect l="l" t="t" r="r" b="b"/>
              <a:pathLst>
                <a:path w="161" h="2041">
                  <a:moveTo>
                    <a:pt x="81" y="2041"/>
                  </a:moveTo>
                  <a:lnTo>
                    <a:pt x="161" y="1960"/>
                  </a:lnTo>
                  <a:lnTo>
                    <a:pt x="161" y="0"/>
                  </a:lnTo>
                  <a:lnTo>
                    <a:pt x="0" y="0"/>
                  </a:lnTo>
                  <a:lnTo>
                    <a:pt x="0" y="1960"/>
                  </a:lnTo>
                  <a:lnTo>
                    <a:pt x="81" y="1879"/>
                  </a:lnTo>
                  <a:lnTo>
                    <a:pt x="81" y="20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1850760" y="2038320"/>
              <a:ext cx="1800" cy="9720"/>
            </a:xfrm>
            <a:custGeom>
              <a:avLst/>
              <a:gdLst/>
              <a:ahLst/>
              <a:rect l="l" t="t" r="r" b="b"/>
              <a:pathLst>
                <a:path w="0" h="162">
                  <a:moveTo>
                    <a:pt x="0" y="162"/>
                  </a:moveTo>
                  <a:lnTo>
                    <a:pt x="0" y="81"/>
                  </a:lnTo>
                  <a:lnTo>
                    <a:pt x="0" y="0"/>
                  </a:lnTo>
                  <a:lnTo>
                    <a:pt x="0" y="16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05" name=""/>
            <p:cNvSpPr/>
            <p:nvPr/>
          </p:nvSpPr>
          <p:spPr>
            <a:xfrm>
              <a:off x="1793880" y="1962360"/>
              <a:ext cx="428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grpSp>
      <p:grpSp>
        <p:nvGrpSpPr>
          <p:cNvPr id="406" name=""/>
          <p:cNvGrpSpPr/>
          <p:nvPr/>
        </p:nvGrpSpPr>
        <p:grpSpPr>
          <a:xfrm>
            <a:off x="2957400" y="1270080"/>
            <a:ext cx="780840" cy="777960"/>
            <a:chOff x="2957400" y="1270080"/>
            <a:chExt cx="780840" cy="777960"/>
          </a:xfrm>
        </p:grpSpPr>
        <p:sp>
          <p:nvSpPr>
            <p:cNvPr id="407" name=""/>
            <p:cNvSpPr/>
            <p:nvPr/>
          </p:nvSpPr>
          <p:spPr>
            <a:xfrm>
              <a:off x="3043080" y="1270080"/>
              <a:ext cx="611280" cy="777960"/>
            </a:xfrm>
            <a:custGeom>
              <a:avLst/>
              <a:gdLst/>
              <a:ahLst/>
              <a:rect l="l" t="t" r="r" b="b"/>
              <a:pathLst>
                <a:path w="12722" h="16170">
                  <a:moveTo>
                    <a:pt x="12595" y="1333"/>
                  </a:moveTo>
                  <a:lnTo>
                    <a:pt x="12722" y="1333"/>
                  </a:lnTo>
                  <a:lnTo>
                    <a:pt x="12722" y="0"/>
                  </a:lnTo>
                  <a:lnTo>
                    <a:pt x="0" y="0"/>
                  </a:lnTo>
                  <a:lnTo>
                    <a:pt x="0" y="1333"/>
                  </a:lnTo>
                  <a:lnTo>
                    <a:pt x="130" y="1333"/>
                  </a:lnTo>
                  <a:lnTo>
                    <a:pt x="107" y="16170"/>
                  </a:lnTo>
                  <a:lnTo>
                    <a:pt x="12579" y="16170"/>
                  </a:lnTo>
                  <a:lnTo>
                    <a:pt x="12595" y="13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3063600" y="1333800"/>
              <a:ext cx="568440" cy="696960"/>
            </a:xfrm>
            <a:custGeom>
              <a:avLst/>
              <a:gdLst/>
              <a:ahLst/>
              <a:rect l="l" t="t" r="r" b="b"/>
              <a:pathLst>
                <a:path w="11807" h="14481">
                  <a:moveTo>
                    <a:pt x="11807" y="0"/>
                  </a:moveTo>
                  <a:lnTo>
                    <a:pt x="0" y="0"/>
                  </a:lnTo>
                  <a:lnTo>
                    <a:pt x="0" y="14481"/>
                  </a:lnTo>
                  <a:lnTo>
                    <a:pt x="759" y="14481"/>
                  </a:lnTo>
                  <a:lnTo>
                    <a:pt x="759" y="5871"/>
                  </a:lnTo>
                  <a:lnTo>
                    <a:pt x="11103" y="5871"/>
                  </a:lnTo>
                  <a:lnTo>
                    <a:pt x="11103" y="14481"/>
                  </a:lnTo>
                  <a:lnTo>
                    <a:pt x="11807" y="14481"/>
                  </a:lnTo>
                  <a:lnTo>
                    <a:pt x="11807" y="0"/>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
            <p:cNvSpPr/>
            <p:nvPr/>
          </p:nvSpPr>
          <p:spPr>
            <a:xfrm>
              <a:off x="3114360" y="1859400"/>
              <a:ext cx="468360" cy="11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a:off x="3116160" y="1633680"/>
              <a:ext cx="466560" cy="209520"/>
            </a:xfrm>
            <a:prstGeom prst="rect">
              <a:avLst/>
            </a:prstGeom>
            <a:solidFill>
              <a:srgbClr val="23447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3106440" y="1987920"/>
              <a:ext cx="476280" cy="42840"/>
            </a:xfrm>
            <a:prstGeom prst="rect">
              <a:avLst/>
            </a:prstGeom>
            <a:solidFill>
              <a:srgbClr val="ccecf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3055680" y="1287720"/>
              <a:ext cx="582840" cy="28440"/>
            </a:xfrm>
            <a:prstGeom prst="rect">
              <a:avLst/>
            </a:prstGeom>
            <a:solidFill>
              <a:srgbClr val="ccecff"/>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13" name=""/>
            <p:cNvSpPr/>
            <p:nvPr/>
          </p:nvSpPr>
          <p:spPr>
            <a:xfrm>
              <a:off x="2957400" y="1416240"/>
              <a:ext cx="780840" cy="282600"/>
            </a:xfrm>
            <a:custGeom>
              <a:avLst/>
              <a:gdLst/>
              <a:ahLst/>
              <a:rect l="l" t="t" r="r" b="b"/>
              <a:pathLst>
                <a:path w="16236" h="5870">
                  <a:moveTo>
                    <a:pt x="1902" y="0"/>
                  </a:moveTo>
                  <a:lnTo>
                    <a:pt x="0" y="4474"/>
                  </a:lnTo>
                  <a:lnTo>
                    <a:pt x="2" y="4546"/>
                  </a:lnTo>
                  <a:lnTo>
                    <a:pt x="7" y="4617"/>
                  </a:lnTo>
                  <a:lnTo>
                    <a:pt x="15" y="4687"/>
                  </a:lnTo>
                  <a:lnTo>
                    <a:pt x="26" y="4755"/>
                  </a:lnTo>
                  <a:lnTo>
                    <a:pt x="41" y="4823"/>
                  </a:lnTo>
                  <a:lnTo>
                    <a:pt x="59" y="4889"/>
                  </a:lnTo>
                  <a:lnTo>
                    <a:pt x="79" y="4954"/>
                  </a:lnTo>
                  <a:lnTo>
                    <a:pt x="102" y="5017"/>
                  </a:lnTo>
                  <a:lnTo>
                    <a:pt x="129" y="5079"/>
                  </a:lnTo>
                  <a:lnTo>
                    <a:pt x="157" y="5139"/>
                  </a:lnTo>
                  <a:lnTo>
                    <a:pt x="189" y="5198"/>
                  </a:lnTo>
                  <a:lnTo>
                    <a:pt x="222" y="5255"/>
                  </a:lnTo>
                  <a:lnTo>
                    <a:pt x="259" y="5309"/>
                  </a:lnTo>
                  <a:lnTo>
                    <a:pt x="297" y="5362"/>
                  </a:lnTo>
                  <a:lnTo>
                    <a:pt x="339" y="5412"/>
                  </a:lnTo>
                  <a:lnTo>
                    <a:pt x="382" y="5461"/>
                  </a:lnTo>
                  <a:lnTo>
                    <a:pt x="427" y="5507"/>
                  </a:lnTo>
                  <a:lnTo>
                    <a:pt x="474" y="5551"/>
                  </a:lnTo>
                  <a:lnTo>
                    <a:pt x="524" y="5593"/>
                  </a:lnTo>
                  <a:lnTo>
                    <a:pt x="574" y="5631"/>
                  </a:lnTo>
                  <a:lnTo>
                    <a:pt x="627" y="5668"/>
                  </a:lnTo>
                  <a:lnTo>
                    <a:pt x="682" y="5701"/>
                  </a:lnTo>
                  <a:lnTo>
                    <a:pt x="738" y="5733"/>
                  </a:lnTo>
                  <a:lnTo>
                    <a:pt x="796" y="5760"/>
                  </a:lnTo>
                  <a:lnTo>
                    <a:pt x="854" y="5785"/>
                  </a:lnTo>
                  <a:lnTo>
                    <a:pt x="915" y="5807"/>
                  </a:lnTo>
                  <a:lnTo>
                    <a:pt x="977" y="5826"/>
                  </a:lnTo>
                  <a:lnTo>
                    <a:pt x="1040" y="5841"/>
                  </a:lnTo>
                  <a:lnTo>
                    <a:pt x="1104" y="5855"/>
                  </a:lnTo>
                  <a:lnTo>
                    <a:pt x="1169" y="5863"/>
                  </a:lnTo>
                  <a:lnTo>
                    <a:pt x="1235" y="5869"/>
                  </a:lnTo>
                  <a:lnTo>
                    <a:pt x="1302" y="5870"/>
                  </a:lnTo>
                  <a:lnTo>
                    <a:pt x="1348" y="5870"/>
                  </a:lnTo>
                  <a:lnTo>
                    <a:pt x="1393" y="5867"/>
                  </a:lnTo>
                  <a:lnTo>
                    <a:pt x="1438" y="5863"/>
                  </a:lnTo>
                  <a:lnTo>
                    <a:pt x="1483" y="5857"/>
                  </a:lnTo>
                  <a:lnTo>
                    <a:pt x="1527" y="5849"/>
                  </a:lnTo>
                  <a:lnTo>
                    <a:pt x="1571" y="5840"/>
                  </a:lnTo>
                  <a:lnTo>
                    <a:pt x="1613" y="5830"/>
                  </a:lnTo>
                  <a:lnTo>
                    <a:pt x="1656" y="5818"/>
                  </a:lnTo>
                  <a:lnTo>
                    <a:pt x="1698" y="5804"/>
                  </a:lnTo>
                  <a:lnTo>
                    <a:pt x="1739" y="5790"/>
                  </a:lnTo>
                  <a:lnTo>
                    <a:pt x="1780" y="5772"/>
                  </a:lnTo>
                  <a:lnTo>
                    <a:pt x="1820" y="5755"/>
                  </a:lnTo>
                  <a:lnTo>
                    <a:pt x="1860" y="5736"/>
                  </a:lnTo>
                  <a:lnTo>
                    <a:pt x="1899" y="5714"/>
                  </a:lnTo>
                  <a:lnTo>
                    <a:pt x="1936" y="5693"/>
                  </a:lnTo>
                  <a:lnTo>
                    <a:pt x="1974" y="5670"/>
                  </a:lnTo>
                  <a:lnTo>
                    <a:pt x="2010" y="5645"/>
                  </a:lnTo>
                  <a:lnTo>
                    <a:pt x="2046" y="5620"/>
                  </a:lnTo>
                  <a:lnTo>
                    <a:pt x="2080" y="5593"/>
                  </a:lnTo>
                  <a:lnTo>
                    <a:pt x="2114" y="5564"/>
                  </a:lnTo>
                  <a:lnTo>
                    <a:pt x="2147" y="5536"/>
                  </a:lnTo>
                  <a:lnTo>
                    <a:pt x="2179" y="5505"/>
                  </a:lnTo>
                  <a:lnTo>
                    <a:pt x="2210" y="5474"/>
                  </a:lnTo>
                  <a:lnTo>
                    <a:pt x="2241" y="5441"/>
                  </a:lnTo>
                  <a:lnTo>
                    <a:pt x="2269" y="5408"/>
                  </a:lnTo>
                  <a:lnTo>
                    <a:pt x="2297" y="5373"/>
                  </a:lnTo>
                  <a:lnTo>
                    <a:pt x="2325" y="5338"/>
                  </a:lnTo>
                  <a:lnTo>
                    <a:pt x="2350" y="5301"/>
                  </a:lnTo>
                  <a:lnTo>
                    <a:pt x="2376" y="5264"/>
                  </a:lnTo>
                  <a:lnTo>
                    <a:pt x="2399" y="5225"/>
                  </a:lnTo>
                  <a:lnTo>
                    <a:pt x="2422" y="5186"/>
                  </a:lnTo>
                  <a:lnTo>
                    <a:pt x="2444" y="5146"/>
                  </a:lnTo>
                  <a:lnTo>
                    <a:pt x="2465" y="5186"/>
                  </a:lnTo>
                  <a:lnTo>
                    <a:pt x="2487" y="5225"/>
                  </a:lnTo>
                  <a:lnTo>
                    <a:pt x="2510" y="5264"/>
                  </a:lnTo>
                  <a:lnTo>
                    <a:pt x="2536" y="5301"/>
                  </a:lnTo>
                  <a:lnTo>
                    <a:pt x="2561" y="5338"/>
                  </a:lnTo>
                  <a:lnTo>
                    <a:pt x="2589" y="5373"/>
                  </a:lnTo>
                  <a:lnTo>
                    <a:pt x="2617" y="5408"/>
                  </a:lnTo>
                  <a:lnTo>
                    <a:pt x="2646" y="5441"/>
                  </a:lnTo>
                  <a:lnTo>
                    <a:pt x="2676" y="5474"/>
                  </a:lnTo>
                  <a:lnTo>
                    <a:pt x="2707" y="5505"/>
                  </a:lnTo>
                  <a:lnTo>
                    <a:pt x="2739" y="5536"/>
                  </a:lnTo>
                  <a:lnTo>
                    <a:pt x="2772" y="5564"/>
                  </a:lnTo>
                  <a:lnTo>
                    <a:pt x="2806" y="5593"/>
                  </a:lnTo>
                  <a:lnTo>
                    <a:pt x="2840" y="5620"/>
                  </a:lnTo>
                  <a:lnTo>
                    <a:pt x="2877" y="5645"/>
                  </a:lnTo>
                  <a:lnTo>
                    <a:pt x="2912" y="5670"/>
                  </a:lnTo>
                  <a:lnTo>
                    <a:pt x="2950" y="5693"/>
                  </a:lnTo>
                  <a:lnTo>
                    <a:pt x="2987" y="5714"/>
                  </a:lnTo>
                  <a:lnTo>
                    <a:pt x="3026" y="5736"/>
                  </a:lnTo>
                  <a:lnTo>
                    <a:pt x="3066" y="5755"/>
                  </a:lnTo>
                  <a:lnTo>
                    <a:pt x="3106" y="5772"/>
                  </a:lnTo>
                  <a:lnTo>
                    <a:pt x="3147" y="5790"/>
                  </a:lnTo>
                  <a:lnTo>
                    <a:pt x="3188" y="5804"/>
                  </a:lnTo>
                  <a:lnTo>
                    <a:pt x="3230" y="5818"/>
                  </a:lnTo>
                  <a:lnTo>
                    <a:pt x="3273" y="5830"/>
                  </a:lnTo>
                  <a:lnTo>
                    <a:pt x="3316" y="5840"/>
                  </a:lnTo>
                  <a:lnTo>
                    <a:pt x="3359" y="5849"/>
                  </a:lnTo>
                  <a:lnTo>
                    <a:pt x="3403" y="5857"/>
                  </a:lnTo>
                  <a:lnTo>
                    <a:pt x="3448" y="5863"/>
                  </a:lnTo>
                  <a:lnTo>
                    <a:pt x="3493" y="5867"/>
                  </a:lnTo>
                  <a:lnTo>
                    <a:pt x="3538" y="5870"/>
                  </a:lnTo>
                  <a:lnTo>
                    <a:pt x="3584" y="5870"/>
                  </a:lnTo>
                  <a:lnTo>
                    <a:pt x="3630" y="5870"/>
                  </a:lnTo>
                  <a:lnTo>
                    <a:pt x="3675" y="5867"/>
                  </a:lnTo>
                  <a:lnTo>
                    <a:pt x="3719" y="5863"/>
                  </a:lnTo>
                  <a:lnTo>
                    <a:pt x="3764" y="5857"/>
                  </a:lnTo>
                  <a:lnTo>
                    <a:pt x="3807" y="5849"/>
                  </a:lnTo>
                  <a:lnTo>
                    <a:pt x="3851" y="5840"/>
                  </a:lnTo>
                  <a:lnTo>
                    <a:pt x="3894" y="5830"/>
                  </a:lnTo>
                  <a:lnTo>
                    <a:pt x="3936" y="5818"/>
                  </a:lnTo>
                  <a:lnTo>
                    <a:pt x="3977" y="5805"/>
                  </a:lnTo>
                  <a:lnTo>
                    <a:pt x="4018" y="5791"/>
                  </a:lnTo>
                  <a:lnTo>
                    <a:pt x="4059" y="5774"/>
                  </a:lnTo>
                  <a:lnTo>
                    <a:pt x="4099" y="5756"/>
                  </a:lnTo>
                  <a:lnTo>
                    <a:pt x="4138" y="5738"/>
                  </a:lnTo>
                  <a:lnTo>
                    <a:pt x="4176" y="5717"/>
                  </a:lnTo>
                  <a:lnTo>
                    <a:pt x="4213" y="5695"/>
                  </a:lnTo>
                  <a:lnTo>
                    <a:pt x="4251" y="5673"/>
                  </a:lnTo>
                  <a:lnTo>
                    <a:pt x="4286" y="5648"/>
                  </a:lnTo>
                  <a:lnTo>
                    <a:pt x="4322" y="5623"/>
                  </a:lnTo>
                  <a:lnTo>
                    <a:pt x="4356" y="5597"/>
                  </a:lnTo>
                  <a:lnTo>
                    <a:pt x="4391" y="5569"/>
                  </a:lnTo>
                  <a:lnTo>
                    <a:pt x="4423" y="5540"/>
                  </a:lnTo>
                  <a:lnTo>
                    <a:pt x="4455" y="5510"/>
                  </a:lnTo>
                  <a:lnTo>
                    <a:pt x="4486" y="5479"/>
                  </a:lnTo>
                  <a:lnTo>
                    <a:pt x="4517" y="5447"/>
                  </a:lnTo>
                  <a:lnTo>
                    <a:pt x="4545" y="5414"/>
                  </a:lnTo>
                  <a:lnTo>
                    <a:pt x="4573" y="5381"/>
                  </a:lnTo>
                  <a:lnTo>
                    <a:pt x="4600" y="5345"/>
                  </a:lnTo>
                  <a:lnTo>
                    <a:pt x="4626" y="5309"/>
                  </a:lnTo>
                  <a:lnTo>
                    <a:pt x="4652" y="5272"/>
                  </a:lnTo>
                  <a:lnTo>
                    <a:pt x="4675" y="5234"/>
                  </a:lnTo>
                  <a:lnTo>
                    <a:pt x="4698" y="5196"/>
                  </a:lnTo>
                  <a:lnTo>
                    <a:pt x="4720" y="5156"/>
                  </a:lnTo>
                  <a:lnTo>
                    <a:pt x="4741" y="5196"/>
                  </a:lnTo>
                  <a:lnTo>
                    <a:pt x="4763" y="5234"/>
                  </a:lnTo>
                  <a:lnTo>
                    <a:pt x="4788" y="5272"/>
                  </a:lnTo>
                  <a:lnTo>
                    <a:pt x="4812" y="5309"/>
                  </a:lnTo>
                  <a:lnTo>
                    <a:pt x="4838" y="5345"/>
                  </a:lnTo>
                  <a:lnTo>
                    <a:pt x="4866" y="5381"/>
                  </a:lnTo>
                  <a:lnTo>
                    <a:pt x="4893" y="5414"/>
                  </a:lnTo>
                  <a:lnTo>
                    <a:pt x="4923" y="5447"/>
                  </a:lnTo>
                  <a:lnTo>
                    <a:pt x="4952" y="5479"/>
                  </a:lnTo>
                  <a:lnTo>
                    <a:pt x="4983" y="5510"/>
                  </a:lnTo>
                  <a:lnTo>
                    <a:pt x="5015" y="5540"/>
                  </a:lnTo>
                  <a:lnTo>
                    <a:pt x="5048" y="5569"/>
                  </a:lnTo>
                  <a:lnTo>
                    <a:pt x="5082" y="5597"/>
                  </a:lnTo>
                  <a:lnTo>
                    <a:pt x="5116" y="5623"/>
                  </a:lnTo>
                  <a:lnTo>
                    <a:pt x="5152" y="5648"/>
                  </a:lnTo>
                  <a:lnTo>
                    <a:pt x="5188" y="5673"/>
                  </a:lnTo>
                  <a:lnTo>
                    <a:pt x="5225" y="5695"/>
                  </a:lnTo>
                  <a:lnTo>
                    <a:pt x="5262" y="5717"/>
                  </a:lnTo>
                  <a:lnTo>
                    <a:pt x="5301" y="5738"/>
                  </a:lnTo>
                  <a:lnTo>
                    <a:pt x="5341" y="5756"/>
                  </a:lnTo>
                  <a:lnTo>
                    <a:pt x="5380" y="5774"/>
                  </a:lnTo>
                  <a:lnTo>
                    <a:pt x="5421" y="5791"/>
                  </a:lnTo>
                  <a:lnTo>
                    <a:pt x="5461" y="5805"/>
                  </a:lnTo>
                  <a:lnTo>
                    <a:pt x="5503" y="5818"/>
                  </a:lnTo>
                  <a:lnTo>
                    <a:pt x="5546" y="5830"/>
                  </a:lnTo>
                  <a:lnTo>
                    <a:pt x="5588" y="5840"/>
                  </a:lnTo>
                  <a:lnTo>
                    <a:pt x="5631" y="5849"/>
                  </a:lnTo>
                  <a:lnTo>
                    <a:pt x="5674" y="5857"/>
                  </a:lnTo>
                  <a:lnTo>
                    <a:pt x="5719" y="5863"/>
                  </a:lnTo>
                  <a:lnTo>
                    <a:pt x="5764" y="5867"/>
                  </a:lnTo>
                  <a:lnTo>
                    <a:pt x="5809" y="5870"/>
                  </a:lnTo>
                  <a:lnTo>
                    <a:pt x="5854" y="5870"/>
                  </a:lnTo>
                  <a:lnTo>
                    <a:pt x="5900" y="5870"/>
                  </a:lnTo>
                  <a:lnTo>
                    <a:pt x="5945" y="5867"/>
                  </a:lnTo>
                  <a:lnTo>
                    <a:pt x="5989" y="5863"/>
                  </a:lnTo>
                  <a:lnTo>
                    <a:pt x="6034" y="5857"/>
                  </a:lnTo>
                  <a:lnTo>
                    <a:pt x="6077" y="5849"/>
                  </a:lnTo>
                  <a:lnTo>
                    <a:pt x="6121" y="5840"/>
                  </a:lnTo>
                  <a:lnTo>
                    <a:pt x="6164" y="5830"/>
                  </a:lnTo>
                  <a:lnTo>
                    <a:pt x="6205" y="5818"/>
                  </a:lnTo>
                  <a:lnTo>
                    <a:pt x="6247" y="5805"/>
                  </a:lnTo>
                  <a:lnTo>
                    <a:pt x="6288" y="5791"/>
                  </a:lnTo>
                  <a:lnTo>
                    <a:pt x="6329" y="5774"/>
                  </a:lnTo>
                  <a:lnTo>
                    <a:pt x="6369" y="5756"/>
                  </a:lnTo>
                  <a:lnTo>
                    <a:pt x="6407" y="5738"/>
                  </a:lnTo>
                  <a:lnTo>
                    <a:pt x="6446" y="5717"/>
                  </a:lnTo>
                  <a:lnTo>
                    <a:pt x="6483" y="5695"/>
                  </a:lnTo>
                  <a:lnTo>
                    <a:pt x="6521" y="5673"/>
                  </a:lnTo>
                  <a:lnTo>
                    <a:pt x="6556" y="5648"/>
                  </a:lnTo>
                  <a:lnTo>
                    <a:pt x="6592" y="5623"/>
                  </a:lnTo>
                  <a:lnTo>
                    <a:pt x="6626" y="5597"/>
                  </a:lnTo>
                  <a:lnTo>
                    <a:pt x="6660" y="5569"/>
                  </a:lnTo>
                  <a:lnTo>
                    <a:pt x="6693" y="5540"/>
                  </a:lnTo>
                  <a:lnTo>
                    <a:pt x="6725" y="5510"/>
                  </a:lnTo>
                  <a:lnTo>
                    <a:pt x="6756" y="5479"/>
                  </a:lnTo>
                  <a:lnTo>
                    <a:pt x="6786" y="5447"/>
                  </a:lnTo>
                  <a:lnTo>
                    <a:pt x="6815" y="5414"/>
                  </a:lnTo>
                  <a:lnTo>
                    <a:pt x="6843" y="5381"/>
                  </a:lnTo>
                  <a:lnTo>
                    <a:pt x="6870" y="5345"/>
                  </a:lnTo>
                  <a:lnTo>
                    <a:pt x="6896" y="5309"/>
                  </a:lnTo>
                  <a:lnTo>
                    <a:pt x="6922" y="5272"/>
                  </a:lnTo>
                  <a:lnTo>
                    <a:pt x="6945" y="5234"/>
                  </a:lnTo>
                  <a:lnTo>
                    <a:pt x="6967" y="5196"/>
                  </a:lnTo>
                  <a:lnTo>
                    <a:pt x="6990" y="5156"/>
                  </a:lnTo>
                  <a:lnTo>
                    <a:pt x="7011" y="5196"/>
                  </a:lnTo>
                  <a:lnTo>
                    <a:pt x="7033" y="5234"/>
                  </a:lnTo>
                  <a:lnTo>
                    <a:pt x="7058" y="5272"/>
                  </a:lnTo>
                  <a:lnTo>
                    <a:pt x="7082" y="5309"/>
                  </a:lnTo>
                  <a:lnTo>
                    <a:pt x="7108" y="5345"/>
                  </a:lnTo>
                  <a:lnTo>
                    <a:pt x="7135" y="5381"/>
                  </a:lnTo>
                  <a:lnTo>
                    <a:pt x="7163" y="5414"/>
                  </a:lnTo>
                  <a:lnTo>
                    <a:pt x="7193" y="5447"/>
                  </a:lnTo>
                  <a:lnTo>
                    <a:pt x="7222" y="5479"/>
                  </a:lnTo>
                  <a:lnTo>
                    <a:pt x="7253" y="5510"/>
                  </a:lnTo>
                  <a:lnTo>
                    <a:pt x="7285" y="5540"/>
                  </a:lnTo>
                  <a:lnTo>
                    <a:pt x="7318" y="5569"/>
                  </a:lnTo>
                  <a:lnTo>
                    <a:pt x="7352" y="5597"/>
                  </a:lnTo>
                  <a:lnTo>
                    <a:pt x="7386" y="5623"/>
                  </a:lnTo>
                  <a:lnTo>
                    <a:pt x="7422" y="5648"/>
                  </a:lnTo>
                  <a:lnTo>
                    <a:pt x="7457" y="5673"/>
                  </a:lnTo>
                  <a:lnTo>
                    <a:pt x="7495" y="5695"/>
                  </a:lnTo>
                  <a:lnTo>
                    <a:pt x="7532" y="5717"/>
                  </a:lnTo>
                  <a:lnTo>
                    <a:pt x="7570" y="5738"/>
                  </a:lnTo>
                  <a:lnTo>
                    <a:pt x="7610" y="5756"/>
                  </a:lnTo>
                  <a:lnTo>
                    <a:pt x="7649" y="5774"/>
                  </a:lnTo>
                  <a:lnTo>
                    <a:pt x="7690" y="5791"/>
                  </a:lnTo>
                  <a:lnTo>
                    <a:pt x="7730" y="5805"/>
                  </a:lnTo>
                  <a:lnTo>
                    <a:pt x="7772" y="5818"/>
                  </a:lnTo>
                  <a:lnTo>
                    <a:pt x="7815" y="5830"/>
                  </a:lnTo>
                  <a:lnTo>
                    <a:pt x="7857" y="5840"/>
                  </a:lnTo>
                  <a:lnTo>
                    <a:pt x="7901" y="5849"/>
                  </a:lnTo>
                  <a:lnTo>
                    <a:pt x="7944" y="5857"/>
                  </a:lnTo>
                  <a:lnTo>
                    <a:pt x="7988" y="5863"/>
                  </a:lnTo>
                  <a:lnTo>
                    <a:pt x="8033" y="5867"/>
                  </a:lnTo>
                  <a:lnTo>
                    <a:pt x="8078" y="5870"/>
                  </a:lnTo>
                  <a:lnTo>
                    <a:pt x="8124" y="5870"/>
                  </a:lnTo>
                  <a:lnTo>
                    <a:pt x="8169" y="5870"/>
                  </a:lnTo>
                  <a:lnTo>
                    <a:pt x="8214" y="5867"/>
                  </a:lnTo>
                  <a:lnTo>
                    <a:pt x="8259" y="5863"/>
                  </a:lnTo>
                  <a:lnTo>
                    <a:pt x="8303" y="5857"/>
                  </a:lnTo>
                  <a:lnTo>
                    <a:pt x="8347" y="5849"/>
                  </a:lnTo>
                  <a:lnTo>
                    <a:pt x="8390" y="5840"/>
                  </a:lnTo>
                  <a:lnTo>
                    <a:pt x="8433" y="5830"/>
                  </a:lnTo>
                  <a:lnTo>
                    <a:pt x="8475" y="5818"/>
                  </a:lnTo>
                  <a:lnTo>
                    <a:pt x="8517" y="5805"/>
                  </a:lnTo>
                  <a:lnTo>
                    <a:pt x="8558" y="5791"/>
                  </a:lnTo>
                  <a:lnTo>
                    <a:pt x="8598" y="5774"/>
                  </a:lnTo>
                  <a:lnTo>
                    <a:pt x="8639" y="5756"/>
                  </a:lnTo>
                  <a:lnTo>
                    <a:pt x="8677" y="5738"/>
                  </a:lnTo>
                  <a:lnTo>
                    <a:pt x="8716" y="5717"/>
                  </a:lnTo>
                  <a:lnTo>
                    <a:pt x="8753" y="5695"/>
                  </a:lnTo>
                  <a:lnTo>
                    <a:pt x="8791" y="5673"/>
                  </a:lnTo>
                  <a:lnTo>
                    <a:pt x="8826" y="5648"/>
                  </a:lnTo>
                  <a:lnTo>
                    <a:pt x="8862" y="5623"/>
                  </a:lnTo>
                  <a:lnTo>
                    <a:pt x="8896" y="5597"/>
                  </a:lnTo>
                  <a:lnTo>
                    <a:pt x="8931" y="5569"/>
                  </a:lnTo>
                  <a:lnTo>
                    <a:pt x="8963" y="5540"/>
                  </a:lnTo>
                  <a:lnTo>
                    <a:pt x="8995" y="5510"/>
                  </a:lnTo>
                  <a:lnTo>
                    <a:pt x="9026" y="5479"/>
                  </a:lnTo>
                  <a:lnTo>
                    <a:pt x="9057" y="5447"/>
                  </a:lnTo>
                  <a:lnTo>
                    <a:pt x="9085" y="5414"/>
                  </a:lnTo>
                  <a:lnTo>
                    <a:pt x="9113" y="5381"/>
                  </a:lnTo>
                  <a:lnTo>
                    <a:pt x="9141" y="5345"/>
                  </a:lnTo>
                  <a:lnTo>
                    <a:pt x="9166" y="5309"/>
                  </a:lnTo>
                  <a:lnTo>
                    <a:pt x="9192" y="5272"/>
                  </a:lnTo>
                  <a:lnTo>
                    <a:pt x="9215" y="5234"/>
                  </a:lnTo>
                  <a:lnTo>
                    <a:pt x="9238" y="5196"/>
                  </a:lnTo>
                  <a:lnTo>
                    <a:pt x="9260" y="5156"/>
                  </a:lnTo>
                  <a:lnTo>
                    <a:pt x="9281" y="5196"/>
                  </a:lnTo>
                  <a:lnTo>
                    <a:pt x="9303" y="5234"/>
                  </a:lnTo>
                  <a:lnTo>
                    <a:pt x="9328" y="5272"/>
                  </a:lnTo>
                  <a:lnTo>
                    <a:pt x="9352" y="5309"/>
                  </a:lnTo>
                  <a:lnTo>
                    <a:pt x="9378" y="5345"/>
                  </a:lnTo>
                  <a:lnTo>
                    <a:pt x="9406" y="5381"/>
                  </a:lnTo>
                  <a:lnTo>
                    <a:pt x="9433" y="5414"/>
                  </a:lnTo>
                  <a:lnTo>
                    <a:pt x="9463" y="5447"/>
                  </a:lnTo>
                  <a:lnTo>
                    <a:pt x="9493" y="5479"/>
                  </a:lnTo>
                  <a:lnTo>
                    <a:pt x="9523" y="5510"/>
                  </a:lnTo>
                  <a:lnTo>
                    <a:pt x="9556" y="5540"/>
                  </a:lnTo>
                  <a:lnTo>
                    <a:pt x="9588" y="5569"/>
                  </a:lnTo>
                  <a:lnTo>
                    <a:pt x="9622" y="5597"/>
                  </a:lnTo>
                  <a:lnTo>
                    <a:pt x="9656" y="5623"/>
                  </a:lnTo>
                  <a:lnTo>
                    <a:pt x="9692" y="5648"/>
                  </a:lnTo>
                  <a:lnTo>
                    <a:pt x="9728" y="5673"/>
                  </a:lnTo>
                  <a:lnTo>
                    <a:pt x="9765" y="5695"/>
                  </a:lnTo>
                  <a:lnTo>
                    <a:pt x="9802" y="5717"/>
                  </a:lnTo>
                  <a:lnTo>
                    <a:pt x="9841" y="5738"/>
                  </a:lnTo>
                  <a:lnTo>
                    <a:pt x="9881" y="5756"/>
                  </a:lnTo>
                  <a:lnTo>
                    <a:pt x="9920" y="5774"/>
                  </a:lnTo>
                  <a:lnTo>
                    <a:pt x="9961" y="5791"/>
                  </a:lnTo>
                  <a:lnTo>
                    <a:pt x="10001" y="5805"/>
                  </a:lnTo>
                  <a:lnTo>
                    <a:pt x="10043" y="5818"/>
                  </a:lnTo>
                  <a:lnTo>
                    <a:pt x="10086" y="5830"/>
                  </a:lnTo>
                  <a:lnTo>
                    <a:pt x="10128" y="5840"/>
                  </a:lnTo>
                  <a:lnTo>
                    <a:pt x="10172" y="5849"/>
                  </a:lnTo>
                  <a:lnTo>
                    <a:pt x="10215" y="5857"/>
                  </a:lnTo>
                  <a:lnTo>
                    <a:pt x="10259" y="5863"/>
                  </a:lnTo>
                  <a:lnTo>
                    <a:pt x="10304" y="5867"/>
                  </a:lnTo>
                  <a:lnTo>
                    <a:pt x="10349" y="5870"/>
                  </a:lnTo>
                  <a:lnTo>
                    <a:pt x="10395" y="5870"/>
                  </a:lnTo>
                  <a:lnTo>
                    <a:pt x="10440" y="5870"/>
                  </a:lnTo>
                  <a:lnTo>
                    <a:pt x="10485" y="5867"/>
                  </a:lnTo>
                  <a:lnTo>
                    <a:pt x="10530" y="5863"/>
                  </a:lnTo>
                  <a:lnTo>
                    <a:pt x="10574" y="5857"/>
                  </a:lnTo>
                  <a:lnTo>
                    <a:pt x="10617" y="5849"/>
                  </a:lnTo>
                  <a:lnTo>
                    <a:pt x="10661" y="5840"/>
                  </a:lnTo>
                  <a:lnTo>
                    <a:pt x="10704" y="5830"/>
                  </a:lnTo>
                  <a:lnTo>
                    <a:pt x="10745" y="5818"/>
                  </a:lnTo>
                  <a:lnTo>
                    <a:pt x="10787" y="5805"/>
                  </a:lnTo>
                  <a:lnTo>
                    <a:pt x="10828" y="5791"/>
                  </a:lnTo>
                  <a:lnTo>
                    <a:pt x="10869" y="5774"/>
                  </a:lnTo>
                  <a:lnTo>
                    <a:pt x="10909" y="5756"/>
                  </a:lnTo>
                  <a:lnTo>
                    <a:pt x="10947" y="5738"/>
                  </a:lnTo>
                  <a:lnTo>
                    <a:pt x="10986" y="5717"/>
                  </a:lnTo>
                  <a:lnTo>
                    <a:pt x="11023" y="5696"/>
                  </a:lnTo>
                  <a:lnTo>
                    <a:pt x="11060" y="5673"/>
                  </a:lnTo>
                  <a:lnTo>
                    <a:pt x="11096" y="5648"/>
                  </a:lnTo>
                  <a:lnTo>
                    <a:pt x="11132" y="5623"/>
                  </a:lnTo>
                  <a:lnTo>
                    <a:pt x="11166" y="5597"/>
                  </a:lnTo>
                  <a:lnTo>
                    <a:pt x="11200" y="5569"/>
                  </a:lnTo>
                  <a:lnTo>
                    <a:pt x="11232" y="5541"/>
                  </a:lnTo>
                  <a:lnTo>
                    <a:pt x="11265" y="5510"/>
                  </a:lnTo>
                  <a:lnTo>
                    <a:pt x="11295" y="5480"/>
                  </a:lnTo>
                  <a:lnTo>
                    <a:pt x="11326" y="5447"/>
                  </a:lnTo>
                  <a:lnTo>
                    <a:pt x="11354" y="5414"/>
                  </a:lnTo>
                  <a:lnTo>
                    <a:pt x="11382" y="5381"/>
                  </a:lnTo>
                  <a:lnTo>
                    <a:pt x="11410" y="5345"/>
                  </a:lnTo>
                  <a:lnTo>
                    <a:pt x="11435" y="5309"/>
                  </a:lnTo>
                  <a:lnTo>
                    <a:pt x="11461" y="5273"/>
                  </a:lnTo>
                  <a:lnTo>
                    <a:pt x="11484" y="5234"/>
                  </a:lnTo>
                  <a:lnTo>
                    <a:pt x="11507" y="5196"/>
                  </a:lnTo>
                  <a:lnTo>
                    <a:pt x="11529" y="5156"/>
                  </a:lnTo>
                  <a:lnTo>
                    <a:pt x="11550" y="5196"/>
                  </a:lnTo>
                  <a:lnTo>
                    <a:pt x="11572" y="5234"/>
                  </a:lnTo>
                  <a:lnTo>
                    <a:pt x="11597" y="5273"/>
                  </a:lnTo>
                  <a:lnTo>
                    <a:pt x="11621" y="5309"/>
                  </a:lnTo>
                  <a:lnTo>
                    <a:pt x="11647" y="5345"/>
                  </a:lnTo>
                  <a:lnTo>
                    <a:pt x="11675" y="5381"/>
                  </a:lnTo>
                  <a:lnTo>
                    <a:pt x="11702" y="5414"/>
                  </a:lnTo>
                  <a:lnTo>
                    <a:pt x="11732" y="5447"/>
                  </a:lnTo>
                  <a:lnTo>
                    <a:pt x="11762" y="5480"/>
                  </a:lnTo>
                  <a:lnTo>
                    <a:pt x="11792" y="5510"/>
                  </a:lnTo>
                  <a:lnTo>
                    <a:pt x="11825" y="5541"/>
                  </a:lnTo>
                  <a:lnTo>
                    <a:pt x="11857" y="5569"/>
                  </a:lnTo>
                  <a:lnTo>
                    <a:pt x="11891" y="5597"/>
                  </a:lnTo>
                  <a:lnTo>
                    <a:pt x="11925" y="5623"/>
                  </a:lnTo>
                  <a:lnTo>
                    <a:pt x="11961" y="5648"/>
                  </a:lnTo>
                  <a:lnTo>
                    <a:pt x="11997" y="5673"/>
                  </a:lnTo>
                  <a:lnTo>
                    <a:pt x="12034" y="5696"/>
                  </a:lnTo>
                  <a:lnTo>
                    <a:pt x="12071" y="5717"/>
                  </a:lnTo>
                  <a:lnTo>
                    <a:pt x="12110" y="5738"/>
                  </a:lnTo>
                  <a:lnTo>
                    <a:pt x="12150" y="5756"/>
                  </a:lnTo>
                  <a:lnTo>
                    <a:pt x="12189" y="5774"/>
                  </a:lnTo>
                  <a:lnTo>
                    <a:pt x="12230" y="5791"/>
                  </a:lnTo>
                  <a:lnTo>
                    <a:pt x="12270" y="5805"/>
                  </a:lnTo>
                  <a:lnTo>
                    <a:pt x="12312" y="5818"/>
                  </a:lnTo>
                  <a:lnTo>
                    <a:pt x="12355" y="5830"/>
                  </a:lnTo>
                  <a:lnTo>
                    <a:pt x="12397" y="5840"/>
                  </a:lnTo>
                  <a:lnTo>
                    <a:pt x="12441" y="5849"/>
                  </a:lnTo>
                  <a:lnTo>
                    <a:pt x="12484" y="5857"/>
                  </a:lnTo>
                  <a:lnTo>
                    <a:pt x="12528" y="5863"/>
                  </a:lnTo>
                  <a:lnTo>
                    <a:pt x="12573" y="5867"/>
                  </a:lnTo>
                  <a:lnTo>
                    <a:pt x="12618" y="5870"/>
                  </a:lnTo>
                  <a:lnTo>
                    <a:pt x="12664" y="5870"/>
                  </a:lnTo>
                  <a:lnTo>
                    <a:pt x="12710" y="5870"/>
                  </a:lnTo>
                  <a:lnTo>
                    <a:pt x="12754" y="5867"/>
                  </a:lnTo>
                  <a:lnTo>
                    <a:pt x="12799" y="5863"/>
                  </a:lnTo>
                  <a:lnTo>
                    <a:pt x="12844" y="5857"/>
                  </a:lnTo>
                  <a:lnTo>
                    <a:pt x="12887" y="5849"/>
                  </a:lnTo>
                  <a:lnTo>
                    <a:pt x="12930" y="5840"/>
                  </a:lnTo>
                  <a:lnTo>
                    <a:pt x="12973" y="5830"/>
                  </a:lnTo>
                  <a:lnTo>
                    <a:pt x="13015" y="5818"/>
                  </a:lnTo>
                  <a:lnTo>
                    <a:pt x="13057" y="5805"/>
                  </a:lnTo>
                  <a:lnTo>
                    <a:pt x="13097" y="5791"/>
                  </a:lnTo>
                  <a:lnTo>
                    <a:pt x="13138" y="5774"/>
                  </a:lnTo>
                  <a:lnTo>
                    <a:pt x="13178" y="5756"/>
                  </a:lnTo>
                  <a:lnTo>
                    <a:pt x="13217" y="5738"/>
                  </a:lnTo>
                  <a:lnTo>
                    <a:pt x="13256" y="5717"/>
                  </a:lnTo>
                  <a:lnTo>
                    <a:pt x="13293" y="5695"/>
                  </a:lnTo>
                  <a:lnTo>
                    <a:pt x="13330" y="5673"/>
                  </a:lnTo>
                  <a:lnTo>
                    <a:pt x="13366" y="5648"/>
                  </a:lnTo>
                  <a:lnTo>
                    <a:pt x="13402" y="5623"/>
                  </a:lnTo>
                  <a:lnTo>
                    <a:pt x="13436" y="5597"/>
                  </a:lnTo>
                  <a:lnTo>
                    <a:pt x="13470" y="5569"/>
                  </a:lnTo>
                  <a:lnTo>
                    <a:pt x="13502" y="5540"/>
                  </a:lnTo>
                  <a:lnTo>
                    <a:pt x="13535" y="5510"/>
                  </a:lnTo>
                  <a:lnTo>
                    <a:pt x="13565" y="5479"/>
                  </a:lnTo>
                  <a:lnTo>
                    <a:pt x="13596" y="5447"/>
                  </a:lnTo>
                  <a:lnTo>
                    <a:pt x="13625" y="5414"/>
                  </a:lnTo>
                  <a:lnTo>
                    <a:pt x="13652" y="5381"/>
                  </a:lnTo>
                  <a:lnTo>
                    <a:pt x="13680" y="5345"/>
                  </a:lnTo>
                  <a:lnTo>
                    <a:pt x="13706" y="5309"/>
                  </a:lnTo>
                  <a:lnTo>
                    <a:pt x="13731" y="5272"/>
                  </a:lnTo>
                  <a:lnTo>
                    <a:pt x="13755" y="5234"/>
                  </a:lnTo>
                  <a:lnTo>
                    <a:pt x="13777" y="5196"/>
                  </a:lnTo>
                  <a:lnTo>
                    <a:pt x="13799" y="5156"/>
                  </a:lnTo>
                  <a:lnTo>
                    <a:pt x="13820" y="5196"/>
                  </a:lnTo>
                  <a:lnTo>
                    <a:pt x="13843" y="5234"/>
                  </a:lnTo>
                  <a:lnTo>
                    <a:pt x="13867" y="5272"/>
                  </a:lnTo>
                  <a:lnTo>
                    <a:pt x="13892" y="5309"/>
                  </a:lnTo>
                  <a:lnTo>
                    <a:pt x="13917" y="5345"/>
                  </a:lnTo>
                  <a:lnTo>
                    <a:pt x="13945" y="5381"/>
                  </a:lnTo>
                  <a:lnTo>
                    <a:pt x="13973" y="5414"/>
                  </a:lnTo>
                  <a:lnTo>
                    <a:pt x="14002" y="5447"/>
                  </a:lnTo>
                  <a:lnTo>
                    <a:pt x="14032" y="5479"/>
                  </a:lnTo>
                  <a:lnTo>
                    <a:pt x="14063" y="5510"/>
                  </a:lnTo>
                  <a:lnTo>
                    <a:pt x="14095" y="5540"/>
                  </a:lnTo>
                  <a:lnTo>
                    <a:pt x="14127" y="5569"/>
                  </a:lnTo>
                  <a:lnTo>
                    <a:pt x="14162" y="5597"/>
                  </a:lnTo>
                  <a:lnTo>
                    <a:pt x="14196" y="5623"/>
                  </a:lnTo>
                  <a:lnTo>
                    <a:pt x="14231" y="5648"/>
                  </a:lnTo>
                  <a:lnTo>
                    <a:pt x="14267" y="5673"/>
                  </a:lnTo>
                  <a:lnTo>
                    <a:pt x="14304" y="5695"/>
                  </a:lnTo>
                  <a:lnTo>
                    <a:pt x="14342" y="5717"/>
                  </a:lnTo>
                  <a:lnTo>
                    <a:pt x="14380" y="5738"/>
                  </a:lnTo>
                  <a:lnTo>
                    <a:pt x="14420" y="5756"/>
                  </a:lnTo>
                  <a:lnTo>
                    <a:pt x="14459" y="5774"/>
                  </a:lnTo>
                  <a:lnTo>
                    <a:pt x="14500" y="5791"/>
                  </a:lnTo>
                  <a:lnTo>
                    <a:pt x="14540" y="5805"/>
                  </a:lnTo>
                  <a:lnTo>
                    <a:pt x="14583" y="5818"/>
                  </a:lnTo>
                  <a:lnTo>
                    <a:pt x="14625" y="5830"/>
                  </a:lnTo>
                  <a:lnTo>
                    <a:pt x="14667" y="5840"/>
                  </a:lnTo>
                  <a:lnTo>
                    <a:pt x="14711" y="5849"/>
                  </a:lnTo>
                  <a:lnTo>
                    <a:pt x="14754" y="5857"/>
                  </a:lnTo>
                  <a:lnTo>
                    <a:pt x="14799" y="5863"/>
                  </a:lnTo>
                  <a:lnTo>
                    <a:pt x="14844" y="5867"/>
                  </a:lnTo>
                  <a:lnTo>
                    <a:pt x="14888" y="5870"/>
                  </a:lnTo>
                  <a:lnTo>
                    <a:pt x="14934" y="5870"/>
                  </a:lnTo>
                  <a:lnTo>
                    <a:pt x="15001" y="5869"/>
                  </a:lnTo>
                  <a:lnTo>
                    <a:pt x="15067" y="5863"/>
                  </a:lnTo>
                  <a:lnTo>
                    <a:pt x="15132" y="5855"/>
                  </a:lnTo>
                  <a:lnTo>
                    <a:pt x="15196" y="5841"/>
                  </a:lnTo>
                  <a:lnTo>
                    <a:pt x="15259" y="5826"/>
                  </a:lnTo>
                  <a:lnTo>
                    <a:pt x="15321" y="5807"/>
                  </a:lnTo>
                  <a:lnTo>
                    <a:pt x="15382" y="5785"/>
                  </a:lnTo>
                  <a:lnTo>
                    <a:pt x="15440" y="5760"/>
                  </a:lnTo>
                  <a:lnTo>
                    <a:pt x="15498" y="5733"/>
                  </a:lnTo>
                  <a:lnTo>
                    <a:pt x="15554" y="5701"/>
                  </a:lnTo>
                  <a:lnTo>
                    <a:pt x="15609" y="5668"/>
                  </a:lnTo>
                  <a:lnTo>
                    <a:pt x="15662" y="5631"/>
                  </a:lnTo>
                  <a:lnTo>
                    <a:pt x="15712" y="5593"/>
                  </a:lnTo>
                  <a:lnTo>
                    <a:pt x="15762" y="5551"/>
                  </a:lnTo>
                  <a:lnTo>
                    <a:pt x="15809" y="5507"/>
                  </a:lnTo>
                  <a:lnTo>
                    <a:pt x="15854" y="5461"/>
                  </a:lnTo>
                  <a:lnTo>
                    <a:pt x="15897" y="5412"/>
                  </a:lnTo>
                  <a:lnTo>
                    <a:pt x="15939" y="5362"/>
                  </a:lnTo>
                  <a:lnTo>
                    <a:pt x="15977" y="5309"/>
                  </a:lnTo>
                  <a:lnTo>
                    <a:pt x="16014" y="5255"/>
                  </a:lnTo>
                  <a:lnTo>
                    <a:pt x="16047" y="5198"/>
                  </a:lnTo>
                  <a:lnTo>
                    <a:pt x="16079" y="5139"/>
                  </a:lnTo>
                  <a:lnTo>
                    <a:pt x="16107" y="5079"/>
                  </a:lnTo>
                  <a:lnTo>
                    <a:pt x="16134" y="5017"/>
                  </a:lnTo>
                  <a:lnTo>
                    <a:pt x="16157" y="4954"/>
                  </a:lnTo>
                  <a:lnTo>
                    <a:pt x="16177" y="4889"/>
                  </a:lnTo>
                  <a:lnTo>
                    <a:pt x="16194" y="4823"/>
                  </a:lnTo>
                  <a:lnTo>
                    <a:pt x="16210" y="4755"/>
                  </a:lnTo>
                  <a:lnTo>
                    <a:pt x="16221" y="4687"/>
                  </a:lnTo>
                  <a:lnTo>
                    <a:pt x="16229" y="4617"/>
                  </a:lnTo>
                  <a:lnTo>
                    <a:pt x="16234" y="4546"/>
                  </a:lnTo>
                  <a:lnTo>
                    <a:pt x="16236" y="4474"/>
                  </a:lnTo>
                  <a:lnTo>
                    <a:pt x="14334" y="0"/>
                  </a:lnTo>
                  <a:lnTo>
                    <a:pt x="190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a:off x="2973240" y="1430640"/>
              <a:ext cx="749160" cy="250920"/>
            </a:xfrm>
            <a:custGeom>
              <a:avLst/>
              <a:gdLst/>
              <a:ahLst/>
              <a:rect l="l" t="t" r="r" b="b"/>
              <a:pathLst>
                <a:path w="15567" h="5218">
                  <a:moveTo>
                    <a:pt x="1935" y="4181"/>
                  </a:moveTo>
                  <a:lnTo>
                    <a:pt x="1934" y="4235"/>
                  </a:lnTo>
                  <a:lnTo>
                    <a:pt x="1930" y="4288"/>
                  </a:lnTo>
                  <a:lnTo>
                    <a:pt x="1924" y="4339"/>
                  </a:lnTo>
                  <a:lnTo>
                    <a:pt x="1916" y="4390"/>
                  </a:lnTo>
                  <a:lnTo>
                    <a:pt x="1905" y="4441"/>
                  </a:lnTo>
                  <a:lnTo>
                    <a:pt x="1891" y="4490"/>
                  </a:lnTo>
                  <a:lnTo>
                    <a:pt x="1876" y="4537"/>
                  </a:lnTo>
                  <a:lnTo>
                    <a:pt x="1859" y="4585"/>
                  </a:lnTo>
                  <a:lnTo>
                    <a:pt x="1840" y="4631"/>
                  </a:lnTo>
                  <a:lnTo>
                    <a:pt x="1818" y="4675"/>
                  </a:lnTo>
                  <a:lnTo>
                    <a:pt x="1795" y="4719"/>
                  </a:lnTo>
                  <a:lnTo>
                    <a:pt x="1770" y="4761"/>
                  </a:lnTo>
                  <a:lnTo>
                    <a:pt x="1742" y="4801"/>
                  </a:lnTo>
                  <a:lnTo>
                    <a:pt x="1714" y="4841"/>
                  </a:lnTo>
                  <a:lnTo>
                    <a:pt x="1683" y="4878"/>
                  </a:lnTo>
                  <a:lnTo>
                    <a:pt x="1651" y="4915"/>
                  </a:lnTo>
                  <a:lnTo>
                    <a:pt x="1617" y="4948"/>
                  </a:lnTo>
                  <a:lnTo>
                    <a:pt x="1582" y="4982"/>
                  </a:lnTo>
                  <a:lnTo>
                    <a:pt x="1545" y="5012"/>
                  </a:lnTo>
                  <a:lnTo>
                    <a:pt x="1508" y="5041"/>
                  </a:lnTo>
                  <a:lnTo>
                    <a:pt x="1468" y="5068"/>
                  </a:lnTo>
                  <a:lnTo>
                    <a:pt x="1428" y="5094"/>
                  </a:lnTo>
                  <a:lnTo>
                    <a:pt x="1386" y="5116"/>
                  </a:lnTo>
                  <a:lnTo>
                    <a:pt x="1343" y="5137"/>
                  </a:lnTo>
                  <a:lnTo>
                    <a:pt x="1300" y="5156"/>
                  </a:lnTo>
                  <a:lnTo>
                    <a:pt x="1254" y="5172"/>
                  </a:lnTo>
                  <a:lnTo>
                    <a:pt x="1208" y="5186"/>
                  </a:lnTo>
                  <a:lnTo>
                    <a:pt x="1162" y="5197"/>
                  </a:lnTo>
                  <a:lnTo>
                    <a:pt x="1114" y="5206"/>
                  </a:lnTo>
                  <a:lnTo>
                    <a:pt x="1065" y="5213"/>
                  </a:lnTo>
                  <a:lnTo>
                    <a:pt x="1017" y="5217"/>
                  </a:lnTo>
                  <a:lnTo>
                    <a:pt x="967" y="5218"/>
                  </a:lnTo>
                  <a:lnTo>
                    <a:pt x="917" y="5217"/>
                  </a:lnTo>
                  <a:lnTo>
                    <a:pt x="868" y="5213"/>
                  </a:lnTo>
                  <a:lnTo>
                    <a:pt x="820" y="5206"/>
                  </a:lnTo>
                  <a:lnTo>
                    <a:pt x="772" y="5197"/>
                  </a:lnTo>
                  <a:lnTo>
                    <a:pt x="725" y="5186"/>
                  </a:lnTo>
                  <a:lnTo>
                    <a:pt x="680" y="5172"/>
                  </a:lnTo>
                  <a:lnTo>
                    <a:pt x="634" y="5156"/>
                  </a:lnTo>
                  <a:lnTo>
                    <a:pt x="590" y="5137"/>
                  </a:lnTo>
                  <a:lnTo>
                    <a:pt x="548" y="5116"/>
                  </a:lnTo>
                  <a:lnTo>
                    <a:pt x="506" y="5094"/>
                  </a:lnTo>
                  <a:lnTo>
                    <a:pt x="466" y="5068"/>
                  </a:lnTo>
                  <a:lnTo>
                    <a:pt x="426" y="5041"/>
                  </a:lnTo>
                  <a:lnTo>
                    <a:pt x="389" y="5012"/>
                  </a:lnTo>
                  <a:lnTo>
                    <a:pt x="352" y="4982"/>
                  </a:lnTo>
                  <a:lnTo>
                    <a:pt x="316" y="4948"/>
                  </a:lnTo>
                  <a:lnTo>
                    <a:pt x="283" y="4915"/>
                  </a:lnTo>
                  <a:lnTo>
                    <a:pt x="251" y="4878"/>
                  </a:lnTo>
                  <a:lnTo>
                    <a:pt x="220" y="4841"/>
                  </a:lnTo>
                  <a:lnTo>
                    <a:pt x="192" y="4801"/>
                  </a:lnTo>
                  <a:lnTo>
                    <a:pt x="164" y="4761"/>
                  </a:lnTo>
                  <a:lnTo>
                    <a:pt x="140" y="4719"/>
                  </a:lnTo>
                  <a:lnTo>
                    <a:pt x="117" y="4675"/>
                  </a:lnTo>
                  <a:lnTo>
                    <a:pt x="95" y="4631"/>
                  </a:lnTo>
                  <a:lnTo>
                    <a:pt x="76" y="4585"/>
                  </a:lnTo>
                  <a:lnTo>
                    <a:pt x="58" y="4537"/>
                  </a:lnTo>
                  <a:lnTo>
                    <a:pt x="42" y="4490"/>
                  </a:lnTo>
                  <a:lnTo>
                    <a:pt x="30" y="4441"/>
                  </a:lnTo>
                  <a:lnTo>
                    <a:pt x="19" y="4390"/>
                  </a:lnTo>
                  <a:lnTo>
                    <a:pt x="10" y="4339"/>
                  </a:lnTo>
                  <a:lnTo>
                    <a:pt x="4" y="4288"/>
                  </a:lnTo>
                  <a:lnTo>
                    <a:pt x="1" y="4235"/>
                  </a:lnTo>
                  <a:lnTo>
                    <a:pt x="0" y="4181"/>
                  </a:lnTo>
                  <a:lnTo>
                    <a:pt x="1738" y="0"/>
                  </a:lnTo>
                  <a:lnTo>
                    <a:pt x="1853" y="0"/>
                  </a:lnTo>
                  <a:lnTo>
                    <a:pt x="2030" y="0"/>
                  </a:lnTo>
                  <a:lnTo>
                    <a:pt x="2250" y="0"/>
                  </a:lnTo>
                  <a:lnTo>
                    <a:pt x="2490" y="0"/>
                  </a:lnTo>
                  <a:lnTo>
                    <a:pt x="2730" y="0"/>
                  </a:lnTo>
                  <a:lnTo>
                    <a:pt x="2949" y="0"/>
                  </a:lnTo>
                  <a:lnTo>
                    <a:pt x="3126" y="0"/>
                  </a:lnTo>
                  <a:lnTo>
                    <a:pt x="3241" y="0"/>
                  </a:lnTo>
                  <a:lnTo>
                    <a:pt x="1935" y="4181"/>
                  </a:lnTo>
                  <a:close/>
                  <a:moveTo>
                    <a:pt x="5519" y="5218"/>
                  </a:moveTo>
                  <a:lnTo>
                    <a:pt x="5469" y="5217"/>
                  </a:lnTo>
                  <a:lnTo>
                    <a:pt x="5421" y="5213"/>
                  </a:lnTo>
                  <a:lnTo>
                    <a:pt x="5372" y="5206"/>
                  </a:lnTo>
                  <a:lnTo>
                    <a:pt x="5324" y="5197"/>
                  </a:lnTo>
                  <a:lnTo>
                    <a:pt x="5278" y="5186"/>
                  </a:lnTo>
                  <a:lnTo>
                    <a:pt x="5232" y="5172"/>
                  </a:lnTo>
                  <a:lnTo>
                    <a:pt x="5187" y="5156"/>
                  </a:lnTo>
                  <a:lnTo>
                    <a:pt x="5143" y="5137"/>
                  </a:lnTo>
                  <a:lnTo>
                    <a:pt x="5100" y="5116"/>
                  </a:lnTo>
                  <a:lnTo>
                    <a:pt x="5058" y="5094"/>
                  </a:lnTo>
                  <a:lnTo>
                    <a:pt x="5018" y="5068"/>
                  </a:lnTo>
                  <a:lnTo>
                    <a:pt x="4978" y="5041"/>
                  </a:lnTo>
                  <a:lnTo>
                    <a:pt x="4941" y="5012"/>
                  </a:lnTo>
                  <a:lnTo>
                    <a:pt x="4904" y="4982"/>
                  </a:lnTo>
                  <a:lnTo>
                    <a:pt x="4869" y="4948"/>
                  </a:lnTo>
                  <a:lnTo>
                    <a:pt x="4835" y="4915"/>
                  </a:lnTo>
                  <a:lnTo>
                    <a:pt x="4803" y="4878"/>
                  </a:lnTo>
                  <a:lnTo>
                    <a:pt x="4772" y="4841"/>
                  </a:lnTo>
                  <a:lnTo>
                    <a:pt x="4744" y="4801"/>
                  </a:lnTo>
                  <a:lnTo>
                    <a:pt x="4717" y="4761"/>
                  </a:lnTo>
                  <a:lnTo>
                    <a:pt x="4692" y="4719"/>
                  </a:lnTo>
                  <a:lnTo>
                    <a:pt x="4669" y="4675"/>
                  </a:lnTo>
                  <a:lnTo>
                    <a:pt x="4647" y="4631"/>
                  </a:lnTo>
                  <a:lnTo>
                    <a:pt x="4628" y="4585"/>
                  </a:lnTo>
                  <a:lnTo>
                    <a:pt x="4610" y="4537"/>
                  </a:lnTo>
                  <a:lnTo>
                    <a:pt x="4595" y="4490"/>
                  </a:lnTo>
                  <a:lnTo>
                    <a:pt x="4582" y="4441"/>
                  </a:lnTo>
                  <a:lnTo>
                    <a:pt x="4571" y="4390"/>
                  </a:lnTo>
                  <a:lnTo>
                    <a:pt x="4562" y="4339"/>
                  </a:lnTo>
                  <a:lnTo>
                    <a:pt x="4556" y="4288"/>
                  </a:lnTo>
                  <a:lnTo>
                    <a:pt x="4553" y="4235"/>
                  </a:lnTo>
                  <a:lnTo>
                    <a:pt x="4552" y="4181"/>
                  </a:lnTo>
                  <a:lnTo>
                    <a:pt x="5274" y="0"/>
                  </a:lnTo>
                  <a:lnTo>
                    <a:pt x="5388" y="0"/>
                  </a:lnTo>
                  <a:lnTo>
                    <a:pt x="5566" y="0"/>
                  </a:lnTo>
                  <a:lnTo>
                    <a:pt x="5785" y="0"/>
                  </a:lnTo>
                  <a:lnTo>
                    <a:pt x="6024" y="0"/>
                  </a:lnTo>
                  <a:lnTo>
                    <a:pt x="6265" y="0"/>
                  </a:lnTo>
                  <a:lnTo>
                    <a:pt x="6484" y="0"/>
                  </a:lnTo>
                  <a:lnTo>
                    <a:pt x="6662" y="0"/>
                  </a:lnTo>
                  <a:lnTo>
                    <a:pt x="6776" y="0"/>
                  </a:lnTo>
                  <a:lnTo>
                    <a:pt x="6775" y="43"/>
                  </a:lnTo>
                  <a:lnTo>
                    <a:pt x="6773" y="105"/>
                  </a:lnTo>
                  <a:lnTo>
                    <a:pt x="6769" y="184"/>
                  </a:lnTo>
                  <a:lnTo>
                    <a:pt x="6764" y="279"/>
                  </a:lnTo>
                  <a:lnTo>
                    <a:pt x="6750" y="516"/>
                  </a:lnTo>
                  <a:lnTo>
                    <a:pt x="6732" y="801"/>
                  </a:lnTo>
                  <a:lnTo>
                    <a:pt x="6685" y="1476"/>
                  </a:lnTo>
                  <a:lnTo>
                    <a:pt x="6631" y="2222"/>
                  </a:lnTo>
                  <a:lnTo>
                    <a:pt x="6578" y="2951"/>
                  </a:lnTo>
                  <a:lnTo>
                    <a:pt x="6532" y="3577"/>
                  </a:lnTo>
                  <a:lnTo>
                    <a:pt x="6499" y="4016"/>
                  </a:lnTo>
                  <a:lnTo>
                    <a:pt x="6487" y="4181"/>
                  </a:lnTo>
                  <a:lnTo>
                    <a:pt x="6485" y="4235"/>
                  </a:lnTo>
                  <a:lnTo>
                    <a:pt x="6482" y="4288"/>
                  </a:lnTo>
                  <a:lnTo>
                    <a:pt x="6476" y="4339"/>
                  </a:lnTo>
                  <a:lnTo>
                    <a:pt x="6467" y="4390"/>
                  </a:lnTo>
                  <a:lnTo>
                    <a:pt x="6457" y="4441"/>
                  </a:lnTo>
                  <a:lnTo>
                    <a:pt x="6444" y="4490"/>
                  </a:lnTo>
                  <a:lnTo>
                    <a:pt x="6428" y="4537"/>
                  </a:lnTo>
                  <a:lnTo>
                    <a:pt x="6411" y="4585"/>
                  </a:lnTo>
                  <a:lnTo>
                    <a:pt x="6391" y="4631"/>
                  </a:lnTo>
                  <a:lnTo>
                    <a:pt x="6369" y="4675"/>
                  </a:lnTo>
                  <a:lnTo>
                    <a:pt x="6346" y="4719"/>
                  </a:lnTo>
                  <a:lnTo>
                    <a:pt x="6322" y="4761"/>
                  </a:lnTo>
                  <a:lnTo>
                    <a:pt x="6294" y="4801"/>
                  </a:lnTo>
                  <a:lnTo>
                    <a:pt x="6266" y="4841"/>
                  </a:lnTo>
                  <a:lnTo>
                    <a:pt x="6236" y="4878"/>
                  </a:lnTo>
                  <a:lnTo>
                    <a:pt x="6203" y="4915"/>
                  </a:lnTo>
                  <a:lnTo>
                    <a:pt x="6170" y="4948"/>
                  </a:lnTo>
                  <a:lnTo>
                    <a:pt x="6134" y="4982"/>
                  </a:lnTo>
                  <a:lnTo>
                    <a:pt x="6098" y="5012"/>
                  </a:lnTo>
                  <a:lnTo>
                    <a:pt x="6060" y="5041"/>
                  </a:lnTo>
                  <a:lnTo>
                    <a:pt x="6020" y="5068"/>
                  </a:lnTo>
                  <a:lnTo>
                    <a:pt x="5980" y="5094"/>
                  </a:lnTo>
                  <a:lnTo>
                    <a:pt x="5938" y="5116"/>
                  </a:lnTo>
                  <a:lnTo>
                    <a:pt x="5896" y="5137"/>
                  </a:lnTo>
                  <a:lnTo>
                    <a:pt x="5852" y="5156"/>
                  </a:lnTo>
                  <a:lnTo>
                    <a:pt x="5806" y="5172"/>
                  </a:lnTo>
                  <a:lnTo>
                    <a:pt x="5761" y="5186"/>
                  </a:lnTo>
                  <a:lnTo>
                    <a:pt x="5714" y="5197"/>
                  </a:lnTo>
                  <a:lnTo>
                    <a:pt x="5666" y="5206"/>
                  </a:lnTo>
                  <a:lnTo>
                    <a:pt x="5619" y="5213"/>
                  </a:lnTo>
                  <a:lnTo>
                    <a:pt x="5569" y="5217"/>
                  </a:lnTo>
                  <a:lnTo>
                    <a:pt x="5519" y="5218"/>
                  </a:lnTo>
                  <a:close/>
                  <a:moveTo>
                    <a:pt x="10060" y="5218"/>
                  </a:moveTo>
                  <a:lnTo>
                    <a:pt x="10010" y="5217"/>
                  </a:lnTo>
                  <a:lnTo>
                    <a:pt x="9961" y="5213"/>
                  </a:lnTo>
                  <a:lnTo>
                    <a:pt x="9913" y="5206"/>
                  </a:lnTo>
                  <a:lnTo>
                    <a:pt x="9865" y="5197"/>
                  </a:lnTo>
                  <a:lnTo>
                    <a:pt x="9818" y="5186"/>
                  </a:lnTo>
                  <a:lnTo>
                    <a:pt x="9772" y="5172"/>
                  </a:lnTo>
                  <a:lnTo>
                    <a:pt x="9727" y="5156"/>
                  </a:lnTo>
                  <a:lnTo>
                    <a:pt x="9684" y="5137"/>
                  </a:lnTo>
                  <a:lnTo>
                    <a:pt x="9640" y="5116"/>
                  </a:lnTo>
                  <a:lnTo>
                    <a:pt x="9598" y="5094"/>
                  </a:lnTo>
                  <a:lnTo>
                    <a:pt x="9558" y="5068"/>
                  </a:lnTo>
                  <a:lnTo>
                    <a:pt x="9519" y="5041"/>
                  </a:lnTo>
                  <a:lnTo>
                    <a:pt x="9481" y="5012"/>
                  </a:lnTo>
                  <a:lnTo>
                    <a:pt x="9444" y="4982"/>
                  </a:lnTo>
                  <a:lnTo>
                    <a:pt x="9409" y="4948"/>
                  </a:lnTo>
                  <a:lnTo>
                    <a:pt x="9375" y="4915"/>
                  </a:lnTo>
                  <a:lnTo>
                    <a:pt x="9344" y="4878"/>
                  </a:lnTo>
                  <a:lnTo>
                    <a:pt x="9313" y="4841"/>
                  </a:lnTo>
                  <a:lnTo>
                    <a:pt x="9284" y="4801"/>
                  </a:lnTo>
                  <a:lnTo>
                    <a:pt x="9257" y="4761"/>
                  </a:lnTo>
                  <a:lnTo>
                    <a:pt x="9232" y="4719"/>
                  </a:lnTo>
                  <a:lnTo>
                    <a:pt x="9209" y="4675"/>
                  </a:lnTo>
                  <a:lnTo>
                    <a:pt x="9187" y="4631"/>
                  </a:lnTo>
                  <a:lnTo>
                    <a:pt x="9168" y="4585"/>
                  </a:lnTo>
                  <a:lnTo>
                    <a:pt x="9151" y="4537"/>
                  </a:lnTo>
                  <a:lnTo>
                    <a:pt x="9136" y="4490"/>
                  </a:lnTo>
                  <a:lnTo>
                    <a:pt x="9122" y="4441"/>
                  </a:lnTo>
                  <a:lnTo>
                    <a:pt x="9111" y="4390"/>
                  </a:lnTo>
                  <a:lnTo>
                    <a:pt x="9103" y="4339"/>
                  </a:lnTo>
                  <a:lnTo>
                    <a:pt x="9097" y="4288"/>
                  </a:lnTo>
                  <a:lnTo>
                    <a:pt x="9093" y="4235"/>
                  </a:lnTo>
                  <a:lnTo>
                    <a:pt x="9092" y="4181"/>
                  </a:lnTo>
                  <a:lnTo>
                    <a:pt x="8800" y="0"/>
                  </a:lnTo>
                  <a:lnTo>
                    <a:pt x="8914" y="0"/>
                  </a:lnTo>
                  <a:lnTo>
                    <a:pt x="9092" y="0"/>
                  </a:lnTo>
                  <a:lnTo>
                    <a:pt x="9311" y="0"/>
                  </a:lnTo>
                  <a:lnTo>
                    <a:pt x="9551" y="0"/>
                  </a:lnTo>
                  <a:lnTo>
                    <a:pt x="9790" y="0"/>
                  </a:lnTo>
                  <a:lnTo>
                    <a:pt x="10009" y="0"/>
                  </a:lnTo>
                  <a:lnTo>
                    <a:pt x="10187" y="0"/>
                  </a:lnTo>
                  <a:lnTo>
                    <a:pt x="10302" y="0"/>
                  </a:lnTo>
                  <a:lnTo>
                    <a:pt x="10304" y="43"/>
                  </a:lnTo>
                  <a:lnTo>
                    <a:pt x="10310" y="105"/>
                  </a:lnTo>
                  <a:lnTo>
                    <a:pt x="10320" y="184"/>
                  </a:lnTo>
                  <a:lnTo>
                    <a:pt x="10333" y="279"/>
                  </a:lnTo>
                  <a:lnTo>
                    <a:pt x="10349" y="391"/>
                  </a:lnTo>
                  <a:lnTo>
                    <a:pt x="10369" y="516"/>
                  </a:lnTo>
                  <a:lnTo>
                    <a:pt x="10391" y="653"/>
                  </a:lnTo>
                  <a:lnTo>
                    <a:pt x="10415" y="801"/>
                  </a:lnTo>
                  <a:lnTo>
                    <a:pt x="10470" y="1125"/>
                  </a:lnTo>
                  <a:lnTo>
                    <a:pt x="10531" y="1476"/>
                  </a:lnTo>
                  <a:lnTo>
                    <a:pt x="10596" y="1846"/>
                  </a:lnTo>
                  <a:lnTo>
                    <a:pt x="10664" y="2222"/>
                  </a:lnTo>
                  <a:lnTo>
                    <a:pt x="10797" y="2951"/>
                  </a:lnTo>
                  <a:lnTo>
                    <a:pt x="10912" y="3577"/>
                  </a:lnTo>
                  <a:lnTo>
                    <a:pt x="10995" y="4016"/>
                  </a:lnTo>
                  <a:lnTo>
                    <a:pt x="11026" y="4181"/>
                  </a:lnTo>
                  <a:lnTo>
                    <a:pt x="11025" y="4235"/>
                  </a:lnTo>
                  <a:lnTo>
                    <a:pt x="11021" y="4288"/>
                  </a:lnTo>
                  <a:lnTo>
                    <a:pt x="11015" y="4339"/>
                  </a:lnTo>
                  <a:lnTo>
                    <a:pt x="11007" y="4390"/>
                  </a:lnTo>
                  <a:lnTo>
                    <a:pt x="10996" y="4441"/>
                  </a:lnTo>
                  <a:lnTo>
                    <a:pt x="10983" y="4490"/>
                  </a:lnTo>
                  <a:lnTo>
                    <a:pt x="10967" y="4537"/>
                  </a:lnTo>
                  <a:lnTo>
                    <a:pt x="10950" y="4585"/>
                  </a:lnTo>
                  <a:lnTo>
                    <a:pt x="10931" y="4631"/>
                  </a:lnTo>
                  <a:lnTo>
                    <a:pt x="10909" y="4675"/>
                  </a:lnTo>
                  <a:lnTo>
                    <a:pt x="10886" y="4719"/>
                  </a:lnTo>
                  <a:lnTo>
                    <a:pt x="10861" y="4761"/>
                  </a:lnTo>
                  <a:lnTo>
                    <a:pt x="10833" y="4801"/>
                  </a:lnTo>
                  <a:lnTo>
                    <a:pt x="10805" y="4841"/>
                  </a:lnTo>
                  <a:lnTo>
                    <a:pt x="10774" y="4878"/>
                  </a:lnTo>
                  <a:lnTo>
                    <a:pt x="10743" y="4915"/>
                  </a:lnTo>
                  <a:lnTo>
                    <a:pt x="10710" y="4948"/>
                  </a:lnTo>
                  <a:lnTo>
                    <a:pt x="10674" y="4982"/>
                  </a:lnTo>
                  <a:lnTo>
                    <a:pt x="10637" y="5012"/>
                  </a:lnTo>
                  <a:lnTo>
                    <a:pt x="10600" y="5041"/>
                  </a:lnTo>
                  <a:lnTo>
                    <a:pt x="10560" y="5068"/>
                  </a:lnTo>
                  <a:lnTo>
                    <a:pt x="10520" y="5094"/>
                  </a:lnTo>
                  <a:lnTo>
                    <a:pt x="10478" y="5116"/>
                  </a:lnTo>
                  <a:lnTo>
                    <a:pt x="10436" y="5137"/>
                  </a:lnTo>
                  <a:lnTo>
                    <a:pt x="10392" y="5156"/>
                  </a:lnTo>
                  <a:lnTo>
                    <a:pt x="10346" y="5172"/>
                  </a:lnTo>
                  <a:lnTo>
                    <a:pt x="10301" y="5186"/>
                  </a:lnTo>
                  <a:lnTo>
                    <a:pt x="10254" y="5197"/>
                  </a:lnTo>
                  <a:lnTo>
                    <a:pt x="10206" y="5206"/>
                  </a:lnTo>
                  <a:lnTo>
                    <a:pt x="10159" y="5213"/>
                  </a:lnTo>
                  <a:lnTo>
                    <a:pt x="10110" y="5217"/>
                  </a:lnTo>
                  <a:lnTo>
                    <a:pt x="10060" y="5218"/>
                  </a:lnTo>
                  <a:close/>
                  <a:moveTo>
                    <a:pt x="15567" y="4181"/>
                  </a:moveTo>
                  <a:lnTo>
                    <a:pt x="15565" y="4235"/>
                  </a:lnTo>
                  <a:lnTo>
                    <a:pt x="15562" y="4288"/>
                  </a:lnTo>
                  <a:lnTo>
                    <a:pt x="15556" y="4339"/>
                  </a:lnTo>
                  <a:lnTo>
                    <a:pt x="15547" y="4390"/>
                  </a:lnTo>
                  <a:lnTo>
                    <a:pt x="15537" y="4441"/>
                  </a:lnTo>
                  <a:lnTo>
                    <a:pt x="15524" y="4490"/>
                  </a:lnTo>
                  <a:lnTo>
                    <a:pt x="15508" y="4537"/>
                  </a:lnTo>
                  <a:lnTo>
                    <a:pt x="15491" y="4585"/>
                  </a:lnTo>
                  <a:lnTo>
                    <a:pt x="15471" y="4631"/>
                  </a:lnTo>
                  <a:lnTo>
                    <a:pt x="15449" y="4675"/>
                  </a:lnTo>
                  <a:lnTo>
                    <a:pt x="15426" y="4719"/>
                  </a:lnTo>
                  <a:lnTo>
                    <a:pt x="15402" y="4761"/>
                  </a:lnTo>
                  <a:lnTo>
                    <a:pt x="15374" y="4801"/>
                  </a:lnTo>
                  <a:lnTo>
                    <a:pt x="15346" y="4841"/>
                  </a:lnTo>
                  <a:lnTo>
                    <a:pt x="15315" y="4878"/>
                  </a:lnTo>
                  <a:lnTo>
                    <a:pt x="15283" y="4915"/>
                  </a:lnTo>
                  <a:lnTo>
                    <a:pt x="15250" y="4948"/>
                  </a:lnTo>
                  <a:lnTo>
                    <a:pt x="15214" y="4982"/>
                  </a:lnTo>
                  <a:lnTo>
                    <a:pt x="15177" y="5012"/>
                  </a:lnTo>
                  <a:lnTo>
                    <a:pt x="15140" y="5041"/>
                  </a:lnTo>
                  <a:lnTo>
                    <a:pt x="15100" y="5068"/>
                  </a:lnTo>
                  <a:lnTo>
                    <a:pt x="15060" y="5094"/>
                  </a:lnTo>
                  <a:lnTo>
                    <a:pt x="15018" y="5116"/>
                  </a:lnTo>
                  <a:lnTo>
                    <a:pt x="14976" y="5137"/>
                  </a:lnTo>
                  <a:lnTo>
                    <a:pt x="14931" y="5156"/>
                  </a:lnTo>
                  <a:lnTo>
                    <a:pt x="14886" y="5172"/>
                  </a:lnTo>
                  <a:lnTo>
                    <a:pt x="14841" y="5186"/>
                  </a:lnTo>
                  <a:lnTo>
                    <a:pt x="14794" y="5197"/>
                  </a:lnTo>
                  <a:lnTo>
                    <a:pt x="14746" y="5206"/>
                  </a:lnTo>
                  <a:lnTo>
                    <a:pt x="14698" y="5213"/>
                  </a:lnTo>
                  <a:lnTo>
                    <a:pt x="14649" y="5217"/>
                  </a:lnTo>
                  <a:lnTo>
                    <a:pt x="14599" y="5218"/>
                  </a:lnTo>
                  <a:lnTo>
                    <a:pt x="14549" y="5217"/>
                  </a:lnTo>
                  <a:lnTo>
                    <a:pt x="14500" y="5213"/>
                  </a:lnTo>
                  <a:lnTo>
                    <a:pt x="14452" y="5206"/>
                  </a:lnTo>
                  <a:lnTo>
                    <a:pt x="14404" y="5197"/>
                  </a:lnTo>
                  <a:lnTo>
                    <a:pt x="14358" y="5186"/>
                  </a:lnTo>
                  <a:lnTo>
                    <a:pt x="14311" y="5172"/>
                  </a:lnTo>
                  <a:lnTo>
                    <a:pt x="14266" y="5156"/>
                  </a:lnTo>
                  <a:lnTo>
                    <a:pt x="14223" y="5137"/>
                  </a:lnTo>
                  <a:lnTo>
                    <a:pt x="14180" y="5116"/>
                  </a:lnTo>
                  <a:lnTo>
                    <a:pt x="14138" y="5094"/>
                  </a:lnTo>
                  <a:lnTo>
                    <a:pt x="14098" y="5068"/>
                  </a:lnTo>
                  <a:lnTo>
                    <a:pt x="14058" y="5041"/>
                  </a:lnTo>
                  <a:lnTo>
                    <a:pt x="14020" y="5012"/>
                  </a:lnTo>
                  <a:lnTo>
                    <a:pt x="13983" y="4982"/>
                  </a:lnTo>
                  <a:lnTo>
                    <a:pt x="13949" y="4948"/>
                  </a:lnTo>
                  <a:lnTo>
                    <a:pt x="13915" y="4915"/>
                  </a:lnTo>
                  <a:lnTo>
                    <a:pt x="13883" y="4878"/>
                  </a:lnTo>
                  <a:lnTo>
                    <a:pt x="13852" y="4841"/>
                  </a:lnTo>
                  <a:lnTo>
                    <a:pt x="13824" y="4801"/>
                  </a:lnTo>
                  <a:lnTo>
                    <a:pt x="13796" y="4761"/>
                  </a:lnTo>
                  <a:lnTo>
                    <a:pt x="13771" y="4719"/>
                  </a:lnTo>
                  <a:lnTo>
                    <a:pt x="13748" y="4675"/>
                  </a:lnTo>
                  <a:lnTo>
                    <a:pt x="13726" y="4631"/>
                  </a:lnTo>
                  <a:lnTo>
                    <a:pt x="13707" y="4585"/>
                  </a:lnTo>
                  <a:lnTo>
                    <a:pt x="13690" y="4537"/>
                  </a:lnTo>
                  <a:lnTo>
                    <a:pt x="13675" y="4490"/>
                  </a:lnTo>
                  <a:lnTo>
                    <a:pt x="13661" y="4441"/>
                  </a:lnTo>
                  <a:lnTo>
                    <a:pt x="13650" y="4390"/>
                  </a:lnTo>
                  <a:lnTo>
                    <a:pt x="13642" y="4339"/>
                  </a:lnTo>
                  <a:lnTo>
                    <a:pt x="13636" y="4288"/>
                  </a:lnTo>
                  <a:lnTo>
                    <a:pt x="13632" y="4235"/>
                  </a:lnTo>
                  <a:lnTo>
                    <a:pt x="13631" y="4181"/>
                  </a:lnTo>
                  <a:lnTo>
                    <a:pt x="12325" y="0"/>
                  </a:lnTo>
                  <a:lnTo>
                    <a:pt x="12440" y="0"/>
                  </a:lnTo>
                  <a:lnTo>
                    <a:pt x="12617" y="0"/>
                  </a:lnTo>
                  <a:lnTo>
                    <a:pt x="12836" y="0"/>
                  </a:lnTo>
                  <a:lnTo>
                    <a:pt x="13077" y="0"/>
                  </a:lnTo>
                  <a:lnTo>
                    <a:pt x="13316" y="0"/>
                  </a:lnTo>
                  <a:lnTo>
                    <a:pt x="13536" y="0"/>
                  </a:lnTo>
                  <a:lnTo>
                    <a:pt x="13713" y="0"/>
                  </a:lnTo>
                  <a:lnTo>
                    <a:pt x="13828" y="0"/>
                  </a:lnTo>
                  <a:lnTo>
                    <a:pt x="15567" y="4181"/>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
            <p:cNvSpPr/>
            <p:nvPr/>
          </p:nvSpPr>
          <p:spPr>
            <a:xfrm>
              <a:off x="3082680" y="1432080"/>
              <a:ext cx="131760" cy="250920"/>
            </a:xfrm>
            <a:custGeom>
              <a:avLst/>
              <a:gdLst/>
              <a:ahLst/>
              <a:rect l="l" t="t" r="r" b="b"/>
              <a:pathLst>
                <a:path w="2733" h="5218">
                  <a:moveTo>
                    <a:pt x="1230" y="0"/>
                  </a:moveTo>
                  <a:lnTo>
                    <a:pt x="1345" y="0"/>
                  </a:lnTo>
                  <a:lnTo>
                    <a:pt x="1522" y="0"/>
                  </a:lnTo>
                  <a:lnTo>
                    <a:pt x="1741" y="0"/>
                  </a:lnTo>
                  <a:lnTo>
                    <a:pt x="1982" y="0"/>
                  </a:lnTo>
                  <a:lnTo>
                    <a:pt x="2221" y="0"/>
                  </a:lnTo>
                  <a:lnTo>
                    <a:pt x="2440" y="0"/>
                  </a:lnTo>
                  <a:lnTo>
                    <a:pt x="2618" y="0"/>
                  </a:lnTo>
                  <a:lnTo>
                    <a:pt x="2733" y="0"/>
                  </a:lnTo>
                  <a:lnTo>
                    <a:pt x="2731" y="42"/>
                  </a:lnTo>
                  <a:lnTo>
                    <a:pt x="2725" y="104"/>
                  </a:lnTo>
                  <a:lnTo>
                    <a:pt x="2713" y="184"/>
                  </a:lnTo>
                  <a:lnTo>
                    <a:pt x="2699" y="280"/>
                  </a:lnTo>
                  <a:lnTo>
                    <a:pt x="2681" y="390"/>
                  </a:lnTo>
                  <a:lnTo>
                    <a:pt x="2660" y="515"/>
                  </a:lnTo>
                  <a:lnTo>
                    <a:pt x="2635" y="652"/>
                  </a:lnTo>
                  <a:lnTo>
                    <a:pt x="2609" y="800"/>
                  </a:lnTo>
                  <a:lnTo>
                    <a:pt x="2548" y="1124"/>
                  </a:lnTo>
                  <a:lnTo>
                    <a:pt x="2481" y="1476"/>
                  </a:lnTo>
                  <a:lnTo>
                    <a:pt x="2409" y="1845"/>
                  </a:lnTo>
                  <a:lnTo>
                    <a:pt x="2335" y="2221"/>
                  </a:lnTo>
                  <a:lnTo>
                    <a:pt x="2188" y="2950"/>
                  </a:lnTo>
                  <a:lnTo>
                    <a:pt x="2061" y="3576"/>
                  </a:lnTo>
                  <a:lnTo>
                    <a:pt x="1971" y="4015"/>
                  </a:lnTo>
                  <a:lnTo>
                    <a:pt x="1936" y="4180"/>
                  </a:lnTo>
                  <a:lnTo>
                    <a:pt x="1935" y="4234"/>
                  </a:lnTo>
                  <a:lnTo>
                    <a:pt x="1931" y="4286"/>
                  </a:lnTo>
                  <a:lnTo>
                    <a:pt x="1925" y="4339"/>
                  </a:lnTo>
                  <a:lnTo>
                    <a:pt x="1916" y="4389"/>
                  </a:lnTo>
                  <a:lnTo>
                    <a:pt x="1906" y="4439"/>
                  </a:lnTo>
                  <a:lnTo>
                    <a:pt x="1892" y="4489"/>
                  </a:lnTo>
                  <a:lnTo>
                    <a:pt x="1877" y="4537"/>
                  </a:lnTo>
                  <a:lnTo>
                    <a:pt x="1860" y="4583"/>
                  </a:lnTo>
                  <a:lnTo>
                    <a:pt x="1841" y="4630"/>
                  </a:lnTo>
                  <a:lnTo>
                    <a:pt x="1818" y="4675"/>
                  </a:lnTo>
                  <a:lnTo>
                    <a:pt x="1795" y="4718"/>
                  </a:lnTo>
                  <a:lnTo>
                    <a:pt x="1771" y="4760"/>
                  </a:lnTo>
                  <a:lnTo>
                    <a:pt x="1743" y="4800"/>
                  </a:lnTo>
                  <a:lnTo>
                    <a:pt x="1715" y="4840"/>
                  </a:lnTo>
                  <a:lnTo>
                    <a:pt x="1684" y="4878"/>
                  </a:lnTo>
                  <a:lnTo>
                    <a:pt x="1652" y="4913"/>
                  </a:lnTo>
                  <a:lnTo>
                    <a:pt x="1619" y="4948"/>
                  </a:lnTo>
                  <a:lnTo>
                    <a:pt x="1583" y="4980"/>
                  </a:lnTo>
                  <a:lnTo>
                    <a:pt x="1546" y="5012"/>
                  </a:lnTo>
                  <a:lnTo>
                    <a:pt x="1509" y="5040"/>
                  </a:lnTo>
                  <a:lnTo>
                    <a:pt x="1469" y="5067"/>
                  </a:lnTo>
                  <a:lnTo>
                    <a:pt x="1429" y="5092"/>
                  </a:lnTo>
                  <a:lnTo>
                    <a:pt x="1387" y="5115"/>
                  </a:lnTo>
                  <a:lnTo>
                    <a:pt x="1345" y="5136"/>
                  </a:lnTo>
                  <a:lnTo>
                    <a:pt x="1301" y="5155"/>
                  </a:lnTo>
                  <a:lnTo>
                    <a:pt x="1255" y="5171"/>
                  </a:lnTo>
                  <a:lnTo>
                    <a:pt x="1210" y="5185"/>
                  </a:lnTo>
                  <a:lnTo>
                    <a:pt x="1163" y="5196"/>
                  </a:lnTo>
                  <a:lnTo>
                    <a:pt x="1115" y="5205"/>
                  </a:lnTo>
                  <a:lnTo>
                    <a:pt x="1066" y="5213"/>
                  </a:lnTo>
                  <a:lnTo>
                    <a:pt x="1018" y="5217"/>
                  </a:lnTo>
                  <a:lnTo>
                    <a:pt x="968" y="5218"/>
                  </a:lnTo>
                  <a:lnTo>
                    <a:pt x="918" y="5217"/>
                  </a:lnTo>
                  <a:lnTo>
                    <a:pt x="870" y="5213"/>
                  </a:lnTo>
                  <a:lnTo>
                    <a:pt x="821" y="5205"/>
                  </a:lnTo>
                  <a:lnTo>
                    <a:pt x="773" y="5196"/>
                  </a:lnTo>
                  <a:lnTo>
                    <a:pt x="727" y="5185"/>
                  </a:lnTo>
                  <a:lnTo>
                    <a:pt x="681" y="5171"/>
                  </a:lnTo>
                  <a:lnTo>
                    <a:pt x="635" y="5155"/>
                  </a:lnTo>
                  <a:lnTo>
                    <a:pt x="592" y="5136"/>
                  </a:lnTo>
                  <a:lnTo>
                    <a:pt x="549" y="5115"/>
                  </a:lnTo>
                  <a:lnTo>
                    <a:pt x="507" y="5092"/>
                  </a:lnTo>
                  <a:lnTo>
                    <a:pt x="467" y="5067"/>
                  </a:lnTo>
                  <a:lnTo>
                    <a:pt x="427" y="5040"/>
                  </a:lnTo>
                  <a:lnTo>
                    <a:pt x="390" y="5012"/>
                  </a:lnTo>
                  <a:lnTo>
                    <a:pt x="352" y="4980"/>
                  </a:lnTo>
                  <a:lnTo>
                    <a:pt x="318" y="4948"/>
                  </a:lnTo>
                  <a:lnTo>
                    <a:pt x="284" y="4913"/>
                  </a:lnTo>
                  <a:lnTo>
                    <a:pt x="252" y="4878"/>
                  </a:lnTo>
                  <a:lnTo>
                    <a:pt x="221" y="4840"/>
                  </a:lnTo>
                  <a:lnTo>
                    <a:pt x="193" y="4800"/>
                  </a:lnTo>
                  <a:lnTo>
                    <a:pt x="165" y="4760"/>
                  </a:lnTo>
                  <a:lnTo>
                    <a:pt x="140" y="4718"/>
                  </a:lnTo>
                  <a:lnTo>
                    <a:pt x="117" y="4675"/>
                  </a:lnTo>
                  <a:lnTo>
                    <a:pt x="95" y="4630"/>
                  </a:lnTo>
                  <a:lnTo>
                    <a:pt x="76" y="4583"/>
                  </a:lnTo>
                  <a:lnTo>
                    <a:pt x="59" y="4537"/>
                  </a:lnTo>
                  <a:lnTo>
                    <a:pt x="44" y="4489"/>
                  </a:lnTo>
                  <a:lnTo>
                    <a:pt x="30" y="4439"/>
                  </a:lnTo>
                  <a:lnTo>
                    <a:pt x="19" y="4389"/>
                  </a:lnTo>
                  <a:lnTo>
                    <a:pt x="11" y="4339"/>
                  </a:lnTo>
                  <a:lnTo>
                    <a:pt x="5" y="4286"/>
                  </a:lnTo>
                  <a:lnTo>
                    <a:pt x="1" y="4234"/>
                  </a:lnTo>
                  <a:lnTo>
                    <a:pt x="0" y="4180"/>
                  </a:lnTo>
                  <a:lnTo>
                    <a:pt x="123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3301920" y="1432080"/>
              <a:ext cx="91800" cy="250920"/>
            </a:xfrm>
            <a:custGeom>
              <a:avLst/>
              <a:gdLst/>
              <a:ahLst/>
              <a:rect l="l" t="t" r="r" b="b"/>
              <a:pathLst>
                <a:path w="1936" h="5218">
                  <a:moveTo>
                    <a:pt x="967" y="5218"/>
                  </a:moveTo>
                  <a:lnTo>
                    <a:pt x="917" y="5217"/>
                  </a:lnTo>
                  <a:lnTo>
                    <a:pt x="869" y="5213"/>
                  </a:lnTo>
                  <a:lnTo>
                    <a:pt x="820" y="5205"/>
                  </a:lnTo>
                  <a:lnTo>
                    <a:pt x="772" y="5196"/>
                  </a:lnTo>
                  <a:lnTo>
                    <a:pt x="726" y="5185"/>
                  </a:lnTo>
                  <a:lnTo>
                    <a:pt x="680" y="5171"/>
                  </a:lnTo>
                  <a:lnTo>
                    <a:pt x="635" y="5155"/>
                  </a:lnTo>
                  <a:lnTo>
                    <a:pt x="592" y="5136"/>
                  </a:lnTo>
                  <a:lnTo>
                    <a:pt x="548" y="5115"/>
                  </a:lnTo>
                  <a:lnTo>
                    <a:pt x="506" y="5092"/>
                  </a:lnTo>
                  <a:lnTo>
                    <a:pt x="466" y="5067"/>
                  </a:lnTo>
                  <a:lnTo>
                    <a:pt x="427" y="5040"/>
                  </a:lnTo>
                  <a:lnTo>
                    <a:pt x="389" y="5012"/>
                  </a:lnTo>
                  <a:lnTo>
                    <a:pt x="352" y="4980"/>
                  </a:lnTo>
                  <a:lnTo>
                    <a:pt x="318" y="4948"/>
                  </a:lnTo>
                  <a:lnTo>
                    <a:pt x="284" y="4913"/>
                  </a:lnTo>
                  <a:lnTo>
                    <a:pt x="252" y="4878"/>
                  </a:lnTo>
                  <a:lnTo>
                    <a:pt x="221" y="4840"/>
                  </a:lnTo>
                  <a:lnTo>
                    <a:pt x="193" y="4800"/>
                  </a:lnTo>
                  <a:lnTo>
                    <a:pt x="165" y="4760"/>
                  </a:lnTo>
                  <a:lnTo>
                    <a:pt x="140" y="4718"/>
                  </a:lnTo>
                  <a:lnTo>
                    <a:pt x="117" y="4675"/>
                  </a:lnTo>
                  <a:lnTo>
                    <a:pt x="95" y="4630"/>
                  </a:lnTo>
                  <a:lnTo>
                    <a:pt x="76" y="4583"/>
                  </a:lnTo>
                  <a:lnTo>
                    <a:pt x="59" y="4537"/>
                  </a:lnTo>
                  <a:lnTo>
                    <a:pt x="44" y="4489"/>
                  </a:lnTo>
                  <a:lnTo>
                    <a:pt x="30" y="4439"/>
                  </a:lnTo>
                  <a:lnTo>
                    <a:pt x="20" y="4389"/>
                  </a:lnTo>
                  <a:lnTo>
                    <a:pt x="11" y="4339"/>
                  </a:lnTo>
                  <a:lnTo>
                    <a:pt x="5" y="4286"/>
                  </a:lnTo>
                  <a:lnTo>
                    <a:pt x="1" y="4234"/>
                  </a:lnTo>
                  <a:lnTo>
                    <a:pt x="0" y="4180"/>
                  </a:lnTo>
                  <a:lnTo>
                    <a:pt x="216" y="0"/>
                  </a:lnTo>
                  <a:lnTo>
                    <a:pt x="331" y="0"/>
                  </a:lnTo>
                  <a:lnTo>
                    <a:pt x="508" y="0"/>
                  </a:lnTo>
                  <a:lnTo>
                    <a:pt x="728" y="0"/>
                  </a:lnTo>
                  <a:lnTo>
                    <a:pt x="967" y="0"/>
                  </a:lnTo>
                  <a:lnTo>
                    <a:pt x="1208" y="0"/>
                  </a:lnTo>
                  <a:lnTo>
                    <a:pt x="1427" y="0"/>
                  </a:lnTo>
                  <a:lnTo>
                    <a:pt x="1604" y="0"/>
                  </a:lnTo>
                  <a:lnTo>
                    <a:pt x="1719" y="0"/>
                  </a:lnTo>
                  <a:lnTo>
                    <a:pt x="1722" y="104"/>
                  </a:lnTo>
                  <a:lnTo>
                    <a:pt x="1728" y="280"/>
                  </a:lnTo>
                  <a:lnTo>
                    <a:pt x="1739" y="515"/>
                  </a:lnTo>
                  <a:lnTo>
                    <a:pt x="1753" y="800"/>
                  </a:lnTo>
                  <a:lnTo>
                    <a:pt x="1788" y="1476"/>
                  </a:lnTo>
                  <a:lnTo>
                    <a:pt x="1828" y="2221"/>
                  </a:lnTo>
                  <a:lnTo>
                    <a:pt x="1867" y="2950"/>
                  </a:lnTo>
                  <a:lnTo>
                    <a:pt x="1903" y="3576"/>
                  </a:lnTo>
                  <a:lnTo>
                    <a:pt x="1927" y="4015"/>
                  </a:lnTo>
                  <a:lnTo>
                    <a:pt x="1936" y="4180"/>
                  </a:lnTo>
                  <a:lnTo>
                    <a:pt x="1935" y="4234"/>
                  </a:lnTo>
                  <a:lnTo>
                    <a:pt x="1931" y="4286"/>
                  </a:lnTo>
                  <a:lnTo>
                    <a:pt x="1925" y="4339"/>
                  </a:lnTo>
                  <a:lnTo>
                    <a:pt x="1917" y="4389"/>
                  </a:lnTo>
                  <a:lnTo>
                    <a:pt x="1906" y="4439"/>
                  </a:lnTo>
                  <a:lnTo>
                    <a:pt x="1892" y="4489"/>
                  </a:lnTo>
                  <a:lnTo>
                    <a:pt x="1877" y="4537"/>
                  </a:lnTo>
                  <a:lnTo>
                    <a:pt x="1860" y="4583"/>
                  </a:lnTo>
                  <a:lnTo>
                    <a:pt x="1841" y="4630"/>
                  </a:lnTo>
                  <a:lnTo>
                    <a:pt x="1819" y="4675"/>
                  </a:lnTo>
                  <a:lnTo>
                    <a:pt x="1796" y="4718"/>
                  </a:lnTo>
                  <a:lnTo>
                    <a:pt x="1771" y="4760"/>
                  </a:lnTo>
                  <a:lnTo>
                    <a:pt x="1743" y="4800"/>
                  </a:lnTo>
                  <a:lnTo>
                    <a:pt x="1715" y="4840"/>
                  </a:lnTo>
                  <a:lnTo>
                    <a:pt x="1684" y="4878"/>
                  </a:lnTo>
                  <a:lnTo>
                    <a:pt x="1652" y="4913"/>
                  </a:lnTo>
                  <a:lnTo>
                    <a:pt x="1618" y="4948"/>
                  </a:lnTo>
                  <a:lnTo>
                    <a:pt x="1583" y="4980"/>
                  </a:lnTo>
                  <a:lnTo>
                    <a:pt x="1546" y="5012"/>
                  </a:lnTo>
                  <a:lnTo>
                    <a:pt x="1509" y="5040"/>
                  </a:lnTo>
                  <a:lnTo>
                    <a:pt x="1469" y="5067"/>
                  </a:lnTo>
                  <a:lnTo>
                    <a:pt x="1429" y="5092"/>
                  </a:lnTo>
                  <a:lnTo>
                    <a:pt x="1387" y="5115"/>
                  </a:lnTo>
                  <a:lnTo>
                    <a:pt x="1345" y="5136"/>
                  </a:lnTo>
                  <a:lnTo>
                    <a:pt x="1300" y="5155"/>
                  </a:lnTo>
                  <a:lnTo>
                    <a:pt x="1255" y="5171"/>
                  </a:lnTo>
                  <a:lnTo>
                    <a:pt x="1210" y="5185"/>
                  </a:lnTo>
                  <a:lnTo>
                    <a:pt x="1162" y="5196"/>
                  </a:lnTo>
                  <a:lnTo>
                    <a:pt x="1114" y="5205"/>
                  </a:lnTo>
                  <a:lnTo>
                    <a:pt x="1066" y="5213"/>
                  </a:lnTo>
                  <a:lnTo>
                    <a:pt x="1017" y="5217"/>
                  </a:lnTo>
                  <a:lnTo>
                    <a:pt x="967" y="52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
            <p:cNvSpPr/>
            <p:nvPr/>
          </p:nvSpPr>
          <p:spPr>
            <a:xfrm>
              <a:off x="3481200" y="1432080"/>
              <a:ext cx="131760" cy="250920"/>
            </a:xfrm>
            <a:custGeom>
              <a:avLst/>
              <a:gdLst/>
              <a:ahLst/>
              <a:rect l="l" t="t" r="r" b="b"/>
              <a:pathLst>
                <a:path w="2734" h="5218">
                  <a:moveTo>
                    <a:pt x="1767" y="5218"/>
                  </a:moveTo>
                  <a:lnTo>
                    <a:pt x="1717" y="5217"/>
                  </a:lnTo>
                  <a:lnTo>
                    <a:pt x="1668" y="5213"/>
                  </a:lnTo>
                  <a:lnTo>
                    <a:pt x="1619" y="5205"/>
                  </a:lnTo>
                  <a:lnTo>
                    <a:pt x="1572" y="5196"/>
                  </a:lnTo>
                  <a:lnTo>
                    <a:pt x="1525" y="5185"/>
                  </a:lnTo>
                  <a:lnTo>
                    <a:pt x="1479" y="5171"/>
                  </a:lnTo>
                  <a:lnTo>
                    <a:pt x="1434" y="5155"/>
                  </a:lnTo>
                  <a:lnTo>
                    <a:pt x="1391" y="5136"/>
                  </a:lnTo>
                  <a:lnTo>
                    <a:pt x="1347" y="5115"/>
                  </a:lnTo>
                  <a:lnTo>
                    <a:pt x="1305" y="5092"/>
                  </a:lnTo>
                  <a:lnTo>
                    <a:pt x="1265" y="5067"/>
                  </a:lnTo>
                  <a:lnTo>
                    <a:pt x="1225" y="5040"/>
                  </a:lnTo>
                  <a:lnTo>
                    <a:pt x="1188" y="5012"/>
                  </a:lnTo>
                  <a:lnTo>
                    <a:pt x="1151" y="4980"/>
                  </a:lnTo>
                  <a:lnTo>
                    <a:pt x="1116" y="4948"/>
                  </a:lnTo>
                  <a:lnTo>
                    <a:pt x="1082" y="4913"/>
                  </a:lnTo>
                  <a:lnTo>
                    <a:pt x="1051" y="4878"/>
                  </a:lnTo>
                  <a:lnTo>
                    <a:pt x="1019" y="4840"/>
                  </a:lnTo>
                  <a:lnTo>
                    <a:pt x="991" y="4800"/>
                  </a:lnTo>
                  <a:lnTo>
                    <a:pt x="964" y="4760"/>
                  </a:lnTo>
                  <a:lnTo>
                    <a:pt x="939" y="4718"/>
                  </a:lnTo>
                  <a:lnTo>
                    <a:pt x="916" y="4675"/>
                  </a:lnTo>
                  <a:lnTo>
                    <a:pt x="894" y="4630"/>
                  </a:lnTo>
                  <a:lnTo>
                    <a:pt x="874" y="4583"/>
                  </a:lnTo>
                  <a:lnTo>
                    <a:pt x="857" y="4537"/>
                  </a:lnTo>
                  <a:lnTo>
                    <a:pt x="842" y="4489"/>
                  </a:lnTo>
                  <a:lnTo>
                    <a:pt x="828" y="4439"/>
                  </a:lnTo>
                  <a:lnTo>
                    <a:pt x="818" y="4389"/>
                  </a:lnTo>
                  <a:lnTo>
                    <a:pt x="809" y="4339"/>
                  </a:lnTo>
                  <a:lnTo>
                    <a:pt x="803" y="4286"/>
                  </a:lnTo>
                  <a:lnTo>
                    <a:pt x="800" y="4234"/>
                  </a:lnTo>
                  <a:lnTo>
                    <a:pt x="798" y="4180"/>
                  </a:lnTo>
                  <a:lnTo>
                    <a:pt x="0" y="0"/>
                  </a:lnTo>
                  <a:lnTo>
                    <a:pt x="115" y="0"/>
                  </a:lnTo>
                  <a:lnTo>
                    <a:pt x="293" y="0"/>
                  </a:lnTo>
                  <a:lnTo>
                    <a:pt x="512" y="0"/>
                  </a:lnTo>
                  <a:lnTo>
                    <a:pt x="751" y="0"/>
                  </a:lnTo>
                  <a:lnTo>
                    <a:pt x="992" y="0"/>
                  </a:lnTo>
                  <a:lnTo>
                    <a:pt x="1211" y="0"/>
                  </a:lnTo>
                  <a:lnTo>
                    <a:pt x="1389" y="0"/>
                  </a:lnTo>
                  <a:lnTo>
                    <a:pt x="1503" y="0"/>
                  </a:lnTo>
                  <a:lnTo>
                    <a:pt x="1507" y="42"/>
                  </a:lnTo>
                  <a:lnTo>
                    <a:pt x="1517" y="104"/>
                  </a:lnTo>
                  <a:lnTo>
                    <a:pt x="1534" y="184"/>
                  </a:lnTo>
                  <a:lnTo>
                    <a:pt x="1557" y="280"/>
                  </a:lnTo>
                  <a:lnTo>
                    <a:pt x="1584" y="390"/>
                  </a:lnTo>
                  <a:lnTo>
                    <a:pt x="1617" y="515"/>
                  </a:lnTo>
                  <a:lnTo>
                    <a:pt x="1654" y="652"/>
                  </a:lnTo>
                  <a:lnTo>
                    <a:pt x="1696" y="800"/>
                  </a:lnTo>
                  <a:lnTo>
                    <a:pt x="1741" y="958"/>
                  </a:lnTo>
                  <a:lnTo>
                    <a:pt x="1789" y="1124"/>
                  </a:lnTo>
                  <a:lnTo>
                    <a:pt x="1840" y="1298"/>
                  </a:lnTo>
                  <a:lnTo>
                    <a:pt x="1893" y="1476"/>
                  </a:lnTo>
                  <a:lnTo>
                    <a:pt x="2004" y="1845"/>
                  </a:lnTo>
                  <a:lnTo>
                    <a:pt x="2119" y="2221"/>
                  </a:lnTo>
                  <a:lnTo>
                    <a:pt x="2234" y="2593"/>
                  </a:lnTo>
                  <a:lnTo>
                    <a:pt x="2344" y="2950"/>
                  </a:lnTo>
                  <a:lnTo>
                    <a:pt x="2449" y="3281"/>
                  </a:lnTo>
                  <a:lnTo>
                    <a:pt x="2542" y="3576"/>
                  </a:lnTo>
                  <a:lnTo>
                    <a:pt x="2681" y="4015"/>
                  </a:lnTo>
                  <a:lnTo>
                    <a:pt x="2734" y="4180"/>
                  </a:lnTo>
                  <a:lnTo>
                    <a:pt x="2733" y="4234"/>
                  </a:lnTo>
                  <a:lnTo>
                    <a:pt x="2729" y="4286"/>
                  </a:lnTo>
                  <a:lnTo>
                    <a:pt x="2723" y="4339"/>
                  </a:lnTo>
                  <a:lnTo>
                    <a:pt x="2715" y="4389"/>
                  </a:lnTo>
                  <a:lnTo>
                    <a:pt x="2704" y="4439"/>
                  </a:lnTo>
                  <a:lnTo>
                    <a:pt x="2690" y="4489"/>
                  </a:lnTo>
                  <a:lnTo>
                    <a:pt x="2675" y="4537"/>
                  </a:lnTo>
                  <a:lnTo>
                    <a:pt x="2658" y="4583"/>
                  </a:lnTo>
                  <a:lnTo>
                    <a:pt x="2639" y="4630"/>
                  </a:lnTo>
                  <a:lnTo>
                    <a:pt x="2617" y="4675"/>
                  </a:lnTo>
                  <a:lnTo>
                    <a:pt x="2594" y="4718"/>
                  </a:lnTo>
                  <a:lnTo>
                    <a:pt x="2569" y="4760"/>
                  </a:lnTo>
                  <a:lnTo>
                    <a:pt x="2541" y="4800"/>
                  </a:lnTo>
                  <a:lnTo>
                    <a:pt x="2513" y="4840"/>
                  </a:lnTo>
                  <a:lnTo>
                    <a:pt x="2482" y="4878"/>
                  </a:lnTo>
                  <a:lnTo>
                    <a:pt x="2451" y="4913"/>
                  </a:lnTo>
                  <a:lnTo>
                    <a:pt x="2416" y="4948"/>
                  </a:lnTo>
                  <a:lnTo>
                    <a:pt x="2382" y="4980"/>
                  </a:lnTo>
                  <a:lnTo>
                    <a:pt x="2345" y="5012"/>
                  </a:lnTo>
                  <a:lnTo>
                    <a:pt x="2307" y="5040"/>
                  </a:lnTo>
                  <a:lnTo>
                    <a:pt x="2268" y="5067"/>
                  </a:lnTo>
                  <a:lnTo>
                    <a:pt x="2228" y="5092"/>
                  </a:lnTo>
                  <a:lnTo>
                    <a:pt x="2186" y="5115"/>
                  </a:lnTo>
                  <a:lnTo>
                    <a:pt x="2144" y="5136"/>
                  </a:lnTo>
                  <a:lnTo>
                    <a:pt x="2099" y="5155"/>
                  </a:lnTo>
                  <a:lnTo>
                    <a:pt x="2054" y="5171"/>
                  </a:lnTo>
                  <a:lnTo>
                    <a:pt x="2009" y="5185"/>
                  </a:lnTo>
                  <a:lnTo>
                    <a:pt x="1962" y="5196"/>
                  </a:lnTo>
                  <a:lnTo>
                    <a:pt x="1914" y="5205"/>
                  </a:lnTo>
                  <a:lnTo>
                    <a:pt x="1865" y="5213"/>
                  </a:lnTo>
                  <a:lnTo>
                    <a:pt x="1817" y="5217"/>
                  </a:lnTo>
                  <a:lnTo>
                    <a:pt x="1767" y="52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a:off x="3144600" y="1681560"/>
              <a:ext cx="195480" cy="357120"/>
            </a:xfrm>
            <a:custGeom>
              <a:avLst/>
              <a:gdLst/>
              <a:ahLst/>
              <a:rect l="l" t="t" r="r" b="b"/>
              <a:pathLst>
                <a:path w="4049" h="7398">
                  <a:moveTo>
                    <a:pt x="3267" y="6802"/>
                  </a:moveTo>
                  <a:lnTo>
                    <a:pt x="3262" y="6767"/>
                  </a:lnTo>
                  <a:lnTo>
                    <a:pt x="3257" y="6731"/>
                  </a:lnTo>
                  <a:lnTo>
                    <a:pt x="3252" y="6693"/>
                  </a:lnTo>
                  <a:lnTo>
                    <a:pt x="3247" y="6656"/>
                  </a:lnTo>
                  <a:lnTo>
                    <a:pt x="3242" y="6616"/>
                  </a:lnTo>
                  <a:lnTo>
                    <a:pt x="3237" y="6577"/>
                  </a:lnTo>
                  <a:lnTo>
                    <a:pt x="3231" y="6536"/>
                  </a:lnTo>
                  <a:lnTo>
                    <a:pt x="3226" y="6494"/>
                  </a:lnTo>
                  <a:lnTo>
                    <a:pt x="3420" y="6494"/>
                  </a:lnTo>
                  <a:lnTo>
                    <a:pt x="3158" y="3981"/>
                  </a:lnTo>
                  <a:lnTo>
                    <a:pt x="3171" y="3912"/>
                  </a:lnTo>
                  <a:lnTo>
                    <a:pt x="3184" y="3841"/>
                  </a:lnTo>
                  <a:lnTo>
                    <a:pt x="3194" y="3770"/>
                  </a:lnTo>
                  <a:lnTo>
                    <a:pt x="3202" y="3699"/>
                  </a:lnTo>
                  <a:lnTo>
                    <a:pt x="3209" y="3627"/>
                  </a:lnTo>
                  <a:lnTo>
                    <a:pt x="3214" y="3554"/>
                  </a:lnTo>
                  <a:lnTo>
                    <a:pt x="3217" y="3481"/>
                  </a:lnTo>
                  <a:lnTo>
                    <a:pt x="3218" y="3408"/>
                  </a:lnTo>
                  <a:lnTo>
                    <a:pt x="3217" y="3344"/>
                  </a:lnTo>
                  <a:lnTo>
                    <a:pt x="3215" y="3281"/>
                  </a:lnTo>
                  <a:lnTo>
                    <a:pt x="3212" y="3219"/>
                  </a:lnTo>
                  <a:lnTo>
                    <a:pt x="3207" y="3157"/>
                  </a:lnTo>
                  <a:lnTo>
                    <a:pt x="3202" y="3096"/>
                  </a:lnTo>
                  <a:lnTo>
                    <a:pt x="3195" y="3036"/>
                  </a:lnTo>
                  <a:lnTo>
                    <a:pt x="3186" y="2977"/>
                  </a:lnTo>
                  <a:lnTo>
                    <a:pt x="3177" y="2918"/>
                  </a:lnTo>
                  <a:lnTo>
                    <a:pt x="3166" y="2860"/>
                  </a:lnTo>
                  <a:lnTo>
                    <a:pt x="3154" y="2803"/>
                  </a:lnTo>
                  <a:lnTo>
                    <a:pt x="3141" y="2746"/>
                  </a:lnTo>
                  <a:lnTo>
                    <a:pt x="3127" y="2691"/>
                  </a:lnTo>
                  <a:lnTo>
                    <a:pt x="3112" y="2637"/>
                  </a:lnTo>
                  <a:lnTo>
                    <a:pt x="3096" y="2583"/>
                  </a:lnTo>
                  <a:lnTo>
                    <a:pt x="3078" y="2530"/>
                  </a:lnTo>
                  <a:lnTo>
                    <a:pt x="3060" y="2478"/>
                  </a:lnTo>
                  <a:lnTo>
                    <a:pt x="3040" y="2428"/>
                  </a:lnTo>
                  <a:lnTo>
                    <a:pt x="3020" y="2379"/>
                  </a:lnTo>
                  <a:lnTo>
                    <a:pt x="2998" y="2330"/>
                  </a:lnTo>
                  <a:lnTo>
                    <a:pt x="2976" y="2282"/>
                  </a:lnTo>
                  <a:lnTo>
                    <a:pt x="2953" y="2237"/>
                  </a:lnTo>
                  <a:lnTo>
                    <a:pt x="2928" y="2191"/>
                  </a:lnTo>
                  <a:lnTo>
                    <a:pt x="2903" y="2147"/>
                  </a:lnTo>
                  <a:lnTo>
                    <a:pt x="2876" y="2105"/>
                  </a:lnTo>
                  <a:lnTo>
                    <a:pt x="2850" y="2064"/>
                  </a:lnTo>
                  <a:lnTo>
                    <a:pt x="2822" y="2023"/>
                  </a:lnTo>
                  <a:lnTo>
                    <a:pt x="2793" y="1985"/>
                  </a:lnTo>
                  <a:lnTo>
                    <a:pt x="2764" y="1947"/>
                  </a:lnTo>
                  <a:lnTo>
                    <a:pt x="2733" y="1911"/>
                  </a:lnTo>
                  <a:lnTo>
                    <a:pt x="2702" y="1876"/>
                  </a:lnTo>
                  <a:lnTo>
                    <a:pt x="2670" y="1844"/>
                  </a:lnTo>
                  <a:lnTo>
                    <a:pt x="2638" y="1811"/>
                  </a:lnTo>
                  <a:lnTo>
                    <a:pt x="2652" y="1788"/>
                  </a:lnTo>
                  <a:lnTo>
                    <a:pt x="2666" y="1764"/>
                  </a:lnTo>
                  <a:lnTo>
                    <a:pt x="2679" y="1739"/>
                  </a:lnTo>
                  <a:lnTo>
                    <a:pt x="2691" y="1714"/>
                  </a:lnTo>
                  <a:lnTo>
                    <a:pt x="2702" y="1688"/>
                  </a:lnTo>
                  <a:lnTo>
                    <a:pt x="2713" y="1662"/>
                  </a:lnTo>
                  <a:lnTo>
                    <a:pt x="2722" y="1636"/>
                  </a:lnTo>
                  <a:lnTo>
                    <a:pt x="2730" y="1609"/>
                  </a:lnTo>
                  <a:lnTo>
                    <a:pt x="2738" y="1582"/>
                  </a:lnTo>
                  <a:lnTo>
                    <a:pt x="2746" y="1555"/>
                  </a:lnTo>
                  <a:lnTo>
                    <a:pt x="2751" y="1526"/>
                  </a:lnTo>
                  <a:lnTo>
                    <a:pt x="2756" y="1498"/>
                  </a:lnTo>
                  <a:lnTo>
                    <a:pt x="2759" y="1469"/>
                  </a:lnTo>
                  <a:lnTo>
                    <a:pt x="2762" y="1440"/>
                  </a:lnTo>
                  <a:lnTo>
                    <a:pt x="2764" y="1410"/>
                  </a:lnTo>
                  <a:lnTo>
                    <a:pt x="2764" y="1381"/>
                  </a:lnTo>
                  <a:lnTo>
                    <a:pt x="2764" y="1356"/>
                  </a:lnTo>
                  <a:lnTo>
                    <a:pt x="2763" y="1329"/>
                  </a:lnTo>
                  <a:lnTo>
                    <a:pt x="2761" y="1304"/>
                  </a:lnTo>
                  <a:lnTo>
                    <a:pt x="2758" y="1278"/>
                  </a:lnTo>
                  <a:lnTo>
                    <a:pt x="2754" y="1253"/>
                  </a:lnTo>
                  <a:lnTo>
                    <a:pt x="2750" y="1229"/>
                  </a:lnTo>
                  <a:lnTo>
                    <a:pt x="2745" y="1204"/>
                  </a:lnTo>
                  <a:lnTo>
                    <a:pt x="2738" y="1180"/>
                  </a:lnTo>
                  <a:lnTo>
                    <a:pt x="2731" y="1156"/>
                  </a:lnTo>
                  <a:lnTo>
                    <a:pt x="2724" y="1132"/>
                  </a:lnTo>
                  <a:lnTo>
                    <a:pt x="2716" y="1109"/>
                  </a:lnTo>
                  <a:lnTo>
                    <a:pt x="2708" y="1086"/>
                  </a:lnTo>
                  <a:lnTo>
                    <a:pt x="2698" y="1063"/>
                  </a:lnTo>
                  <a:lnTo>
                    <a:pt x="2688" y="1040"/>
                  </a:lnTo>
                  <a:lnTo>
                    <a:pt x="2678" y="1019"/>
                  </a:lnTo>
                  <a:lnTo>
                    <a:pt x="2666" y="996"/>
                  </a:lnTo>
                  <a:lnTo>
                    <a:pt x="2325" y="1"/>
                  </a:lnTo>
                  <a:lnTo>
                    <a:pt x="2259" y="32"/>
                  </a:lnTo>
                  <a:lnTo>
                    <a:pt x="2202" y="59"/>
                  </a:lnTo>
                  <a:lnTo>
                    <a:pt x="2150" y="82"/>
                  </a:lnTo>
                  <a:lnTo>
                    <a:pt x="2103" y="101"/>
                  </a:lnTo>
                  <a:lnTo>
                    <a:pt x="2082" y="109"/>
                  </a:lnTo>
                  <a:lnTo>
                    <a:pt x="2062" y="115"/>
                  </a:lnTo>
                  <a:lnTo>
                    <a:pt x="2041" y="121"/>
                  </a:lnTo>
                  <a:lnTo>
                    <a:pt x="2022" y="126"/>
                  </a:lnTo>
                  <a:lnTo>
                    <a:pt x="2004" y="129"/>
                  </a:lnTo>
                  <a:lnTo>
                    <a:pt x="1985" y="132"/>
                  </a:lnTo>
                  <a:lnTo>
                    <a:pt x="1967" y="134"/>
                  </a:lnTo>
                  <a:lnTo>
                    <a:pt x="1949" y="135"/>
                  </a:lnTo>
                  <a:lnTo>
                    <a:pt x="1931" y="134"/>
                  </a:lnTo>
                  <a:lnTo>
                    <a:pt x="1913" y="132"/>
                  </a:lnTo>
                  <a:lnTo>
                    <a:pt x="1894" y="129"/>
                  </a:lnTo>
                  <a:lnTo>
                    <a:pt x="1875" y="125"/>
                  </a:lnTo>
                  <a:lnTo>
                    <a:pt x="1856" y="121"/>
                  </a:lnTo>
                  <a:lnTo>
                    <a:pt x="1835" y="115"/>
                  </a:lnTo>
                  <a:lnTo>
                    <a:pt x="1814" y="108"/>
                  </a:lnTo>
                  <a:lnTo>
                    <a:pt x="1792" y="100"/>
                  </a:lnTo>
                  <a:lnTo>
                    <a:pt x="1743" y="82"/>
                  </a:lnTo>
                  <a:lnTo>
                    <a:pt x="1689" y="58"/>
                  </a:lnTo>
                  <a:lnTo>
                    <a:pt x="1627" y="31"/>
                  </a:lnTo>
                  <a:lnTo>
                    <a:pt x="1558" y="0"/>
                  </a:lnTo>
                  <a:lnTo>
                    <a:pt x="1255" y="996"/>
                  </a:lnTo>
                  <a:lnTo>
                    <a:pt x="1244" y="1019"/>
                  </a:lnTo>
                  <a:lnTo>
                    <a:pt x="1233" y="1040"/>
                  </a:lnTo>
                  <a:lnTo>
                    <a:pt x="1222" y="1063"/>
                  </a:lnTo>
                  <a:lnTo>
                    <a:pt x="1213" y="1086"/>
                  </a:lnTo>
                  <a:lnTo>
                    <a:pt x="1205" y="1109"/>
                  </a:lnTo>
                  <a:lnTo>
                    <a:pt x="1197" y="1132"/>
                  </a:lnTo>
                  <a:lnTo>
                    <a:pt x="1189" y="1156"/>
                  </a:lnTo>
                  <a:lnTo>
                    <a:pt x="1183" y="1180"/>
                  </a:lnTo>
                  <a:lnTo>
                    <a:pt x="1177" y="1204"/>
                  </a:lnTo>
                  <a:lnTo>
                    <a:pt x="1172" y="1229"/>
                  </a:lnTo>
                  <a:lnTo>
                    <a:pt x="1168" y="1253"/>
                  </a:lnTo>
                  <a:lnTo>
                    <a:pt x="1164" y="1278"/>
                  </a:lnTo>
                  <a:lnTo>
                    <a:pt x="1160" y="1304"/>
                  </a:lnTo>
                  <a:lnTo>
                    <a:pt x="1158" y="1329"/>
                  </a:lnTo>
                  <a:lnTo>
                    <a:pt x="1157" y="1356"/>
                  </a:lnTo>
                  <a:lnTo>
                    <a:pt x="1157" y="1381"/>
                  </a:lnTo>
                  <a:lnTo>
                    <a:pt x="1157" y="1410"/>
                  </a:lnTo>
                  <a:lnTo>
                    <a:pt x="1159" y="1440"/>
                  </a:lnTo>
                  <a:lnTo>
                    <a:pt x="1161" y="1469"/>
                  </a:lnTo>
                  <a:lnTo>
                    <a:pt x="1166" y="1498"/>
                  </a:lnTo>
                  <a:lnTo>
                    <a:pt x="1171" y="1526"/>
                  </a:lnTo>
                  <a:lnTo>
                    <a:pt x="1176" y="1555"/>
                  </a:lnTo>
                  <a:lnTo>
                    <a:pt x="1183" y="1582"/>
                  </a:lnTo>
                  <a:lnTo>
                    <a:pt x="1190" y="1609"/>
                  </a:lnTo>
                  <a:lnTo>
                    <a:pt x="1199" y="1636"/>
                  </a:lnTo>
                  <a:lnTo>
                    <a:pt x="1208" y="1662"/>
                  </a:lnTo>
                  <a:lnTo>
                    <a:pt x="1218" y="1688"/>
                  </a:lnTo>
                  <a:lnTo>
                    <a:pt x="1231" y="1714"/>
                  </a:lnTo>
                  <a:lnTo>
                    <a:pt x="1242" y="1739"/>
                  </a:lnTo>
                  <a:lnTo>
                    <a:pt x="1255" y="1764"/>
                  </a:lnTo>
                  <a:lnTo>
                    <a:pt x="1269" y="1788"/>
                  </a:lnTo>
                  <a:lnTo>
                    <a:pt x="1283" y="1811"/>
                  </a:lnTo>
                  <a:lnTo>
                    <a:pt x="1251" y="1844"/>
                  </a:lnTo>
                  <a:lnTo>
                    <a:pt x="1218" y="1876"/>
                  </a:lnTo>
                  <a:lnTo>
                    <a:pt x="1188" y="1911"/>
                  </a:lnTo>
                  <a:lnTo>
                    <a:pt x="1157" y="1947"/>
                  </a:lnTo>
                  <a:lnTo>
                    <a:pt x="1128" y="1985"/>
                  </a:lnTo>
                  <a:lnTo>
                    <a:pt x="1100" y="2023"/>
                  </a:lnTo>
                  <a:lnTo>
                    <a:pt x="1071" y="2064"/>
                  </a:lnTo>
                  <a:lnTo>
                    <a:pt x="1045" y="2105"/>
                  </a:lnTo>
                  <a:lnTo>
                    <a:pt x="1018" y="2147"/>
                  </a:lnTo>
                  <a:lnTo>
                    <a:pt x="993" y="2191"/>
                  </a:lnTo>
                  <a:lnTo>
                    <a:pt x="969" y="2237"/>
                  </a:lnTo>
                  <a:lnTo>
                    <a:pt x="945" y="2282"/>
                  </a:lnTo>
                  <a:lnTo>
                    <a:pt x="923" y="2330"/>
                  </a:lnTo>
                  <a:lnTo>
                    <a:pt x="902" y="2379"/>
                  </a:lnTo>
                  <a:lnTo>
                    <a:pt x="881" y="2428"/>
                  </a:lnTo>
                  <a:lnTo>
                    <a:pt x="861" y="2478"/>
                  </a:lnTo>
                  <a:lnTo>
                    <a:pt x="843" y="2530"/>
                  </a:lnTo>
                  <a:lnTo>
                    <a:pt x="826" y="2583"/>
                  </a:lnTo>
                  <a:lnTo>
                    <a:pt x="809" y="2637"/>
                  </a:lnTo>
                  <a:lnTo>
                    <a:pt x="794" y="2691"/>
                  </a:lnTo>
                  <a:lnTo>
                    <a:pt x="780" y="2746"/>
                  </a:lnTo>
                  <a:lnTo>
                    <a:pt x="767" y="2803"/>
                  </a:lnTo>
                  <a:lnTo>
                    <a:pt x="755" y="2860"/>
                  </a:lnTo>
                  <a:lnTo>
                    <a:pt x="744" y="2918"/>
                  </a:lnTo>
                  <a:lnTo>
                    <a:pt x="734" y="2977"/>
                  </a:lnTo>
                  <a:lnTo>
                    <a:pt x="726" y="3036"/>
                  </a:lnTo>
                  <a:lnTo>
                    <a:pt x="719" y="3096"/>
                  </a:lnTo>
                  <a:lnTo>
                    <a:pt x="714" y="3157"/>
                  </a:lnTo>
                  <a:lnTo>
                    <a:pt x="709" y="3219"/>
                  </a:lnTo>
                  <a:lnTo>
                    <a:pt x="706" y="3281"/>
                  </a:lnTo>
                  <a:lnTo>
                    <a:pt x="704" y="3344"/>
                  </a:lnTo>
                  <a:lnTo>
                    <a:pt x="703" y="3408"/>
                  </a:lnTo>
                  <a:lnTo>
                    <a:pt x="704" y="3468"/>
                  </a:lnTo>
                  <a:lnTo>
                    <a:pt x="706" y="3528"/>
                  </a:lnTo>
                  <a:lnTo>
                    <a:pt x="708" y="3588"/>
                  </a:lnTo>
                  <a:lnTo>
                    <a:pt x="713" y="3646"/>
                  </a:lnTo>
                  <a:lnTo>
                    <a:pt x="718" y="3704"/>
                  </a:lnTo>
                  <a:lnTo>
                    <a:pt x="724" y="3762"/>
                  </a:lnTo>
                  <a:lnTo>
                    <a:pt x="732" y="3819"/>
                  </a:lnTo>
                  <a:lnTo>
                    <a:pt x="740" y="3875"/>
                  </a:lnTo>
                  <a:lnTo>
                    <a:pt x="751" y="3931"/>
                  </a:lnTo>
                  <a:lnTo>
                    <a:pt x="761" y="3985"/>
                  </a:lnTo>
                  <a:lnTo>
                    <a:pt x="773" y="4039"/>
                  </a:lnTo>
                  <a:lnTo>
                    <a:pt x="786" y="4092"/>
                  </a:lnTo>
                  <a:lnTo>
                    <a:pt x="799" y="4145"/>
                  </a:lnTo>
                  <a:lnTo>
                    <a:pt x="814" y="4197"/>
                  </a:lnTo>
                  <a:lnTo>
                    <a:pt x="831" y="4247"/>
                  </a:lnTo>
                  <a:lnTo>
                    <a:pt x="847" y="4297"/>
                  </a:lnTo>
                  <a:lnTo>
                    <a:pt x="618" y="6494"/>
                  </a:lnTo>
                  <a:lnTo>
                    <a:pt x="826" y="6494"/>
                  </a:lnTo>
                  <a:lnTo>
                    <a:pt x="820" y="6535"/>
                  </a:lnTo>
                  <a:lnTo>
                    <a:pt x="814" y="6577"/>
                  </a:lnTo>
                  <a:lnTo>
                    <a:pt x="808" y="6619"/>
                  </a:lnTo>
                  <a:lnTo>
                    <a:pt x="802" y="6661"/>
                  </a:lnTo>
                  <a:lnTo>
                    <a:pt x="797" y="6703"/>
                  </a:lnTo>
                  <a:lnTo>
                    <a:pt x="792" y="6741"/>
                  </a:lnTo>
                  <a:lnTo>
                    <a:pt x="787" y="6777"/>
                  </a:lnTo>
                  <a:lnTo>
                    <a:pt x="783" y="6809"/>
                  </a:lnTo>
                  <a:lnTo>
                    <a:pt x="741" y="6811"/>
                  </a:lnTo>
                  <a:lnTo>
                    <a:pt x="702" y="6814"/>
                  </a:lnTo>
                  <a:lnTo>
                    <a:pt x="662" y="6817"/>
                  </a:lnTo>
                  <a:lnTo>
                    <a:pt x="624" y="6821"/>
                  </a:lnTo>
                  <a:lnTo>
                    <a:pt x="585" y="6826"/>
                  </a:lnTo>
                  <a:lnTo>
                    <a:pt x="548" y="6832"/>
                  </a:lnTo>
                  <a:lnTo>
                    <a:pt x="511" y="6839"/>
                  </a:lnTo>
                  <a:lnTo>
                    <a:pt x="476" y="6846"/>
                  </a:lnTo>
                  <a:lnTo>
                    <a:pt x="441" y="6854"/>
                  </a:lnTo>
                  <a:lnTo>
                    <a:pt x="408" y="6862"/>
                  </a:lnTo>
                  <a:lnTo>
                    <a:pt x="374" y="6871"/>
                  </a:lnTo>
                  <a:lnTo>
                    <a:pt x="343" y="6881"/>
                  </a:lnTo>
                  <a:lnTo>
                    <a:pt x="312" y="6892"/>
                  </a:lnTo>
                  <a:lnTo>
                    <a:pt x="283" y="6904"/>
                  </a:lnTo>
                  <a:lnTo>
                    <a:pt x="254" y="6916"/>
                  </a:lnTo>
                  <a:lnTo>
                    <a:pt x="227" y="6929"/>
                  </a:lnTo>
                  <a:lnTo>
                    <a:pt x="202" y="6942"/>
                  </a:lnTo>
                  <a:lnTo>
                    <a:pt x="177" y="6956"/>
                  </a:lnTo>
                  <a:lnTo>
                    <a:pt x="154" y="6972"/>
                  </a:lnTo>
                  <a:lnTo>
                    <a:pt x="133" y="6987"/>
                  </a:lnTo>
                  <a:lnTo>
                    <a:pt x="112" y="7003"/>
                  </a:lnTo>
                  <a:lnTo>
                    <a:pt x="93" y="7020"/>
                  </a:lnTo>
                  <a:lnTo>
                    <a:pt x="76" y="7038"/>
                  </a:lnTo>
                  <a:lnTo>
                    <a:pt x="60" y="7056"/>
                  </a:lnTo>
                  <a:lnTo>
                    <a:pt x="47" y="7074"/>
                  </a:lnTo>
                  <a:lnTo>
                    <a:pt x="35" y="7093"/>
                  </a:lnTo>
                  <a:lnTo>
                    <a:pt x="24" y="7114"/>
                  </a:lnTo>
                  <a:lnTo>
                    <a:pt x="16" y="7134"/>
                  </a:lnTo>
                  <a:lnTo>
                    <a:pt x="9" y="7154"/>
                  </a:lnTo>
                  <a:lnTo>
                    <a:pt x="4" y="7177"/>
                  </a:lnTo>
                  <a:lnTo>
                    <a:pt x="1" y="7198"/>
                  </a:lnTo>
                  <a:lnTo>
                    <a:pt x="0" y="7221"/>
                  </a:lnTo>
                  <a:lnTo>
                    <a:pt x="1" y="7233"/>
                  </a:lnTo>
                  <a:lnTo>
                    <a:pt x="1" y="7246"/>
                  </a:lnTo>
                  <a:lnTo>
                    <a:pt x="3" y="7258"/>
                  </a:lnTo>
                  <a:lnTo>
                    <a:pt x="5" y="7269"/>
                  </a:lnTo>
                  <a:lnTo>
                    <a:pt x="8" y="7279"/>
                  </a:lnTo>
                  <a:lnTo>
                    <a:pt x="12" y="7289"/>
                  </a:lnTo>
                  <a:lnTo>
                    <a:pt x="17" y="7298"/>
                  </a:lnTo>
                  <a:lnTo>
                    <a:pt x="24" y="7308"/>
                  </a:lnTo>
                  <a:lnTo>
                    <a:pt x="31" y="7317"/>
                  </a:lnTo>
                  <a:lnTo>
                    <a:pt x="41" y="7324"/>
                  </a:lnTo>
                  <a:lnTo>
                    <a:pt x="51" y="7332"/>
                  </a:lnTo>
                  <a:lnTo>
                    <a:pt x="65" y="7339"/>
                  </a:lnTo>
                  <a:lnTo>
                    <a:pt x="79" y="7345"/>
                  </a:lnTo>
                  <a:lnTo>
                    <a:pt x="95" y="7351"/>
                  </a:lnTo>
                  <a:lnTo>
                    <a:pt x="113" y="7356"/>
                  </a:lnTo>
                  <a:lnTo>
                    <a:pt x="134" y="7361"/>
                  </a:lnTo>
                  <a:lnTo>
                    <a:pt x="156" y="7366"/>
                  </a:lnTo>
                  <a:lnTo>
                    <a:pt x="181" y="7371"/>
                  </a:lnTo>
                  <a:lnTo>
                    <a:pt x="209" y="7375"/>
                  </a:lnTo>
                  <a:lnTo>
                    <a:pt x="239" y="7379"/>
                  </a:lnTo>
                  <a:lnTo>
                    <a:pt x="272" y="7382"/>
                  </a:lnTo>
                  <a:lnTo>
                    <a:pt x="308" y="7385"/>
                  </a:lnTo>
                  <a:lnTo>
                    <a:pt x="347" y="7388"/>
                  </a:lnTo>
                  <a:lnTo>
                    <a:pt x="388" y="7390"/>
                  </a:lnTo>
                  <a:lnTo>
                    <a:pt x="482" y="7393"/>
                  </a:lnTo>
                  <a:lnTo>
                    <a:pt x="588" y="7396"/>
                  </a:lnTo>
                  <a:lnTo>
                    <a:pt x="710" y="7397"/>
                  </a:lnTo>
                  <a:lnTo>
                    <a:pt x="846" y="7397"/>
                  </a:lnTo>
                  <a:lnTo>
                    <a:pt x="1016" y="7398"/>
                  </a:lnTo>
                  <a:lnTo>
                    <a:pt x="1176" y="7398"/>
                  </a:lnTo>
                  <a:lnTo>
                    <a:pt x="1250" y="7397"/>
                  </a:lnTo>
                  <a:lnTo>
                    <a:pt x="1320" y="7396"/>
                  </a:lnTo>
                  <a:lnTo>
                    <a:pt x="1385" y="7394"/>
                  </a:lnTo>
                  <a:lnTo>
                    <a:pt x="1445" y="7391"/>
                  </a:lnTo>
                  <a:lnTo>
                    <a:pt x="1499" y="7388"/>
                  </a:lnTo>
                  <a:lnTo>
                    <a:pt x="1548" y="7383"/>
                  </a:lnTo>
                  <a:lnTo>
                    <a:pt x="1569" y="7380"/>
                  </a:lnTo>
                  <a:lnTo>
                    <a:pt x="1590" y="7377"/>
                  </a:lnTo>
                  <a:lnTo>
                    <a:pt x="1609" y="7373"/>
                  </a:lnTo>
                  <a:lnTo>
                    <a:pt x="1626" y="7368"/>
                  </a:lnTo>
                  <a:lnTo>
                    <a:pt x="1641" y="7364"/>
                  </a:lnTo>
                  <a:lnTo>
                    <a:pt x="1655" y="7359"/>
                  </a:lnTo>
                  <a:lnTo>
                    <a:pt x="1666" y="7353"/>
                  </a:lnTo>
                  <a:lnTo>
                    <a:pt x="1675" y="7348"/>
                  </a:lnTo>
                  <a:lnTo>
                    <a:pt x="1682" y="7341"/>
                  </a:lnTo>
                  <a:lnTo>
                    <a:pt x="1688" y="7335"/>
                  </a:lnTo>
                  <a:lnTo>
                    <a:pt x="1691" y="7327"/>
                  </a:lnTo>
                  <a:lnTo>
                    <a:pt x="1692" y="7319"/>
                  </a:lnTo>
                  <a:lnTo>
                    <a:pt x="1799" y="6494"/>
                  </a:lnTo>
                  <a:lnTo>
                    <a:pt x="2246" y="6494"/>
                  </a:lnTo>
                  <a:lnTo>
                    <a:pt x="2357" y="7312"/>
                  </a:lnTo>
                  <a:lnTo>
                    <a:pt x="2358" y="7319"/>
                  </a:lnTo>
                  <a:lnTo>
                    <a:pt x="2361" y="7327"/>
                  </a:lnTo>
                  <a:lnTo>
                    <a:pt x="2366" y="7334"/>
                  </a:lnTo>
                  <a:lnTo>
                    <a:pt x="2374" y="7340"/>
                  </a:lnTo>
                  <a:lnTo>
                    <a:pt x="2383" y="7346"/>
                  </a:lnTo>
                  <a:lnTo>
                    <a:pt x="2394" y="7351"/>
                  </a:lnTo>
                  <a:lnTo>
                    <a:pt x="2408" y="7356"/>
                  </a:lnTo>
                  <a:lnTo>
                    <a:pt x="2423" y="7360"/>
                  </a:lnTo>
                  <a:lnTo>
                    <a:pt x="2440" y="7364"/>
                  </a:lnTo>
                  <a:lnTo>
                    <a:pt x="2458" y="7368"/>
                  </a:lnTo>
                  <a:lnTo>
                    <a:pt x="2479" y="7371"/>
                  </a:lnTo>
                  <a:lnTo>
                    <a:pt x="2501" y="7375"/>
                  </a:lnTo>
                  <a:lnTo>
                    <a:pt x="2550" y="7380"/>
                  </a:lnTo>
                  <a:lnTo>
                    <a:pt x="2604" y="7384"/>
                  </a:lnTo>
                  <a:lnTo>
                    <a:pt x="2664" y="7386"/>
                  </a:lnTo>
                  <a:lnTo>
                    <a:pt x="2729" y="7388"/>
                  </a:lnTo>
                  <a:lnTo>
                    <a:pt x="2799" y="7389"/>
                  </a:lnTo>
                  <a:lnTo>
                    <a:pt x="2873" y="7390"/>
                  </a:lnTo>
                  <a:lnTo>
                    <a:pt x="3033" y="7390"/>
                  </a:lnTo>
                  <a:lnTo>
                    <a:pt x="3203" y="7390"/>
                  </a:lnTo>
                  <a:lnTo>
                    <a:pt x="3339" y="7389"/>
                  </a:lnTo>
                  <a:lnTo>
                    <a:pt x="3461" y="7388"/>
                  </a:lnTo>
                  <a:lnTo>
                    <a:pt x="3567" y="7386"/>
                  </a:lnTo>
                  <a:lnTo>
                    <a:pt x="3661" y="7382"/>
                  </a:lnTo>
                  <a:lnTo>
                    <a:pt x="3702" y="7380"/>
                  </a:lnTo>
                  <a:lnTo>
                    <a:pt x="3741" y="7377"/>
                  </a:lnTo>
                  <a:lnTo>
                    <a:pt x="3777" y="7374"/>
                  </a:lnTo>
                  <a:lnTo>
                    <a:pt x="3810" y="7370"/>
                  </a:lnTo>
                  <a:lnTo>
                    <a:pt x="3840" y="7367"/>
                  </a:lnTo>
                  <a:lnTo>
                    <a:pt x="3868" y="7363"/>
                  </a:lnTo>
                  <a:lnTo>
                    <a:pt x="3893" y="7358"/>
                  </a:lnTo>
                  <a:lnTo>
                    <a:pt x="3916" y="7354"/>
                  </a:lnTo>
                  <a:lnTo>
                    <a:pt x="3936" y="7349"/>
                  </a:lnTo>
                  <a:lnTo>
                    <a:pt x="3954" y="7343"/>
                  </a:lnTo>
                  <a:lnTo>
                    <a:pt x="3970" y="7337"/>
                  </a:lnTo>
                  <a:lnTo>
                    <a:pt x="3985" y="7331"/>
                  </a:lnTo>
                  <a:lnTo>
                    <a:pt x="3998" y="7324"/>
                  </a:lnTo>
                  <a:lnTo>
                    <a:pt x="4008" y="7317"/>
                  </a:lnTo>
                  <a:lnTo>
                    <a:pt x="4018" y="7309"/>
                  </a:lnTo>
                  <a:lnTo>
                    <a:pt x="4025" y="7299"/>
                  </a:lnTo>
                  <a:lnTo>
                    <a:pt x="4032" y="7291"/>
                  </a:lnTo>
                  <a:lnTo>
                    <a:pt x="4037" y="7281"/>
                  </a:lnTo>
                  <a:lnTo>
                    <a:pt x="4041" y="7271"/>
                  </a:lnTo>
                  <a:lnTo>
                    <a:pt x="4044" y="7261"/>
                  </a:lnTo>
                  <a:lnTo>
                    <a:pt x="4046" y="7250"/>
                  </a:lnTo>
                  <a:lnTo>
                    <a:pt x="4048" y="7239"/>
                  </a:lnTo>
                  <a:lnTo>
                    <a:pt x="4048" y="7225"/>
                  </a:lnTo>
                  <a:lnTo>
                    <a:pt x="4049" y="7213"/>
                  </a:lnTo>
                  <a:lnTo>
                    <a:pt x="4048" y="7190"/>
                  </a:lnTo>
                  <a:lnTo>
                    <a:pt x="4045" y="7168"/>
                  </a:lnTo>
                  <a:lnTo>
                    <a:pt x="4040" y="7147"/>
                  </a:lnTo>
                  <a:lnTo>
                    <a:pt x="4033" y="7126"/>
                  </a:lnTo>
                  <a:lnTo>
                    <a:pt x="4025" y="7106"/>
                  </a:lnTo>
                  <a:lnTo>
                    <a:pt x="4014" y="7085"/>
                  </a:lnTo>
                  <a:lnTo>
                    <a:pt x="4002" y="7066"/>
                  </a:lnTo>
                  <a:lnTo>
                    <a:pt x="3989" y="7048"/>
                  </a:lnTo>
                  <a:lnTo>
                    <a:pt x="3972" y="7029"/>
                  </a:lnTo>
                  <a:lnTo>
                    <a:pt x="3956" y="7012"/>
                  </a:lnTo>
                  <a:lnTo>
                    <a:pt x="3937" y="6995"/>
                  </a:lnTo>
                  <a:lnTo>
                    <a:pt x="3917" y="6979"/>
                  </a:lnTo>
                  <a:lnTo>
                    <a:pt x="3895" y="6963"/>
                  </a:lnTo>
                  <a:lnTo>
                    <a:pt x="3872" y="6949"/>
                  </a:lnTo>
                  <a:lnTo>
                    <a:pt x="3848" y="6934"/>
                  </a:lnTo>
                  <a:lnTo>
                    <a:pt x="3822" y="6921"/>
                  </a:lnTo>
                  <a:lnTo>
                    <a:pt x="3795" y="6908"/>
                  </a:lnTo>
                  <a:lnTo>
                    <a:pt x="3766" y="6895"/>
                  </a:lnTo>
                  <a:lnTo>
                    <a:pt x="3737" y="6884"/>
                  </a:lnTo>
                  <a:lnTo>
                    <a:pt x="3706" y="6873"/>
                  </a:lnTo>
                  <a:lnTo>
                    <a:pt x="3675" y="6863"/>
                  </a:lnTo>
                  <a:lnTo>
                    <a:pt x="3642" y="6854"/>
                  </a:lnTo>
                  <a:lnTo>
                    <a:pt x="3608" y="6846"/>
                  </a:lnTo>
                  <a:lnTo>
                    <a:pt x="3574" y="6838"/>
                  </a:lnTo>
                  <a:lnTo>
                    <a:pt x="3538" y="6830"/>
                  </a:lnTo>
                  <a:lnTo>
                    <a:pt x="3502" y="6824"/>
                  </a:lnTo>
                  <a:lnTo>
                    <a:pt x="3464" y="6818"/>
                  </a:lnTo>
                  <a:lnTo>
                    <a:pt x="3425" y="6813"/>
                  </a:lnTo>
                  <a:lnTo>
                    <a:pt x="3387" y="6809"/>
                  </a:lnTo>
                  <a:lnTo>
                    <a:pt x="3347" y="6806"/>
                  </a:lnTo>
                  <a:lnTo>
                    <a:pt x="3308" y="6803"/>
                  </a:lnTo>
                  <a:lnTo>
                    <a:pt x="3267" y="68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3217680" y="1697400"/>
              <a:ext cx="39600" cy="19080"/>
            </a:xfrm>
            <a:custGeom>
              <a:avLst/>
              <a:gdLst/>
              <a:ahLst/>
              <a:rect l="l" t="t" r="r" b="b"/>
              <a:pathLst>
                <a:path w="823" h="392">
                  <a:moveTo>
                    <a:pt x="112" y="0"/>
                  </a:moveTo>
                  <a:lnTo>
                    <a:pt x="157" y="22"/>
                  </a:lnTo>
                  <a:lnTo>
                    <a:pt x="200" y="40"/>
                  </a:lnTo>
                  <a:lnTo>
                    <a:pt x="240" y="55"/>
                  </a:lnTo>
                  <a:lnTo>
                    <a:pt x="278" y="67"/>
                  </a:lnTo>
                  <a:lnTo>
                    <a:pt x="296" y="73"/>
                  </a:lnTo>
                  <a:lnTo>
                    <a:pt x="314" y="77"/>
                  </a:lnTo>
                  <a:lnTo>
                    <a:pt x="331" y="81"/>
                  </a:lnTo>
                  <a:lnTo>
                    <a:pt x="349" y="85"/>
                  </a:lnTo>
                  <a:lnTo>
                    <a:pt x="366" y="88"/>
                  </a:lnTo>
                  <a:lnTo>
                    <a:pt x="382" y="89"/>
                  </a:lnTo>
                  <a:lnTo>
                    <a:pt x="399" y="91"/>
                  </a:lnTo>
                  <a:lnTo>
                    <a:pt x="416" y="91"/>
                  </a:lnTo>
                  <a:lnTo>
                    <a:pt x="433" y="91"/>
                  </a:lnTo>
                  <a:lnTo>
                    <a:pt x="449" y="90"/>
                  </a:lnTo>
                  <a:lnTo>
                    <a:pt x="466" y="88"/>
                  </a:lnTo>
                  <a:lnTo>
                    <a:pt x="483" y="86"/>
                  </a:lnTo>
                  <a:lnTo>
                    <a:pt x="500" y="83"/>
                  </a:lnTo>
                  <a:lnTo>
                    <a:pt x="517" y="78"/>
                  </a:lnTo>
                  <a:lnTo>
                    <a:pt x="534" y="74"/>
                  </a:lnTo>
                  <a:lnTo>
                    <a:pt x="553" y="69"/>
                  </a:lnTo>
                  <a:lnTo>
                    <a:pt x="589" y="57"/>
                  </a:lnTo>
                  <a:lnTo>
                    <a:pt x="628" y="42"/>
                  </a:lnTo>
                  <a:lnTo>
                    <a:pt x="668" y="24"/>
                  </a:lnTo>
                  <a:lnTo>
                    <a:pt x="712" y="3"/>
                  </a:lnTo>
                  <a:lnTo>
                    <a:pt x="725" y="52"/>
                  </a:lnTo>
                  <a:lnTo>
                    <a:pt x="738" y="101"/>
                  </a:lnTo>
                  <a:lnTo>
                    <a:pt x="753" y="147"/>
                  </a:lnTo>
                  <a:lnTo>
                    <a:pt x="767" y="195"/>
                  </a:lnTo>
                  <a:lnTo>
                    <a:pt x="781" y="242"/>
                  </a:lnTo>
                  <a:lnTo>
                    <a:pt x="795" y="291"/>
                  </a:lnTo>
                  <a:lnTo>
                    <a:pt x="809" y="340"/>
                  </a:lnTo>
                  <a:lnTo>
                    <a:pt x="823" y="392"/>
                  </a:lnTo>
                  <a:lnTo>
                    <a:pt x="735" y="392"/>
                  </a:lnTo>
                  <a:lnTo>
                    <a:pt x="635" y="392"/>
                  </a:lnTo>
                  <a:lnTo>
                    <a:pt x="525" y="392"/>
                  </a:lnTo>
                  <a:lnTo>
                    <a:pt x="412" y="392"/>
                  </a:lnTo>
                  <a:lnTo>
                    <a:pt x="298" y="392"/>
                  </a:lnTo>
                  <a:lnTo>
                    <a:pt x="188" y="392"/>
                  </a:lnTo>
                  <a:lnTo>
                    <a:pt x="88" y="392"/>
                  </a:lnTo>
                  <a:lnTo>
                    <a:pt x="0" y="392"/>
                  </a:lnTo>
                  <a:lnTo>
                    <a:pt x="14" y="340"/>
                  </a:lnTo>
                  <a:lnTo>
                    <a:pt x="28" y="290"/>
                  </a:lnTo>
                  <a:lnTo>
                    <a:pt x="42" y="241"/>
                  </a:lnTo>
                  <a:lnTo>
                    <a:pt x="56" y="193"/>
                  </a:lnTo>
                  <a:lnTo>
                    <a:pt x="71" y="145"/>
                  </a:lnTo>
                  <a:lnTo>
                    <a:pt x="85" y="98"/>
                  </a:lnTo>
                  <a:lnTo>
                    <a:pt x="98" y="50"/>
                  </a:lnTo>
                  <a:lnTo>
                    <a:pt x="112" y="0"/>
                  </a:lnTo>
                  <a:close/>
                </a:path>
              </a:pathLst>
            </a:custGeom>
            <a:solidFill>
              <a:srgbClr val="99ccff"/>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20" name=""/>
            <p:cNvSpPr/>
            <p:nvPr/>
          </p:nvSpPr>
          <p:spPr>
            <a:xfrm>
              <a:off x="3214440" y="1730520"/>
              <a:ext cx="49320" cy="42840"/>
            </a:xfrm>
            <a:custGeom>
              <a:avLst/>
              <a:gdLst/>
              <a:ahLst/>
              <a:rect l="l" t="t" r="r" b="b"/>
              <a:pathLst>
                <a:path w="1048" h="909">
                  <a:moveTo>
                    <a:pt x="877" y="0"/>
                  </a:moveTo>
                  <a:lnTo>
                    <a:pt x="170" y="0"/>
                  </a:lnTo>
                  <a:lnTo>
                    <a:pt x="151" y="20"/>
                  </a:lnTo>
                  <a:lnTo>
                    <a:pt x="132" y="39"/>
                  </a:lnTo>
                  <a:lnTo>
                    <a:pt x="115" y="59"/>
                  </a:lnTo>
                  <a:lnTo>
                    <a:pt x="99" y="79"/>
                  </a:lnTo>
                  <a:lnTo>
                    <a:pt x="84" y="102"/>
                  </a:lnTo>
                  <a:lnTo>
                    <a:pt x="71" y="124"/>
                  </a:lnTo>
                  <a:lnTo>
                    <a:pt x="57" y="147"/>
                  </a:lnTo>
                  <a:lnTo>
                    <a:pt x="45" y="172"/>
                  </a:lnTo>
                  <a:lnTo>
                    <a:pt x="35" y="196"/>
                  </a:lnTo>
                  <a:lnTo>
                    <a:pt x="26" y="221"/>
                  </a:lnTo>
                  <a:lnTo>
                    <a:pt x="18" y="248"/>
                  </a:lnTo>
                  <a:lnTo>
                    <a:pt x="12" y="274"/>
                  </a:lnTo>
                  <a:lnTo>
                    <a:pt x="7" y="302"/>
                  </a:lnTo>
                  <a:lnTo>
                    <a:pt x="3" y="329"/>
                  </a:lnTo>
                  <a:lnTo>
                    <a:pt x="1" y="356"/>
                  </a:lnTo>
                  <a:lnTo>
                    <a:pt x="0" y="385"/>
                  </a:lnTo>
                  <a:lnTo>
                    <a:pt x="1" y="412"/>
                  </a:lnTo>
                  <a:lnTo>
                    <a:pt x="3" y="439"/>
                  </a:lnTo>
                  <a:lnTo>
                    <a:pt x="6" y="465"/>
                  </a:lnTo>
                  <a:lnTo>
                    <a:pt x="10" y="490"/>
                  </a:lnTo>
                  <a:lnTo>
                    <a:pt x="16" y="516"/>
                  </a:lnTo>
                  <a:lnTo>
                    <a:pt x="23" y="540"/>
                  </a:lnTo>
                  <a:lnTo>
                    <a:pt x="31" y="565"/>
                  </a:lnTo>
                  <a:lnTo>
                    <a:pt x="41" y="589"/>
                  </a:lnTo>
                  <a:lnTo>
                    <a:pt x="51" y="612"/>
                  </a:lnTo>
                  <a:lnTo>
                    <a:pt x="62" y="635"/>
                  </a:lnTo>
                  <a:lnTo>
                    <a:pt x="76" y="657"/>
                  </a:lnTo>
                  <a:lnTo>
                    <a:pt x="89" y="678"/>
                  </a:lnTo>
                  <a:lnTo>
                    <a:pt x="104" y="699"/>
                  </a:lnTo>
                  <a:lnTo>
                    <a:pt x="119" y="718"/>
                  </a:lnTo>
                  <a:lnTo>
                    <a:pt x="136" y="737"/>
                  </a:lnTo>
                  <a:lnTo>
                    <a:pt x="153" y="755"/>
                  </a:lnTo>
                  <a:lnTo>
                    <a:pt x="171" y="773"/>
                  </a:lnTo>
                  <a:lnTo>
                    <a:pt x="190" y="789"/>
                  </a:lnTo>
                  <a:lnTo>
                    <a:pt x="210" y="805"/>
                  </a:lnTo>
                  <a:lnTo>
                    <a:pt x="231" y="819"/>
                  </a:lnTo>
                  <a:lnTo>
                    <a:pt x="252" y="834"/>
                  </a:lnTo>
                  <a:lnTo>
                    <a:pt x="274" y="846"/>
                  </a:lnTo>
                  <a:lnTo>
                    <a:pt x="297" y="858"/>
                  </a:lnTo>
                  <a:lnTo>
                    <a:pt x="319" y="868"/>
                  </a:lnTo>
                  <a:lnTo>
                    <a:pt x="344" y="877"/>
                  </a:lnTo>
                  <a:lnTo>
                    <a:pt x="368" y="885"/>
                  </a:lnTo>
                  <a:lnTo>
                    <a:pt x="392" y="892"/>
                  </a:lnTo>
                  <a:lnTo>
                    <a:pt x="418" y="898"/>
                  </a:lnTo>
                  <a:lnTo>
                    <a:pt x="444" y="904"/>
                  </a:lnTo>
                  <a:lnTo>
                    <a:pt x="470" y="907"/>
                  </a:lnTo>
                  <a:lnTo>
                    <a:pt x="497" y="909"/>
                  </a:lnTo>
                  <a:lnTo>
                    <a:pt x="523" y="909"/>
                  </a:lnTo>
                  <a:lnTo>
                    <a:pt x="551" y="909"/>
                  </a:lnTo>
                  <a:lnTo>
                    <a:pt x="577" y="907"/>
                  </a:lnTo>
                  <a:lnTo>
                    <a:pt x="603" y="904"/>
                  </a:lnTo>
                  <a:lnTo>
                    <a:pt x="629" y="898"/>
                  </a:lnTo>
                  <a:lnTo>
                    <a:pt x="654" y="892"/>
                  </a:lnTo>
                  <a:lnTo>
                    <a:pt x="679" y="885"/>
                  </a:lnTo>
                  <a:lnTo>
                    <a:pt x="704" y="877"/>
                  </a:lnTo>
                  <a:lnTo>
                    <a:pt x="727" y="868"/>
                  </a:lnTo>
                  <a:lnTo>
                    <a:pt x="750" y="858"/>
                  </a:lnTo>
                  <a:lnTo>
                    <a:pt x="773" y="846"/>
                  </a:lnTo>
                  <a:lnTo>
                    <a:pt x="795" y="834"/>
                  </a:lnTo>
                  <a:lnTo>
                    <a:pt x="816" y="819"/>
                  </a:lnTo>
                  <a:lnTo>
                    <a:pt x="837" y="805"/>
                  </a:lnTo>
                  <a:lnTo>
                    <a:pt x="857" y="789"/>
                  </a:lnTo>
                  <a:lnTo>
                    <a:pt x="875" y="773"/>
                  </a:lnTo>
                  <a:lnTo>
                    <a:pt x="894" y="755"/>
                  </a:lnTo>
                  <a:lnTo>
                    <a:pt x="911" y="737"/>
                  </a:lnTo>
                  <a:lnTo>
                    <a:pt x="928" y="718"/>
                  </a:lnTo>
                  <a:lnTo>
                    <a:pt x="943" y="699"/>
                  </a:lnTo>
                  <a:lnTo>
                    <a:pt x="957" y="678"/>
                  </a:lnTo>
                  <a:lnTo>
                    <a:pt x="972" y="657"/>
                  </a:lnTo>
                  <a:lnTo>
                    <a:pt x="984" y="635"/>
                  </a:lnTo>
                  <a:lnTo>
                    <a:pt x="996" y="612"/>
                  </a:lnTo>
                  <a:lnTo>
                    <a:pt x="1006" y="589"/>
                  </a:lnTo>
                  <a:lnTo>
                    <a:pt x="1015" y="565"/>
                  </a:lnTo>
                  <a:lnTo>
                    <a:pt x="1023" y="540"/>
                  </a:lnTo>
                  <a:lnTo>
                    <a:pt x="1031" y="516"/>
                  </a:lnTo>
                  <a:lnTo>
                    <a:pt x="1037" y="490"/>
                  </a:lnTo>
                  <a:lnTo>
                    <a:pt x="1042" y="465"/>
                  </a:lnTo>
                  <a:lnTo>
                    <a:pt x="1045" y="439"/>
                  </a:lnTo>
                  <a:lnTo>
                    <a:pt x="1047" y="412"/>
                  </a:lnTo>
                  <a:lnTo>
                    <a:pt x="1048" y="385"/>
                  </a:lnTo>
                  <a:lnTo>
                    <a:pt x="1047" y="356"/>
                  </a:lnTo>
                  <a:lnTo>
                    <a:pt x="1045" y="329"/>
                  </a:lnTo>
                  <a:lnTo>
                    <a:pt x="1041" y="302"/>
                  </a:lnTo>
                  <a:lnTo>
                    <a:pt x="1036" y="274"/>
                  </a:lnTo>
                  <a:lnTo>
                    <a:pt x="1028" y="248"/>
                  </a:lnTo>
                  <a:lnTo>
                    <a:pt x="1021" y="221"/>
                  </a:lnTo>
                  <a:lnTo>
                    <a:pt x="1011" y="196"/>
                  </a:lnTo>
                  <a:lnTo>
                    <a:pt x="1001" y="172"/>
                  </a:lnTo>
                  <a:lnTo>
                    <a:pt x="990" y="147"/>
                  </a:lnTo>
                  <a:lnTo>
                    <a:pt x="977" y="124"/>
                  </a:lnTo>
                  <a:lnTo>
                    <a:pt x="963" y="102"/>
                  </a:lnTo>
                  <a:lnTo>
                    <a:pt x="947" y="79"/>
                  </a:lnTo>
                  <a:lnTo>
                    <a:pt x="931" y="59"/>
                  </a:lnTo>
                  <a:lnTo>
                    <a:pt x="914" y="39"/>
                  </a:lnTo>
                  <a:lnTo>
                    <a:pt x="896" y="20"/>
                  </a:lnTo>
                  <a:lnTo>
                    <a:pt x="877" y="0"/>
                  </a:lnTo>
                  <a:close/>
                </a:path>
              </a:pathLst>
            </a:custGeom>
            <a:solidFill>
              <a:srgbClr val="ffd891"/>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21" name=""/>
            <p:cNvSpPr/>
            <p:nvPr/>
          </p:nvSpPr>
          <p:spPr>
            <a:xfrm>
              <a:off x="3189240" y="1879920"/>
              <a:ext cx="104760" cy="101520"/>
            </a:xfrm>
            <a:custGeom>
              <a:avLst/>
              <a:gdLst/>
              <a:ahLst/>
              <a:rect l="l" t="t" r="r" b="b"/>
              <a:pathLst>
                <a:path w="2183" h="2097">
                  <a:moveTo>
                    <a:pt x="1963" y="0"/>
                  </a:moveTo>
                  <a:lnTo>
                    <a:pt x="1978" y="141"/>
                  </a:lnTo>
                  <a:lnTo>
                    <a:pt x="2003" y="381"/>
                  </a:lnTo>
                  <a:lnTo>
                    <a:pt x="2035" y="690"/>
                  </a:lnTo>
                  <a:lnTo>
                    <a:pt x="2071" y="1033"/>
                  </a:lnTo>
                  <a:lnTo>
                    <a:pt x="2108" y="1378"/>
                  </a:lnTo>
                  <a:lnTo>
                    <a:pt x="2140" y="1692"/>
                  </a:lnTo>
                  <a:lnTo>
                    <a:pt x="2166" y="1943"/>
                  </a:lnTo>
                  <a:lnTo>
                    <a:pt x="2183" y="2097"/>
                  </a:lnTo>
                  <a:lnTo>
                    <a:pt x="2026" y="2097"/>
                  </a:lnTo>
                  <a:lnTo>
                    <a:pt x="1770" y="2097"/>
                  </a:lnTo>
                  <a:lnTo>
                    <a:pt x="1447" y="2097"/>
                  </a:lnTo>
                  <a:lnTo>
                    <a:pt x="1091" y="2097"/>
                  </a:lnTo>
                  <a:lnTo>
                    <a:pt x="736" y="2097"/>
                  </a:lnTo>
                  <a:lnTo>
                    <a:pt x="413" y="2097"/>
                  </a:lnTo>
                  <a:lnTo>
                    <a:pt x="156" y="2097"/>
                  </a:lnTo>
                  <a:lnTo>
                    <a:pt x="0" y="2097"/>
                  </a:lnTo>
                  <a:lnTo>
                    <a:pt x="16" y="1943"/>
                  </a:lnTo>
                  <a:lnTo>
                    <a:pt x="43" y="1692"/>
                  </a:lnTo>
                  <a:lnTo>
                    <a:pt x="75" y="1378"/>
                  </a:lnTo>
                  <a:lnTo>
                    <a:pt x="112" y="1033"/>
                  </a:lnTo>
                  <a:lnTo>
                    <a:pt x="147" y="690"/>
                  </a:lnTo>
                  <a:lnTo>
                    <a:pt x="179" y="381"/>
                  </a:lnTo>
                  <a:lnTo>
                    <a:pt x="205" y="141"/>
                  </a:lnTo>
                  <a:lnTo>
                    <a:pt x="219" y="0"/>
                  </a:lnTo>
                  <a:lnTo>
                    <a:pt x="345" y="0"/>
                  </a:lnTo>
                  <a:lnTo>
                    <a:pt x="550" y="0"/>
                  </a:lnTo>
                  <a:lnTo>
                    <a:pt x="808" y="0"/>
                  </a:lnTo>
                  <a:lnTo>
                    <a:pt x="1091" y="0"/>
                  </a:lnTo>
                  <a:lnTo>
                    <a:pt x="1375" y="0"/>
                  </a:lnTo>
                  <a:lnTo>
                    <a:pt x="1633" y="0"/>
                  </a:lnTo>
                  <a:lnTo>
                    <a:pt x="1838" y="0"/>
                  </a:lnTo>
                  <a:lnTo>
                    <a:pt x="196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3190680" y="1778400"/>
              <a:ext cx="95400" cy="88920"/>
            </a:xfrm>
            <a:custGeom>
              <a:avLst/>
              <a:gdLst/>
              <a:ahLst/>
              <a:rect l="l" t="t" r="r" b="b"/>
              <a:pathLst>
                <a:path w="1956" h="1820">
                  <a:moveTo>
                    <a:pt x="1465" y="5"/>
                  </a:moveTo>
                  <a:lnTo>
                    <a:pt x="1440" y="24"/>
                  </a:lnTo>
                  <a:lnTo>
                    <a:pt x="1413" y="41"/>
                  </a:lnTo>
                  <a:lnTo>
                    <a:pt x="1386" y="57"/>
                  </a:lnTo>
                  <a:lnTo>
                    <a:pt x="1358" y="73"/>
                  </a:lnTo>
                  <a:lnTo>
                    <a:pt x="1330" y="88"/>
                  </a:lnTo>
                  <a:lnTo>
                    <a:pt x="1302" y="101"/>
                  </a:lnTo>
                  <a:lnTo>
                    <a:pt x="1272" y="113"/>
                  </a:lnTo>
                  <a:lnTo>
                    <a:pt x="1242" y="124"/>
                  </a:lnTo>
                  <a:lnTo>
                    <a:pt x="1211" y="134"/>
                  </a:lnTo>
                  <a:lnTo>
                    <a:pt x="1180" y="142"/>
                  </a:lnTo>
                  <a:lnTo>
                    <a:pt x="1148" y="150"/>
                  </a:lnTo>
                  <a:lnTo>
                    <a:pt x="1116" y="156"/>
                  </a:lnTo>
                  <a:lnTo>
                    <a:pt x="1083" y="161"/>
                  </a:lnTo>
                  <a:lnTo>
                    <a:pt x="1051" y="164"/>
                  </a:lnTo>
                  <a:lnTo>
                    <a:pt x="1017" y="166"/>
                  </a:lnTo>
                  <a:lnTo>
                    <a:pt x="984" y="167"/>
                  </a:lnTo>
                  <a:lnTo>
                    <a:pt x="949" y="166"/>
                  </a:lnTo>
                  <a:lnTo>
                    <a:pt x="916" y="164"/>
                  </a:lnTo>
                  <a:lnTo>
                    <a:pt x="883" y="161"/>
                  </a:lnTo>
                  <a:lnTo>
                    <a:pt x="849" y="156"/>
                  </a:lnTo>
                  <a:lnTo>
                    <a:pt x="817" y="150"/>
                  </a:lnTo>
                  <a:lnTo>
                    <a:pt x="784" y="141"/>
                  </a:lnTo>
                  <a:lnTo>
                    <a:pt x="753" y="132"/>
                  </a:lnTo>
                  <a:lnTo>
                    <a:pt x="722" y="122"/>
                  </a:lnTo>
                  <a:lnTo>
                    <a:pt x="692" y="111"/>
                  </a:lnTo>
                  <a:lnTo>
                    <a:pt x="661" y="99"/>
                  </a:lnTo>
                  <a:lnTo>
                    <a:pt x="632" y="85"/>
                  </a:lnTo>
                  <a:lnTo>
                    <a:pt x="603" y="70"/>
                  </a:lnTo>
                  <a:lnTo>
                    <a:pt x="575" y="54"/>
                  </a:lnTo>
                  <a:lnTo>
                    <a:pt x="548" y="37"/>
                  </a:lnTo>
                  <a:lnTo>
                    <a:pt x="521" y="20"/>
                  </a:lnTo>
                  <a:lnTo>
                    <a:pt x="496" y="0"/>
                  </a:lnTo>
                  <a:lnTo>
                    <a:pt x="468" y="28"/>
                  </a:lnTo>
                  <a:lnTo>
                    <a:pt x="442" y="56"/>
                  </a:lnTo>
                  <a:lnTo>
                    <a:pt x="416" y="86"/>
                  </a:lnTo>
                  <a:lnTo>
                    <a:pt x="390" y="117"/>
                  </a:lnTo>
                  <a:lnTo>
                    <a:pt x="365" y="150"/>
                  </a:lnTo>
                  <a:lnTo>
                    <a:pt x="341" y="183"/>
                  </a:lnTo>
                  <a:lnTo>
                    <a:pt x="317" y="218"/>
                  </a:lnTo>
                  <a:lnTo>
                    <a:pt x="295" y="253"/>
                  </a:lnTo>
                  <a:lnTo>
                    <a:pt x="273" y="291"/>
                  </a:lnTo>
                  <a:lnTo>
                    <a:pt x="250" y="329"/>
                  </a:lnTo>
                  <a:lnTo>
                    <a:pt x="230" y="369"/>
                  </a:lnTo>
                  <a:lnTo>
                    <a:pt x="210" y="409"/>
                  </a:lnTo>
                  <a:lnTo>
                    <a:pt x="190" y="451"/>
                  </a:lnTo>
                  <a:lnTo>
                    <a:pt x="172" y="493"/>
                  </a:lnTo>
                  <a:lnTo>
                    <a:pt x="155" y="536"/>
                  </a:lnTo>
                  <a:lnTo>
                    <a:pt x="138" y="581"/>
                  </a:lnTo>
                  <a:lnTo>
                    <a:pt x="121" y="627"/>
                  </a:lnTo>
                  <a:lnTo>
                    <a:pt x="107" y="672"/>
                  </a:lnTo>
                  <a:lnTo>
                    <a:pt x="93" y="719"/>
                  </a:lnTo>
                  <a:lnTo>
                    <a:pt x="80" y="767"/>
                  </a:lnTo>
                  <a:lnTo>
                    <a:pt x="67" y="815"/>
                  </a:lnTo>
                  <a:lnTo>
                    <a:pt x="55" y="865"/>
                  </a:lnTo>
                  <a:lnTo>
                    <a:pt x="45" y="915"/>
                  </a:lnTo>
                  <a:lnTo>
                    <a:pt x="36" y="965"/>
                  </a:lnTo>
                  <a:lnTo>
                    <a:pt x="28" y="1016"/>
                  </a:lnTo>
                  <a:lnTo>
                    <a:pt x="21" y="1068"/>
                  </a:lnTo>
                  <a:lnTo>
                    <a:pt x="14" y="1121"/>
                  </a:lnTo>
                  <a:lnTo>
                    <a:pt x="9" y="1174"/>
                  </a:lnTo>
                  <a:lnTo>
                    <a:pt x="5" y="1226"/>
                  </a:lnTo>
                  <a:lnTo>
                    <a:pt x="2" y="1280"/>
                  </a:lnTo>
                  <a:lnTo>
                    <a:pt x="1" y="1335"/>
                  </a:lnTo>
                  <a:lnTo>
                    <a:pt x="0" y="1390"/>
                  </a:lnTo>
                  <a:lnTo>
                    <a:pt x="1" y="1445"/>
                  </a:lnTo>
                  <a:lnTo>
                    <a:pt x="3" y="1500"/>
                  </a:lnTo>
                  <a:lnTo>
                    <a:pt x="6" y="1555"/>
                  </a:lnTo>
                  <a:lnTo>
                    <a:pt x="10" y="1609"/>
                  </a:lnTo>
                  <a:lnTo>
                    <a:pt x="15" y="1663"/>
                  </a:lnTo>
                  <a:lnTo>
                    <a:pt x="22" y="1716"/>
                  </a:lnTo>
                  <a:lnTo>
                    <a:pt x="29" y="1768"/>
                  </a:lnTo>
                  <a:lnTo>
                    <a:pt x="38" y="1820"/>
                  </a:lnTo>
                  <a:lnTo>
                    <a:pt x="1920" y="1820"/>
                  </a:lnTo>
                  <a:lnTo>
                    <a:pt x="1928" y="1768"/>
                  </a:lnTo>
                  <a:lnTo>
                    <a:pt x="1935" y="1715"/>
                  </a:lnTo>
                  <a:lnTo>
                    <a:pt x="1942" y="1662"/>
                  </a:lnTo>
                  <a:lnTo>
                    <a:pt x="1947" y="1608"/>
                  </a:lnTo>
                  <a:lnTo>
                    <a:pt x="1951" y="1553"/>
                  </a:lnTo>
                  <a:lnTo>
                    <a:pt x="1954" y="1499"/>
                  </a:lnTo>
                  <a:lnTo>
                    <a:pt x="1955" y="1445"/>
                  </a:lnTo>
                  <a:lnTo>
                    <a:pt x="1956" y="1390"/>
                  </a:lnTo>
                  <a:lnTo>
                    <a:pt x="1955" y="1335"/>
                  </a:lnTo>
                  <a:lnTo>
                    <a:pt x="1954" y="1281"/>
                  </a:lnTo>
                  <a:lnTo>
                    <a:pt x="1951" y="1227"/>
                  </a:lnTo>
                  <a:lnTo>
                    <a:pt x="1947" y="1175"/>
                  </a:lnTo>
                  <a:lnTo>
                    <a:pt x="1942" y="1122"/>
                  </a:lnTo>
                  <a:lnTo>
                    <a:pt x="1936" y="1070"/>
                  </a:lnTo>
                  <a:lnTo>
                    <a:pt x="1929" y="1018"/>
                  </a:lnTo>
                  <a:lnTo>
                    <a:pt x="1921" y="968"/>
                  </a:lnTo>
                  <a:lnTo>
                    <a:pt x="1910" y="917"/>
                  </a:lnTo>
                  <a:lnTo>
                    <a:pt x="1900" y="867"/>
                  </a:lnTo>
                  <a:lnTo>
                    <a:pt x="1889" y="818"/>
                  </a:lnTo>
                  <a:lnTo>
                    <a:pt x="1877" y="771"/>
                  </a:lnTo>
                  <a:lnTo>
                    <a:pt x="1864" y="723"/>
                  </a:lnTo>
                  <a:lnTo>
                    <a:pt x="1851" y="676"/>
                  </a:lnTo>
                  <a:lnTo>
                    <a:pt x="1835" y="631"/>
                  </a:lnTo>
                  <a:lnTo>
                    <a:pt x="1819" y="585"/>
                  </a:lnTo>
                  <a:lnTo>
                    <a:pt x="1803" y="541"/>
                  </a:lnTo>
                  <a:lnTo>
                    <a:pt x="1786" y="498"/>
                  </a:lnTo>
                  <a:lnTo>
                    <a:pt x="1767" y="455"/>
                  </a:lnTo>
                  <a:lnTo>
                    <a:pt x="1748" y="414"/>
                  </a:lnTo>
                  <a:lnTo>
                    <a:pt x="1728" y="374"/>
                  </a:lnTo>
                  <a:lnTo>
                    <a:pt x="1708" y="334"/>
                  </a:lnTo>
                  <a:lnTo>
                    <a:pt x="1686" y="296"/>
                  </a:lnTo>
                  <a:lnTo>
                    <a:pt x="1665" y="259"/>
                  </a:lnTo>
                  <a:lnTo>
                    <a:pt x="1642" y="223"/>
                  </a:lnTo>
                  <a:lnTo>
                    <a:pt x="1618" y="188"/>
                  </a:lnTo>
                  <a:lnTo>
                    <a:pt x="1594" y="155"/>
                  </a:lnTo>
                  <a:lnTo>
                    <a:pt x="1570" y="122"/>
                  </a:lnTo>
                  <a:lnTo>
                    <a:pt x="1544" y="91"/>
                  </a:lnTo>
                  <a:lnTo>
                    <a:pt x="1519" y="61"/>
                  </a:lnTo>
                  <a:lnTo>
                    <a:pt x="1492" y="33"/>
                  </a:lnTo>
                  <a:lnTo>
                    <a:pt x="1465" y="5"/>
                  </a:lnTo>
                  <a:close/>
                </a:path>
              </a:pathLst>
            </a:custGeom>
            <a:solidFill>
              <a:srgbClr val="99ccff"/>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3" name=""/>
            <p:cNvSpPr/>
            <p:nvPr/>
          </p:nvSpPr>
          <p:spPr>
            <a:xfrm>
              <a:off x="3267000" y="1994040"/>
              <a:ext cx="21960" cy="25560"/>
            </a:xfrm>
            <a:custGeom>
              <a:avLst/>
              <a:gdLst/>
              <a:ahLst/>
              <a:rect l="l" t="t" r="r" b="b"/>
              <a:pathLst>
                <a:path w="460" h="510">
                  <a:moveTo>
                    <a:pt x="72" y="510"/>
                  </a:moveTo>
                  <a:lnTo>
                    <a:pt x="113" y="485"/>
                  </a:lnTo>
                  <a:lnTo>
                    <a:pt x="157" y="459"/>
                  </a:lnTo>
                  <a:lnTo>
                    <a:pt x="203" y="434"/>
                  </a:lnTo>
                  <a:lnTo>
                    <a:pt x="253" y="410"/>
                  </a:lnTo>
                  <a:lnTo>
                    <a:pt x="278" y="397"/>
                  </a:lnTo>
                  <a:lnTo>
                    <a:pt x="305" y="386"/>
                  </a:lnTo>
                  <a:lnTo>
                    <a:pt x="330" y="376"/>
                  </a:lnTo>
                  <a:lnTo>
                    <a:pt x="357" y="366"/>
                  </a:lnTo>
                  <a:lnTo>
                    <a:pt x="383" y="357"/>
                  </a:lnTo>
                  <a:lnTo>
                    <a:pt x="409" y="349"/>
                  </a:lnTo>
                  <a:lnTo>
                    <a:pt x="435" y="342"/>
                  </a:lnTo>
                  <a:lnTo>
                    <a:pt x="460" y="334"/>
                  </a:lnTo>
                  <a:lnTo>
                    <a:pt x="456" y="303"/>
                  </a:lnTo>
                  <a:lnTo>
                    <a:pt x="451" y="267"/>
                  </a:lnTo>
                  <a:lnTo>
                    <a:pt x="446" y="229"/>
                  </a:lnTo>
                  <a:lnTo>
                    <a:pt x="441" y="188"/>
                  </a:lnTo>
                  <a:lnTo>
                    <a:pt x="435" y="145"/>
                  </a:lnTo>
                  <a:lnTo>
                    <a:pt x="429" y="99"/>
                  </a:lnTo>
                  <a:lnTo>
                    <a:pt x="422" y="50"/>
                  </a:lnTo>
                  <a:lnTo>
                    <a:pt x="415" y="0"/>
                  </a:lnTo>
                  <a:lnTo>
                    <a:pt x="0" y="0"/>
                  </a:lnTo>
                  <a:lnTo>
                    <a:pt x="72" y="510"/>
                  </a:lnTo>
                  <a:close/>
                </a:path>
              </a:pathLst>
            </a:custGeom>
            <a:solidFill>
              <a:srgbClr val="99cc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24" name=""/>
            <p:cNvSpPr/>
            <p:nvPr/>
          </p:nvSpPr>
          <p:spPr>
            <a:xfrm>
              <a:off x="3195360" y="1994040"/>
              <a:ext cx="22320" cy="25560"/>
            </a:xfrm>
            <a:custGeom>
              <a:avLst/>
              <a:gdLst/>
              <a:ahLst/>
              <a:rect l="l" t="t" r="r" b="b"/>
              <a:pathLst>
                <a:path w="460" h="510">
                  <a:moveTo>
                    <a:pt x="388" y="510"/>
                  </a:moveTo>
                  <a:lnTo>
                    <a:pt x="347" y="485"/>
                  </a:lnTo>
                  <a:lnTo>
                    <a:pt x="303" y="458"/>
                  </a:lnTo>
                  <a:lnTo>
                    <a:pt x="257" y="433"/>
                  </a:lnTo>
                  <a:lnTo>
                    <a:pt x="207" y="409"/>
                  </a:lnTo>
                  <a:lnTo>
                    <a:pt x="181" y="397"/>
                  </a:lnTo>
                  <a:lnTo>
                    <a:pt x="155" y="386"/>
                  </a:lnTo>
                  <a:lnTo>
                    <a:pt x="129" y="376"/>
                  </a:lnTo>
                  <a:lnTo>
                    <a:pt x="103" y="366"/>
                  </a:lnTo>
                  <a:lnTo>
                    <a:pt x="77" y="357"/>
                  </a:lnTo>
                  <a:lnTo>
                    <a:pt x="51" y="349"/>
                  </a:lnTo>
                  <a:lnTo>
                    <a:pt x="25" y="341"/>
                  </a:lnTo>
                  <a:lnTo>
                    <a:pt x="0" y="335"/>
                  </a:lnTo>
                  <a:lnTo>
                    <a:pt x="4" y="302"/>
                  </a:lnTo>
                  <a:lnTo>
                    <a:pt x="9" y="268"/>
                  </a:lnTo>
                  <a:lnTo>
                    <a:pt x="14" y="229"/>
                  </a:lnTo>
                  <a:lnTo>
                    <a:pt x="19" y="188"/>
                  </a:lnTo>
                  <a:lnTo>
                    <a:pt x="25" y="145"/>
                  </a:lnTo>
                  <a:lnTo>
                    <a:pt x="31" y="99"/>
                  </a:lnTo>
                  <a:lnTo>
                    <a:pt x="39" y="50"/>
                  </a:lnTo>
                  <a:lnTo>
                    <a:pt x="46" y="0"/>
                  </a:lnTo>
                  <a:lnTo>
                    <a:pt x="460" y="0"/>
                  </a:lnTo>
                  <a:lnTo>
                    <a:pt x="388" y="510"/>
                  </a:lnTo>
                  <a:close/>
                </a:path>
              </a:pathLst>
            </a:custGeom>
            <a:solidFill>
              <a:srgbClr val="ff5900"/>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25" name=""/>
            <p:cNvSpPr/>
            <p:nvPr/>
          </p:nvSpPr>
          <p:spPr>
            <a:xfrm>
              <a:off x="2993760" y="1862280"/>
              <a:ext cx="243000" cy="185760"/>
            </a:xfrm>
            <a:custGeom>
              <a:avLst/>
              <a:gdLst/>
              <a:ahLst/>
              <a:rect l="l" t="t" r="r" b="b"/>
              <a:pathLst>
                <a:path w="5051" h="3873">
                  <a:moveTo>
                    <a:pt x="4303" y="0"/>
                  </a:moveTo>
                  <a:lnTo>
                    <a:pt x="749" y="0"/>
                  </a:lnTo>
                  <a:lnTo>
                    <a:pt x="710" y="1"/>
                  </a:lnTo>
                  <a:lnTo>
                    <a:pt x="673" y="4"/>
                  </a:lnTo>
                  <a:lnTo>
                    <a:pt x="635" y="9"/>
                  </a:lnTo>
                  <a:lnTo>
                    <a:pt x="598" y="15"/>
                  </a:lnTo>
                  <a:lnTo>
                    <a:pt x="562" y="24"/>
                  </a:lnTo>
                  <a:lnTo>
                    <a:pt x="527" y="34"/>
                  </a:lnTo>
                  <a:lnTo>
                    <a:pt x="491" y="45"/>
                  </a:lnTo>
                  <a:lnTo>
                    <a:pt x="458" y="59"/>
                  </a:lnTo>
                  <a:lnTo>
                    <a:pt x="424" y="74"/>
                  </a:lnTo>
                  <a:lnTo>
                    <a:pt x="393" y="91"/>
                  </a:lnTo>
                  <a:lnTo>
                    <a:pt x="361" y="108"/>
                  </a:lnTo>
                  <a:lnTo>
                    <a:pt x="331" y="129"/>
                  </a:lnTo>
                  <a:lnTo>
                    <a:pt x="302" y="149"/>
                  </a:lnTo>
                  <a:lnTo>
                    <a:pt x="273" y="171"/>
                  </a:lnTo>
                  <a:lnTo>
                    <a:pt x="246" y="195"/>
                  </a:lnTo>
                  <a:lnTo>
                    <a:pt x="220" y="220"/>
                  </a:lnTo>
                  <a:lnTo>
                    <a:pt x="195" y="245"/>
                  </a:lnTo>
                  <a:lnTo>
                    <a:pt x="172" y="273"/>
                  </a:lnTo>
                  <a:lnTo>
                    <a:pt x="149" y="301"/>
                  </a:lnTo>
                  <a:lnTo>
                    <a:pt x="128" y="331"/>
                  </a:lnTo>
                  <a:lnTo>
                    <a:pt x="109" y="361"/>
                  </a:lnTo>
                  <a:lnTo>
                    <a:pt x="90" y="393"/>
                  </a:lnTo>
                  <a:lnTo>
                    <a:pt x="74" y="424"/>
                  </a:lnTo>
                  <a:lnTo>
                    <a:pt x="59" y="457"/>
                  </a:lnTo>
                  <a:lnTo>
                    <a:pt x="46" y="492"/>
                  </a:lnTo>
                  <a:lnTo>
                    <a:pt x="35" y="526"/>
                  </a:lnTo>
                  <a:lnTo>
                    <a:pt x="25" y="562"/>
                  </a:lnTo>
                  <a:lnTo>
                    <a:pt x="15" y="598"/>
                  </a:lnTo>
                  <a:lnTo>
                    <a:pt x="9" y="635"/>
                  </a:lnTo>
                  <a:lnTo>
                    <a:pt x="4" y="673"/>
                  </a:lnTo>
                  <a:lnTo>
                    <a:pt x="1" y="710"/>
                  </a:lnTo>
                  <a:lnTo>
                    <a:pt x="0" y="749"/>
                  </a:lnTo>
                  <a:lnTo>
                    <a:pt x="0" y="2420"/>
                  </a:lnTo>
                  <a:lnTo>
                    <a:pt x="1" y="2449"/>
                  </a:lnTo>
                  <a:lnTo>
                    <a:pt x="2" y="2477"/>
                  </a:lnTo>
                  <a:lnTo>
                    <a:pt x="5" y="2506"/>
                  </a:lnTo>
                  <a:lnTo>
                    <a:pt x="9" y="2533"/>
                  </a:lnTo>
                  <a:lnTo>
                    <a:pt x="13" y="2561"/>
                  </a:lnTo>
                  <a:lnTo>
                    <a:pt x="19" y="2588"/>
                  </a:lnTo>
                  <a:lnTo>
                    <a:pt x="26" y="2614"/>
                  </a:lnTo>
                  <a:lnTo>
                    <a:pt x="34" y="2641"/>
                  </a:lnTo>
                  <a:lnTo>
                    <a:pt x="42" y="2666"/>
                  </a:lnTo>
                  <a:lnTo>
                    <a:pt x="51" y="2691"/>
                  </a:lnTo>
                  <a:lnTo>
                    <a:pt x="62" y="2717"/>
                  </a:lnTo>
                  <a:lnTo>
                    <a:pt x="73" y="2741"/>
                  </a:lnTo>
                  <a:lnTo>
                    <a:pt x="84" y="2766"/>
                  </a:lnTo>
                  <a:lnTo>
                    <a:pt x="98" y="2789"/>
                  </a:lnTo>
                  <a:lnTo>
                    <a:pt x="112" y="2812"/>
                  </a:lnTo>
                  <a:lnTo>
                    <a:pt x="126" y="2835"/>
                  </a:lnTo>
                  <a:lnTo>
                    <a:pt x="141" y="2856"/>
                  </a:lnTo>
                  <a:lnTo>
                    <a:pt x="156" y="2877"/>
                  </a:lnTo>
                  <a:lnTo>
                    <a:pt x="174" y="2899"/>
                  </a:lnTo>
                  <a:lnTo>
                    <a:pt x="191" y="2919"/>
                  </a:lnTo>
                  <a:lnTo>
                    <a:pt x="209" y="2938"/>
                  </a:lnTo>
                  <a:lnTo>
                    <a:pt x="227" y="2956"/>
                  </a:lnTo>
                  <a:lnTo>
                    <a:pt x="247" y="2975"/>
                  </a:lnTo>
                  <a:lnTo>
                    <a:pt x="267" y="2993"/>
                  </a:lnTo>
                  <a:lnTo>
                    <a:pt x="288" y="3009"/>
                  </a:lnTo>
                  <a:lnTo>
                    <a:pt x="310" y="3025"/>
                  </a:lnTo>
                  <a:lnTo>
                    <a:pt x="331" y="3041"/>
                  </a:lnTo>
                  <a:lnTo>
                    <a:pt x="353" y="3055"/>
                  </a:lnTo>
                  <a:lnTo>
                    <a:pt x="377" y="3069"/>
                  </a:lnTo>
                  <a:lnTo>
                    <a:pt x="400" y="3082"/>
                  </a:lnTo>
                  <a:lnTo>
                    <a:pt x="424" y="3094"/>
                  </a:lnTo>
                  <a:lnTo>
                    <a:pt x="449" y="3106"/>
                  </a:lnTo>
                  <a:lnTo>
                    <a:pt x="449" y="3873"/>
                  </a:lnTo>
                  <a:lnTo>
                    <a:pt x="4533" y="3873"/>
                  </a:lnTo>
                  <a:lnTo>
                    <a:pt x="4533" y="3129"/>
                  </a:lnTo>
                  <a:lnTo>
                    <a:pt x="4561" y="3120"/>
                  </a:lnTo>
                  <a:lnTo>
                    <a:pt x="4589" y="3109"/>
                  </a:lnTo>
                  <a:lnTo>
                    <a:pt x="4615" y="3097"/>
                  </a:lnTo>
                  <a:lnTo>
                    <a:pt x="4642" y="3084"/>
                  </a:lnTo>
                  <a:lnTo>
                    <a:pt x="4667" y="3071"/>
                  </a:lnTo>
                  <a:lnTo>
                    <a:pt x="4692" y="3056"/>
                  </a:lnTo>
                  <a:lnTo>
                    <a:pt x="4717" y="3041"/>
                  </a:lnTo>
                  <a:lnTo>
                    <a:pt x="4740" y="3024"/>
                  </a:lnTo>
                  <a:lnTo>
                    <a:pt x="4763" y="3006"/>
                  </a:lnTo>
                  <a:lnTo>
                    <a:pt x="4786" y="2989"/>
                  </a:lnTo>
                  <a:lnTo>
                    <a:pt x="4808" y="2970"/>
                  </a:lnTo>
                  <a:lnTo>
                    <a:pt x="4828" y="2949"/>
                  </a:lnTo>
                  <a:lnTo>
                    <a:pt x="4849" y="2929"/>
                  </a:lnTo>
                  <a:lnTo>
                    <a:pt x="4868" y="2908"/>
                  </a:lnTo>
                  <a:lnTo>
                    <a:pt x="4886" y="2885"/>
                  </a:lnTo>
                  <a:lnTo>
                    <a:pt x="4904" y="2863"/>
                  </a:lnTo>
                  <a:lnTo>
                    <a:pt x="4921" y="2840"/>
                  </a:lnTo>
                  <a:lnTo>
                    <a:pt x="4937" y="2815"/>
                  </a:lnTo>
                  <a:lnTo>
                    <a:pt x="4952" y="2790"/>
                  </a:lnTo>
                  <a:lnTo>
                    <a:pt x="4966" y="2765"/>
                  </a:lnTo>
                  <a:lnTo>
                    <a:pt x="4979" y="2739"/>
                  </a:lnTo>
                  <a:lnTo>
                    <a:pt x="4991" y="2713"/>
                  </a:lnTo>
                  <a:lnTo>
                    <a:pt x="5002" y="2685"/>
                  </a:lnTo>
                  <a:lnTo>
                    <a:pt x="5012" y="2658"/>
                  </a:lnTo>
                  <a:lnTo>
                    <a:pt x="5021" y="2630"/>
                  </a:lnTo>
                  <a:lnTo>
                    <a:pt x="5028" y="2601"/>
                  </a:lnTo>
                  <a:lnTo>
                    <a:pt x="5035" y="2572"/>
                  </a:lnTo>
                  <a:lnTo>
                    <a:pt x="5040" y="2542"/>
                  </a:lnTo>
                  <a:lnTo>
                    <a:pt x="5046" y="2513"/>
                  </a:lnTo>
                  <a:lnTo>
                    <a:pt x="5049" y="2482"/>
                  </a:lnTo>
                  <a:lnTo>
                    <a:pt x="5051" y="2452"/>
                  </a:lnTo>
                  <a:lnTo>
                    <a:pt x="5051" y="2420"/>
                  </a:lnTo>
                  <a:lnTo>
                    <a:pt x="5051" y="749"/>
                  </a:lnTo>
                  <a:lnTo>
                    <a:pt x="5050" y="710"/>
                  </a:lnTo>
                  <a:lnTo>
                    <a:pt x="5047" y="673"/>
                  </a:lnTo>
                  <a:lnTo>
                    <a:pt x="5042" y="635"/>
                  </a:lnTo>
                  <a:lnTo>
                    <a:pt x="5035" y="598"/>
                  </a:lnTo>
                  <a:lnTo>
                    <a:pt x="5027" y="562"/>
                  </a:lnTo>
                  <a:lnTo>
                    <a:pt x="5017" y="526"/>
                  </a:lnTo>
                  <a:lnTo>
                    <a:pt x="5005" y="492"/>
                  </a:lnTo>
                  <a:lnTo>
                    <a:pt x="4992" y="457"/>
                  </a:lnTo>
                  <a:lnTo>
                    <a:pt x="4976" y="424"/>
                  </a:lnTo>
                  <a:lnTo>
                    <a:pt x="4960" y="393"/>
                  </a:lnTo>
                  <a:lnTo>
                    <a:pt x="4942" y="361"/>
                  </a:lnTo>
                  <a:lnTo>
                    <a:pt x="4923" y="331"/>
                  </a:lnTo>
                  <a:lnTo>
                    <a:pt x="4901" y="301"/>
                  </a:lnTo>
                  <a:lnTo>
                    <a:pt x="4880" y="273"/>
                  </a:lnTo>
                  <a:lnTo>
                    <a:pt x="4856" y="245"/>
                  </a:lnTo>
                  <a:lnTo>
                    <a:pt x="4831" y="220"/>
                  </a:lnTo>
                  <a:lnTo>
                    <a:pt x="4805" y="195"/>
                  </a:lnTo>
                  <a:lnTo>
                    <a:pt x="4779" y="171"/>
                  </a:lnTo>
                  <a:lnTo>
                    <a:pt x="4750" y="149"/>
                  </a:lnTo>
                  <a:lnTo>
                    <a:pt x="4721" y="129"/>
                  </a:lnTo>
                  <a:lnTo>
                    <a:pt x="4690" y="108"/>
                  </a:lnTo>
                  <a:lnTo>
                    <a:pt x="4659" y="91"/>
                  </a:lnTo>
                  <a:lnTo>
                    <a:pt x="4626" y="74"/>
                  </a:lnTo>
                  <a:lnTo>
                    <a:pt x="4594" y="59"/>
                  </a:lnTo>
                  <a:lnTo>
                    <a:pt x="4559" y="45"/>
                  </a:lnTo>
                  <a:lnTo>
                    <a:pt x="4525" y="34"/>
                  </a:lnTo>
                  <a:lnTo>
                    <a:pt x="4489" y="24"/>
                  </a:lnTo>
                  <a:lnTo>
                    <a:pt x="4453" y="15"/>
                  </a:lnTo>
                  <a:lnTo>
                    <a:pt x="4416" y="9"/>
                  </a:lnTo>
                  <a:lnTo>
                    <a:pt x="4379" y="4"/>
                  </a:lnTo>
                  <a:lnTo>
                    <a:pt x="4341" y="1"/>
                  </a:lnTo>
                  <a:lnTo>
                    <a:pt x="43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3009600" y="1876680"/>
              <a:ext cx="211320" cy="120600"/>
            </a:xfrm>
            <a:custGeom>
              <a:avLst/>
              <a:gdLst/>
              <a:ahLst/>
              <a:rect l="l" t="t" r="r" b="b"/>
              <a:pathLst>
                <a:path w="4394" h="2513">
                  <a:moveTo>
                    <a:pt x="0" y="2092"/>
                  </a:moveTo>
                  <a:lnTo>
                    <a:pt x="0" y="421"/>
                  </a:lnTo>
                  <a:lnTo>
                    <a:pt x="1" y="398"/>
                  </a:lnTo>
                  <a:lnTo>
                    <a:pt x="2" y="377"/>
                  </a:lnTo>
                  <a:lnTo>
                    <a:pt x="5" y="357"/>
                  </a:lnTo>
                  <a:lnTo>
                    <a:pt x="8" y="335"/>
                  </a:lnTo>
                  <a:lnTo>
                    <a:pt x="13" y="315"/>
                  </a:lnTo>
                  <a:lnTo>
                    <a:pt x="19" y="296"/>
                  </a:lnTo>
                  <a:lnTo>
                    <a:pt x="25" y="276"/>
                  </a:lnTo>
                  <a:lnTo>
                    <a:pt x="33" y="257"/>
                  </a:lnTo>
                  <a:lnTo>
                    <a:pt x="42" y="238"/>
                  </a:lnTo>
                  <a:lnTo>
                    <a:pt x="51" y="221"/>
                  </a:lnTo>
                  <a:lnTo>
                    <a:pt x="61" y="202"/>
                  </a:lnTo>
                  <a:lnTo>
                    <a:pt x="72" y="185"/>
                  </a:lnTo>
                  <a:lnTo>
                    <a:pt x="83" y="169"/>
                  </a:lnTo>
                  <a:lnTo>
                    <a:pt x="96" y="154"/>
                  </a:lnTo>
                  <a:lnTo>
                    <a:pt x="110" y="137"/>
                  </a:lnTo>
                  <a:lnTo>
                    <a:pt x="123" y="123"/>
                  </a:lnTo>
                  <a:lnTo>
                    <a:pt x="138" y="109"/>
                  </a:lnTo>
                  <a:lnTo>
                    <a:pt x="153" y="96"/>
                  </a:lnTo>
                  <a:lnTo>
                    <a:pt x="168" y="84"/>
                  </a:lnTo>
                  <a:lnTo>
                    <a:pt x="186" y="72"/>
                  </a:lnTo>
                  <a:lnTo>
                    <a:pt x="202" y="61"/>
                  </a:lnTo>
                  <a:lnTo>
                    <a:pt x="220" y="51"/>
                  </a:lnTo>
                  <a:lnTo>
                    <a:pt x="238" y="42"/>
                  </a:lnTo>
                  <a:lnTo>
                    <a:pt x="257" y="33"/>
                  </a:lnTo>
                  <a:lnTo>
                    <a:pt x="276" y="26"/>
                  </a:lnTo>
                  <a:lnTo>
                    <a:pt x="295" y="19"/>
                  </a:lnTo>
                  <a:lnTo>
                    <a:pt x="316" y="14"/>
                  </a:lnTo>
                  <a:lnTo>
                    <a:pt x="336" y="9"/>
                  </a:lnTo>
                  <a:lnTo>
                    <a:pt x="356" y="5"/>
                  </a:lnTo>
                  <a:lnTo>
                    <a:pt x="377" y="2"/>
                  </a:lnTo>
                  <a:lnTo>
                    <a:pt x="399" y="0"/>
                  </a:lnTo>
                  <a:lnTo>
                    <a:pt x="420" y="0"/>
                  </a:lnTo>
                  <a:lnTo>
                    <a:pt x="3974" y="0"/>
                  </a:lnTo>
                  <a:lnTo>
                    <a:pt x="3995" y="0"/>
                  </a:lnTo>
                  <a:lnTo>
                    <a:pt x="4016" y="2"/>
                  </a:lnTo>
                  <a:lnTo>
                    <a:pt x="4038" y="5"/>
                  </a:lnTo>
                  <a:lnTo>
                    <a:pt x="4058" y="9"/>
                  </a:lnTo>
                  <a:lnTo>
                    <a:pt x="4078" y="14"/>
                  </a:lnTo>
                  <a:lnTo>
                    <a:pt x="4099" y="19"/>
                  </a:lnTo>
                  <a:lnTo>
                    <a:pt x="4118" y="26"/>
                  </a:lnTo>
                  <a:lnTo>
                    <a:pt x="4137" y="33"/>
                  </a:lnTo>
                  <a:lnTo>
                    <a:pt x="4155" y="42"/>
                  </a:lnTo>
                  <a:lnTo>
                    <a:pt x="4174" y="51"/>
                  </a:lnTo>
                  <a:lnTo>
                    <a:pt x="4191" y="61"/>
                  </a:lnTo>
                  <a:lnTo>
                    <a:pt x="4208" y="72"/>
                  </a:lnTo>
                  <a:lnTo>
                    <a:pt x="4224" y="84"/>
                  </a:lnTo>
                  <a:lnTo>
                    <a:pt x="4241" y="96"/>
                  </a:lnTo>
                  <a:lnTo>
                    <a:pt x="4256" y="109"/>
                  </a:lnTo>
                  <a:lnTo>
                    <a:pt x="4270" y="123"/>
                  </a:lnTo>
                  <a:lnTo>
                    <a:pt x="4284" y="137"/>
                  </a:lnTo>
                  <a:lnTo>
                    <a:pt x="4297" y="154"/>
                  </a:lnTo>
                  <a:lnTo>
                    <a:pt x="4310" y="169"/>
                  </a:lnTo>
                  <a:lnTo>
                    <a:pt x="4322" y="185"/>
                  </a:lnTo>
                  <a:lnTo>
                    <a:pt x="4332" y="202"/>
                  </a:lnTo>
                  <a:lnTo>
                    <a:pt x="4342" y="221"/>
                  </a:lnTo>
                  <a:lnTo>
                    <a:pt x="4352" y="238"/>
                  </a:lnTo>
                  <a:lnTo>
                    <a:pt x="4360" y="257"/>
                  </a:lnTo>
                  <a:lnTo>
                    <a:pt x="4367" y="276"/>
                  </a:lnTo>
                  <a:lnTo>
                    <a:pt x="4375" y="296"/>
                  </a:lnTo>
                  <a:lnTo>
                    <a:pt x="4380" y="315"/>
                  </a:lnTo>
                  <a:lnTo>
                    <a:pt x="4385" y="335"/>
                  </a:lnTo>
                  <a:lnTo>
                    <a:pt x="4389" y="357"/>
                  </a:lnTo>
                  <a:lnTo>
                    <a:pt x="4391" y="377"/>
                  </a:lnTo>
                  <a:lnTo>
                    <a:pt x="4393" y="398"/>
                  </a:lnTo>
                  <a:lnTo>
                    <a:pt x="4394" y="421"/>
                  </a:lnTo>
                  <a:lnTo>
                    <a:pt x="4394" y="2092"/>
                  </a:lnTo>
                  <a:lnTo>
                    <a:pt x="4393" y="2115"/>
                  </a:lnTo>
                  <a:lnTo>
                    <a:pt x="4391" y="2136"/>
                  </a:lnTo>
                  <a:lnTo>
                    <a:pt x="4389" y="2156"/>
                  </a:lnTo>
                  <a:lnTo>
                    <a:pt x="4385" y="2178"/>
                  </a:lnTo>
                  <a:lnTo>
                    <a:pt x="4380" y="2198"/>
                  </a:lnTo>
                  <a:lnTo>
                    <a:pt x="4375" y="2217"/>
                  </a:lnTo>
                  <a:lnTo>
                    <a:pt x="4367" y="2236"/>
                  </a:lnTo>
                  <a:lnTo>
                    <a:pt x="4360" y="2256"/>
                  </a:lnTo>
                  <a:lnTo>
                    <a:pt x="4352" y="2274"/>
                  </a:lnTo>
                  <a:lnTo>
                    <a:pt x="4342" y="2292"/>
                  </a:lnTo>
                  <a:lnTo>
                    <a:pt x="4332" y="2311"/>
                  </a:lnTo>
                  <a:lnTo>
                    <a:pt x="4322" y="2327"/>
                  </a:lnTo>
                  <a:lnTo>
                    <a:pt x="4310" y="2344"/>
                  </a:lnTo>
                  <a:lnTo>
                    <a:pt x="4297" y="2359"/>
                  </a:lnTo>
                  <a:lnTo>
                    <a:pt x="4284" y="2375"/>
                  </a:lnTo>
                  <a:lnTo>
                    <a:pt x="4270" y="2390"/>
                  </a:lnTo>
                  <a:lnTo>
                    <a:pt x="4256" y="2403"/>
                  </a:lnTo>
                  <a:lnTo>
                    <a:pt x="4241" y="2416"/>
                  </a:lnTo>
                  <a:lnTo>
                    <a:pt x="4224" y="2429"/>
                  </a:lnTo>
                  <a:lnTo>
                    <a:pt x="4208" y="2440"/>
                  </a:lnTo>
                  <a:lnTo>
                    <a:pt x="4191" y="2452"/>
                  </a:lnTo>
                  <a:lnTo>
                    <a:pt x="4174" y="2462"/>
                  </a:lnTo>
                  <a:lnTo>
                    <a:pt x="4155" y="2471"/>
                  </a:lnTo>
                  <a:lnTo>
                    <a:pt x="4137" y="2480"/>
                  </a:lnTo>
                  <a:lnTo>
                    <a:pt x="4118" y="2487"/>
                  </a:lnTo>
                  <a:lnTo>
                    <a:pt x="4099" y="2494"/>
                  </a:lnTo>
                  <a:lnTo>
                    <a:pt x="4078" y="2499"/>
                  </a:lnTo>
                  <a:lnTo>
                    <a:pt x="4058" y="2504"/>
                  </a:lnTo>
                  <a:lnTo>
                    <a:pt x="4038" y="2507"/>
                  </a:lnTo>
                  <a:lnTo>
                    <a:pt x="4016" y="2511"/>
                  </a:lnTo>
                  <a:lnTo>
                    <a:pt x="3995" y="2513"/>
                  </a:lnTo>
                  <a:lnTo>
                    <a:pt x="3974" y="2513"/>
                  </a:lnTo>
                  <a:lnTo>
                    <a:pt x="420" y="2513"/>
                  </a:lnTo>
                  <a:lnTo>
                    <a:pt x="399" y="2513"/>
                  </a:lnTo>
                  <a:lnTo>
                    <a:pt x="377" y="2511"/>
                  </a:lnTo>
                  <a:lnTo>
                    <a:pt x="356" y="2507"/>
                  </a:lnTo>
                  <a:lnTo>
                    <a:pt x="336" y="2504"/>
                  </a:lnTo>
                  <a:lnTo>
                    <a:pt x="316" y="2499"/>
                  </a:lnTo>
                  <a:lnTo>
                    <a:pt x="295" y="2494"/>
                  </a:lnTo>
                  <a:lnTo>
                    <a:pt x="276" y="2487"/>
                  </a:lnTo>
                  <a:lnTo>
                    <a:pt x="257" y="2480"/>
                  </a:lnTo>
                  <a:lnTo>
                    <a:pt x="238" y="2471"/>
                  </a:lnTo>
                  <a:lnTo>
                    <a:pt x="220" y="2462"/>
                  </a:lnTo>
                  <a:lnTo>
                    <a:pt x="202" y="2452"/>
                  </a:lnTo>
                  <a:lnTo>
                    <a:pt x="186" y="2440"/>
                  </a:lnTo>
                  <a:lnTo>
                    <a:pt x="168" y="2429"/>
                  </a:lnTo>
                  <a:lnTo>
                    <a:pt x="153" y="2416"/>
                  </a:lnTo>
                  <a:lnTo>
                    <a:pt x="138" y="2403"/>
                  </a:lnTo>
                  <a:lnTo>
                    <a:pt x="123" y="2390"/>
                  </a:lnTo>
                  <a:lnTo>
                    <a:pt x="110" y="2375"/>
                  </a:lnTo>
                  <a:lnTo>
                    <a:pt x="96" y="2359"/>
                  </a:lnTo>
                  <a:lnTo>
                    <a:pt x="83" y="2344"/>
                  </a:lnTo>
                  <a:lnTo>
                    <a:pt x="72" y="2327"/>
                  </a:lnTo>
                  <a:lnTo>
                    <a:pt x="61" y="2311"/>
                  </a:lnTo>
                  <a:lnTo>
                    <a:pt x="51" y="2292"/>
                  </a:lnTo>
                  <a:lnTo>
                    <a:pt x="42" y="2274"/>
                  </a:lnTo>
                  <a:lnTo>
                    <a:pt x="33" y="2256"/>
                  </a:lnTo>
                  <a:lnTo>
                    <a:pt x="25" y="2236"/>
                  </a:lnTo>
                  <a:lnTo>
                    <a:pt x="19" y="2217"/>
                  </a:lnTo>
                  <a:lnTo>
                    <a:pt x="13" y="2198"/>
                  </a:lnTo>
                  <a:lnTo>
                    <a:pt x="8" y="2178"/>
                  </a:lnTo>
                  <a:lnTo>
                    <a:pt x="5" y="2156"/>
                  </a:lnTo>
                  <a:lnTo>
                    <a:pt x="2" y="2136"/>
                  </a:lnTo>
                  <a:lnTo>
                    <a:pt x="1" y="2115"/>
                  </a:lnTo>
                  <a:lnTo>
                    <a:pt x="0" y="2092"/>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3030480" y="2011680"/>
              <a:ext cx="169920" cy="17280"/>
            </a:xfrm>
            <a:prstGeom prst="rect">
              <a:avLst/>
            </a:prstGeom>
            <a:solidFill>
              <a:srgbClr val="7f99b2"/>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grpSp>
      <p:cxnSp>
        <p:nvCxnSpPr>
          <p:cNvPr id="428" name=""/>
          <p:cNvCxnSpPr>
            <a:stCxn id="429" idx="2"/>
            <a:endCxn id="370" idx="3"/>
          </p:cNvCxnSpPr>
          <p:nvPr/>
        </p:nvCxnSpPr>
        <p:spPr>
          <a:xfrm rot="5400000">
            <a:off x="3908520" y="1468800"/>
            <a:ext cx="594360" cy="1716840"/>
          </a:xfrm>
          <a:prstGeom prst="bentConnector3">
            <a:avLst>
              <a:gd name="adj1" fmla="val 50000"/>
            </a:avLst>
          </a:prstGeom>
          <a:ln w="28440">
            <a:solidFill>
              <a:srgbClr val="cc6600"/>
            </a:solidFill>
            <a:miter/>
            <a:headEnd len="med" type="triangle" w="med"/>
            <a:tailEnd len="med" type="triangle" w="med"/>
          </a:ln>
        </p:spPr>
      </p:cxnSp>
      <p:cxnSp>
        <p:nvCxnSpPr>
          <p:cNvPr id="430" name=""/>
          <p:cNvCxnSpPr>
            <a:stCxn id="411" idx="2"/>
            <a:endCxn id="370" idx="3"/>
          </p:cNvCxnSpPr>
          <p:nvPr/>
        </p:nvCxnSpPr>
        <p:spPr>
          <a:xfrm flipH="1" rot="16200000">
            <a:off x="3048480" y="2325240"/>
            <a:ext cx="594360" cy="3960"/>
          </a:xfrm>
          <a:prstGeom prst="bentConnector3">
            <a:avLst>
              <a:gd name="adj1" fmla="val 50000"/>
            </a:avLst>
          </a:prstGeom>
          <a:ln w="28440">
            <a:solidFill>
              <a:srgbClr val="cc6600"/>
            </a:solidFill>
            <a:miter/>
            <a:headEnd len="med" type="triangle" w="med"/>
            <a:tailEnd len="med" type="triangle" w="med"/>
          </a:ln>
        </p:spPr>
      </p:cxnSp>
      <p:cxnSp>
        <p:nvCxnSpPr>
          <p:cNvPr id="431" name=""/>
          <p:cNvCxnSpPr>
            <a:stCxn id="386" idx="2"/>
            <a:endCxn id="370" idx="3"/>
          </p:cNvCxnSpPr>
          <p:nvPr/>
        </p:nvCxnSpPr>
        <p:spPr>
          <a:xfrm flipH="1" rot="16200000">
            <a:off x="2347200" y="1622880"/>
            <a:ext cx="622800" cy="1380240"/>
          </a:xfrm>
          <a:prstGeom prst="bentConnector3">
            <a:avLst>
              <a:gd name="adj1" fmla="val 49971"/>
            </a:avLst>
          </a:prstGeom>
          <a:ln w="28440">
            <a:solidFill>
              <a:srgbClr val="cc6600"/>
            </a:solidFill>
            <a:miter/>
            <a:headEnd len="med" type="triangle" w="med"/>
            <a:tailEnd len="med" type="triangle" w="med"/>
          </a:ln>
        </p:spPr>
      </p:cxnSp>
      <p:grpSp>
        <p:nvGrpSpPr>
          <p:cNvPr id="432" name=""/>
          <p:cNvGrpSpPr/>
          <p:nvPr/>
        </p:nvGrpSpPr>
        <p:grpSpPr>
          <a:xfrm>
            <a:off x="4630680" y="1238400"/>
            <a:ext cx="914400" cy="809640"/>
            <a:chOff x="4630680" y="1238400"/>
            <a:chExt cx="914400" cy="809640"/>
          </a:xfrm>
        </p:grpSpPr>
        <p:grpSp>
          <p:nvGrpSpPr>
            <p:cNvPr id="433" name=""/>
            <p:cNvGrpSpPr/>
            <p:nvPr/>
          </p:nvGrpSpPr>
          <p:grpSpPr>
            <a:xfrm>
              <a:off x="4630680" y="1238400"/>
              <a:ext cx="914400" cy="809640"/>
              <a:chOff x="4630680" y="1238400"/>
              <a:chExt cx="914400" cy="809640"/>
            </a:xfrm>
          </p:grpSpPr>
          <p:sp>
            <p:nvSpPr>
              <p:cNvPr id="434" name=""/>
              <p:cNvSpPr/>
              <p:nvPr/>
            </p:nvSpPr>
            <p:spPr>
              <a:xfrm>
                <a:off x="4636800" y="1238400"/>
                <a:ext cx="908280" cy="809640"/>
              </a:xfrm>
              <a:custGeom>
                <a:avLst/>
                <a:gdLst/>
                <a:ahLst/>
                <a:rect l="l" t="t" r="r" b="b"/>
                <a:pathLst>
                  <a:path w="16016" h="14280">
                    <a:moveTo>
                      <a:pt x="684" y="3787"/>
                    </a:moveTo>
                    <a:lnTo>
                      <a:pt x="863" y="3787"/>
                    </a:lnTo>
                    <a:lnTo>
                      <a:pt x="1335" y="3787"/>
                    </a:lnTo>
                    <a:lnTo>
                      <a:pt x="2007" y="3787"/>
                    </a:lnTo>
                    <a:lnTo>
                      <a:pt x="2785" y="3787"/>
                    </a:lnTo>
                    <a:lnTo>
                      <a:pt x="3574" y="3787"/>
                    </a:lnTo>
                    <a:lnTo>
                      <a:pt x="4282" y="3787"/>
                    </a:lnTo>
                    <a:lnTo>
                      <a:pt x="4812" y="3787"/>
                    </a:lnTo>
                    <a:lnTo>
                      <a:pt x="5072" y="3787"/>
                    </a:lnTo>
                    <a:lnTo>
                      <a:pt x="5072" y="3553"/>
                    </a:lnTo>
                    <a:lnTo>
                      <a:pt x="5072" y="3092"/>
                    </a:lnTo>
                    <a:lnTo>
                      <a:pt x="5072" y="2480"/>
                    </a:lnTo>
                    <a:lnTo>
                      <a:pt x="5072" y="1801"/>
                    </a:lnTo>
                    <a:lnTo>
                      <a:pt x="5072" y="1133"/>
                    </a:lnTo>
                    <a:lnTo>
                      <a:pt x="5072" y="557"/>
                    </a:lnTo>
                    <a:lnTo>
                      <a:pt x="5072" y="153"/>
                    </a:lnTo>
                    <a:lnTo>
                      <a:pt x="5072" y="0"/>
                    </a:lnTo>
                    <a:lnTo>
                      <a:pt x="10514" y="0"/>
                    </a:lnTo>
                    <a:lnTo>
                      <a:pt x="10514" y="153"/>
                    </a:lnTo>
                    <a:lnTo>
                      <a:pt x="10514" y="557"/>
                    </a:lnTo>
                    <a:lnTo>
                      <a:pt x="10514" y="1133"/>
                    </a:lnTo>
                    <a:lnTo>
                      <a:pt x="10514" y="1801"/>
                    </a:lnTo>
                    <a:lnTo>
                      <a:pt x="10514" y="2480"/>
                    </a:lnTo>
                    <a:lnTo>
                      <a:pt x="10514" y="3092"/>
                    </a:lnTo>
                    <a:lnTo>
                      <a:pt x="10514" y="3553"/>
                    </a:lnTo>
                    <a:lnTo>
                      <a:pt x="10514" y="3787"/>
                    </a:lnTo>
                    <a:lnTo>
                      <a:pt x="10786" y="3787"/>
                    </a:lnTo>
                    <a:lnTo>
                      <a:pt x="11350" y="3787"/>
                    </a:lnTo>
                    <a:lnTo>
                      <a:pt x="12103" y="3787"/>
                    </a:lnTo>
                    <a:lnTo>
                      <a:pt x="12946" y="3787"/>
                    </a:lnTo>
                    <a:lnTo>
                      <a:pt x="13776" y="3787"/>
                    </a:lnTo>
                    <a:lnTo>
                      <a:pt x="14494" y="3787"/>
                    </a:lnTo>
                    <a:lnTo>
                      <a:pt x="14999" y="3787"/>
                    </a:lnTo>
                    <a:lnTo>
                      <a:pt x="15189" y="3787"/>
                    </a:lnTo>
                    <a:lnTo>
                      <a:pt x="15187" y="12778"/>
                    </a:lnTo>
                    <a:lnTo>
                      <a:pt x="16016" y="14280"/>
                    </a:lnTo>
                    <a:lnTo>
                      <a:pt x="0" y="14280"/>
                    </a:lnTo>
                    <a:lnTo>
                      <a:pt x="663" y="12821"/>
                    </a:lnTo>
                    <a:lnTo>
                      <a:pt x="684" y="37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4692600" y="1468800"/>
                <a:ext cx="172800" cy="496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4943160" y="1254600"/>
                <a:ext cx="270000" cy="196560"/>
              </a:xfrm>
              <a:prstGeom prst="rect">
                <a:avLst/>
              </a:prstGeom>
              <a:solidFill>
                <a:srgbClr val="ccecff"/>
              </a:solidFill>
              <a:ln w="0">
                <a:noFill/>
              </a:ln>
            </p:spPr>
            <p:style>
              <a:lnRef idx="0"/>
              <a:fillRef idx="0"/>
              <a:effectRef idx="0"/>
              <a:fontRef idx="minor"/>
            </p:style>
            <p:txBody>
              <a:bodyPr lIns="90000" rIns="90000" tIns="46800" bIns="46800" anchor="t">
                <a:noAutofit/>
              </a:bodyPr>
              <a:p>
                <a:pPr algn="ctr">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
              <p:cNvSpPr/>
              <p:nvPr/>
            </p:nvSpPr>
            <p:spPr>
              <a:xfrm>
                <a:off x="4884480" y="1468800"/>
                <a:ext cx="598680" cy="496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302080" y="1860840"/>
                <a:ext cx="239760" cy="144360"/>
              </a:xfrm>
              <a:custGeom>
                <a:avLst/>
                <a:gdLst/>
                <a:ahLst/>
                <a:rect l="l" t="t" r="r" b="b"/>
                <a:pathLst>
                  <a:path w="4232" h="2538">
                    <a:moveTo>
                      <a:pt x="1634" y="546"/>
                    </a:moveTo>
                    <a:lnTo>
                      <a:pt x="1612" y="550"/>
                    </a:lnTo>
                    <a:lnTo>
                      <a:pt x="1590" y="556"/>
                    </a:lnTo>
                    <a:lnTo>
                      <a:pt x="1568" y="562"/>
                    </a:lnTo>
                    <a:lnTo>
                      <a:pt x="1545" y="568"/>
                    </a:lnTo>
                    <a:lnTo>
                      <a:pt x="1524" y="576"/>
                    </a:lnTo>
                    <a:lnTo>
                      <a:pt x="1503" y="583"/>
                    </a:lnTo>
                    <a:lnTo>
                      <a:pt x="1482" y="592"/>
                    </a:lnTo>
                    <a:lnTo>
                      <a:pt x="1462" y="601"/>
                    </a:lnTo>
                    <a:lnTo>
                      <a:pt x="1422" y="584"/>
                    </a:lnTo>
                    <a:lnTo>
                      <a:pt x="1383" y="569"/>
                    </a:lnTo>
                    <a:lnTo>
                      <a:pt x="1344" y="555"/>
                    </a:lnTo>
                    <a:lnTo>
                      <a:pt x="1303" y="544"/>
                    </a:lnTo>
                    <a:lnTo>
                      <a:pt x="1282" y="539"/>
                    </a:lnTo>
                    <a:lnTo>
                      <a:pt x="1262" y="535"/>
                    </a:lnTo>
                    <a:lnTo>
                      <a:pt x="1241" y="531"/>
                    </a:lnTo>
                    <a:lnTo>
                      <a:pt x="1221" y="528"/>
                    </a:lnTo>
                    <a:lnTo>
                      <a:pt x="1200" y="526"/>
                    </a:lnTo>
                    <a:lnTo>
                      <a:pt x="1178" y="524"/>
                    </a:lnTo>
                    <a:lnTo>
                      <a:pt x="1157" y="523"/>
                    </a:lnTo>
                    <a:lnTo>
                      <a:pt x="1136" y="523"/>
                    </a:lnTo>
                    <a:lnTo>
                      <a:pt x="1098" y="524"/>
                    </a:lnTo>
                    <a:lnTo>
                      <a:pt x="1060" y="526"/>
                    </a:lnTo>
                    <a:lnTo>
                      <a:pt x="1023" y="531"/>
                    </a:lnTo>
                    <a:lnTo>
                      <a:pt x="986" y="537"/>
                    </a:lnTo>
                    <a:lnTo>
                      <a:pt x="951" y="545"/>
                    </a:lnTo>
                    <a:lnTo>
                      <a:pt x="914" y="554"/>
                    </a:lnTo>
                    <a:lnTo>
                      <a:pt x="880" y="565"/>
                    </a:lnTo>
                    <a:lnTo>
                      <a:pt x="847" y="577"/>
                    </a:lnTo>
                    <a:lnTo>
                      <a:pt x="814" y="591"/>
                    </a:lnTo>
                    <a:lnTo>
                      <a:pt x="781" y="607"/>
                    </a:lnTo>
                    <a:lnTo>
                      <a:pt x="750" y="623"/>
                    </a:lnTo>
                    <a:lnTo>
                      <a:pt x="720" y="642"/>
                    </a:lnTo>
                    <a:lnTo>
                      <a:pt x="691" y="662"/>
                    </a:lnTo>
                    <a:lnTo>
                      <a:pt x="662" y="683"/>
                    </a:lnTo>
                    <a:lnTo>
                      <a:pt x="635" y="705"/>
                    </a:lnTo>
                    <a:lnTo>
                      <a:pt x="610" y="728"/>
                    </a:lnTo>
                    <a:lnTo>
                      <a:pt x="585" y="752"/>
                    </a:lnTo>
                    <a:lnTo>
                      <a:pt x="562" y="777"/>
                    </a:lnTo>
                    <a:lnTo>
                      <a:pt x="539" y="804"/>
                    </a:lnTo>
                    <a:lnTo>
                      <a:pt x="518" y="832"/>
                    </a:lnTo>
                    <a:lnTo>
                      <a:pt x="499" y="860"/>
                    </a:lnTo>
                    <a:lnTo>
                      <a:pt x="481" y="889"/>
                    </a:lnTo>
                    <a:lnTo>
                      <a:pt x="465" y="919"/>
                    </a:lnTo>
                    <a:lnTo>
                      <a:pt x="450" y="951"/>
                    </a:lnTo>
                    <a:lnTo>
                      <a:pt x="437" y="982"/>
                    </a:lnTo>
                    <a:lnTo>
                      <a:pt x="424" y="1015"/>
                    </a:lnTo>
                    <a:lnTo>
                      <a:pt x="414" y="1048"/>
                    </a:lnTo>
                    <a:lnTo>
                      <a:pt x="406" y="1082"/>
                    </a:lnTo>
                    <a:lnTo>
                      <a:pt x="400" y="1117"/>
                    </a:lnTo>
                    <a:lnTo>
                      <a:pt x="395" y="1151"/>
                    </a:lnTo>
                    <a:lnTo>
                      <a:pt x="392" y="1187"/>
                    </a:lnTo>
                    <a:lnTo>
                      <a:pt x="391" y="1223"/>
                    </a:lnTo>
                    <a:lnTo>
                      <a:pt x="391" y="1224"/>
                    </a:lnTo>
                    <a:lnTo>
                      <a:pt x="391" y="1225"/>
                    </a:lnTo>
                    <a:lnTo>
                      <a:pt x="391" y="1226"/>
                    </a:lnTo>
                    <a:lnTo>
                      <a:pt x="392" y="1227"/>
                    </a:lnTo>
                    <a:lnTo>
                      <a:pt x="392" y="1229"/>
                    </a:lnTo>
                    <a:lnTo>
                      <a:pt x="392" y="1230"/>
                    </a:lnTo>
                    <a:lnTo>
                      <a:pt x="392" y="1232"/>
                    </a:lnTo>
                    <a:lnTo>
                      <a:pt x="392" y="1232"/>
                    </a:lnTo>
                    <a:lnTo>
                      <a:pt x="370" y="1244"/>
                    </a:lnTo>
                    <a:lnTo>
                      <a:pt x="349" y="1256"/>
                    </a:lnTo>
                    <a:lnTo>
                      <a:pt x="328" y="1269"/>
                    </a:lnTo>
                    <a:lnTo>
                      <a:pt x="308" y="1282"/>
                    </a:lnTo>
                    <a:lnTo>
                      <a:pt x="287" y="1296"/>
                    </a:lnTo>
                    <a:lnTo>
                      <a:pt x="268" y="1311"/>
                    </a:lnTo>
                    <a:lnTo>
                      <a:pt x="250" y="1326"/>
                    </a:lnTo>
                    <a:lnTo>
                      <a:pt x="232" y="1342"/>
                    </a:lnTo>
                    <a:lnTo>
                      <a:pt x="214" y="1358"/>
                    </a:lnTo>
                    <a:lnTo>
                      <a:pt x="197" y="1375"/>
                    </a:lnTo>
                    <a:lnTo>
                      <a:pt x="181" y="1392"/>
                    </a:lnTo>
                    <a:lnTo>
                      <a:pt x="164" y="1409"/>
                    </a:lnTo>
                    <a:lnTo>
                      <a:pt x="149" y="1427"/>
                    </a:lnTo>
                    <a:lnTo>
                      <a:pt x="135" y="1446"/>
                    </a:lnTo>
                    <a:lnTo>
                      <a:pt x="121" y="1464"/>
                    </a:lnTo>
                    <a:lnTo>
                      <a:pt x="108" y="1485"/>
                    </a:lnTo>
                    <a:lnTo>
                      <a:pt x="95" y="1504"/>
                    </a:lnTo>
                    <a:lnTo>
                      <a:pt x="83" y="1524"/>
                    </a:lnTo>
                    <a:lnTo>
                      <a:pt x="72" y="1544"/>
                    </a:lnTo>
                    <a:lnTo>
                      <a:pt x="62" y="1565"/>
                    </a:lnTo>
                    <a:lnTo>
                      <a:pt x="52" y="1586"/>
                    </a:lnTo>
                    <a:lnTo>
                      <a:pt x="43" y="1608"/>
                    </a:lnTo>
                    <a:lnTo>
                      <a:pt x="35" y="1630"/>
                    </a:lnTo>
                    <a:lnTo>
                      <a:pt x="28" y="1652"/>
                    </a:lnTo>
                    <a:lnTo>
                      <a:pt x="21" y="1674"/>
                    </a:lnTo>
                    <a:lnTo>
                      <a:pt x="15" y="1697"/>
                    </a:lnTo>
                    <a:lnTo>
                      <a:pt x="11" y="1719"/>
                    </a:lnTo>
                    <a:lnTo>
                      <a:pt x="7" y="1743"/>
                    </a:lnTo>
                    <a:lnTo>
                      <a:pt x="4" y="1767"/>
                    </a:lnTo>
                    <a:lnTo>
                      <a:pt x="1" y="1790"/>
                    </a:lnTo>
                    <a:lnTo>
                      <a:pt x="0" y="1814"/>
                    </a:lnTo>
                    <a:lnTo>
                      <a:pt x="0" y="1837"/>
                    </a:lnTo>
                    <a:lnTo>
                      <a:pt x="0" y="1873"/>
                    </a:lnTo>
                    <a:lnTo>
                      <a:pt x="3" y="1910"/>
                    </a:lnTo>
                    <a:lnTo>
                      <a:pt x="8" y="1944"/>
                    </a:lnTo>
                    <a:lnTo>
                      <a:pt x="15" y="1979"/>
                    </a:lnTo>
                    <a:lnTo>
                      <a:pt x="23" y="2013"/>
                    </a:lnTo>
                    <a:lnTo>
                      <a:pt x="33" y="2046"/>
                    </a:lnTo>
                    <a:lnTo>
                      <a:pt x="44" y="2079"/>
                    </a:lnTo>
                    <a:lnTo>
                      <a:pt x="59" y="2110"/>
                    </a:lnTo>
                    <a:lnTo>
                      <a:pt x="73" y="2141"/>
                    </a:lnTo>
                    <a:lnTo>
                      <a:pt x="90" y="2172"/>
                    </a:lnTo>
                    <a:lnTo>
                      <a:pt x="108" y="2201"/>
                    </a:lnTo>
                    <a:lnTo>
                      <a:pt x="127" y="2229"/>
                    </a:lnTo>
                    <a:lnTo>
                      <a:pt x="147" y="2257"/>
                    </a:lnTo>
                    <a:lnTo>
                      <a:pt x="169" y="2284"/>
                    </a:lnTo>
                    <a:lnTo>
                      <a:pt x="194" y="2309"/>
                    </a:lnTo>
                    <a:lnTo>
                      <a:pt x="218" y="2333"/>
                    </a:lnTo>
                    <a:lnTo>
                      <a:pt x="244" y="2356"/>
                    </a:lnTo>
                    <a:lnTo>
                      <a:pt x="271" y="2378"/>
                    </a:lnTo>
                    <a:lnTo>
                      <a:pt x="298" y="2399"/>
                    </a:lnTo>
                    <a:lnTo>
                      <a:pt x="328" y="2419"/>
                    </a:lnTo>
                    <a:lnTo>
                      <a:pt x="358" y="2438"/>
                    </a:lnTo>
                    <a:lnTo>
                      <a:pt x="389" y="2454"/>
                    </a:lnTo>
                    <a:lnTo>
                      <a:pt x="421" y="2470"/>
                    </a:lnTo>
                    <a:lnTo>
                      <a:pt x="455" y="2484"/>
                    </a:lnTo>
                    <a:lnTo>
                      <a:pt x="488" y="2496"/>
                    </a:lnTo>
                    <a:lnTo>
                      <a:pt x="523" y="2507"/>
                    </a:lnTo>
                    <a:lnTo>
                      <a:pt x="559" y="2516"/>
                    </a:lnTo>
                    <a:lnTo>
                      <a:pt x="594" y="2524"/>
                    </a:lnTo>
                    <a:lnTo>
                      <a:pt x="631" y="2530"/>
                    </a:lnTo>
                    <a:lnTo>
                      <a:pt x="668" y="2535"/>
                    </a:lnTo>
                    <a:lnTo>
                      <a:pt x="706" y="2537"/>
                    </a:lnTo>
                    <a:lnTo>
                      <a:pt x="744" y="2538"/>
                    </a:lnTo>
                    <a:lnTo>
                      <a:pt x="3488" y="2538"/>
                    </a:lnTo>
                    <a:lnTo>
                      <a:pt x="3525" y="2537"/>
                    </a:lnTo>
                    <a:lnTo>
                      <a:pt x="3563" y="2535"/>
                    </a:lnTo>
                    <a:lnTo>
                      <a:pt x="3601" y="2530"/>
                    </a:lnTo>
                    <a:lnTo>
                      <a:pt x="3637" y="2524"/>
                    </a:lnTo>
                    <a:lnTo>
                      <a:pt x="3673" y="2516"/>
                    </a:lnTo>
                    <a:lnTo>
                      <a:pt x="3709" y="2507"/>
                    </a:lnTo>
                    <a:lnTo>
                      <a:pt x="3743" y="2496"/>
                    </a:lnTo>
                    <a:lnTo>
                      <a:pt x="3777" y="2484"/>
                    </a:lnTo>
                    <a:lnTo>
                      <a:pt x="3809" y="2470"/>
                    </a:lnTo>
                    <a:lnTo>
                      <a:pt x="3842" y="2454"/>
                    </a:lnTo>
                    <a:lnTo>
                      <a:pt x="3873" y="2438"/>
                    </a:lnTo>
                    <a:lnTo>
                      <a:pt x="3903" y="2419"/>
                    </a:lnTo>
                    <a:lnTo>
                      <a:pt x="3932" y="2399"/>
                    </a:lnTo>
                    <a:lnTo>
                      <a:pt x="3961" y="2378"/>
                    </a:lnTo>
                    <a:lnTo>
                      <a:pt x="3988" y="2356"/>
                    </a:lnTo>
                    <a:lnTo>
                      <a:pt x="4014" y="2333"/>
                    </a:lnTo>
                    <a:lnTo>
                      <a:pt x="4038" y="2309"/>
                    </a:lnTo>
                    <a:lnTo>
                      <a:pt x="4061" y="2284"/>
                    </a:lnTo>
                    <a:lnTo>
                      <a:pt x="4083" y="2257"/>
                    </a:lnTo>
                    <a:lnTo>
                      <a:pt x="4105" y="2229"/>
                    </a:lnTo>
                    <a:lnTo>
                      <a:pt x="4124" y="2201"/>
                    </a:lnTo>
                    <a:lnTo>
                      <a:pt x="4142" y="2172"/>
                    </a:lnTo>
                    <a:lnTo>
                      <a:pt x="4158" y="2141"/>
                    </a:lnTo>
                    <a:lnTo>
                      <a:pt x="4173" y="2110"/>
                    </a:lnTo>
                    <a:lnTo>
                      <a:pt x="4186" y="2079"/>
                    </a:lnTo>
                    <a:lnTo>
                      <a:pt x="4198" y="2046"/>
                    </a:lnTo>
                    <a:lnTo>
                      <a:pt x="4208" y="2013"/>
                    </a:lnTo>
                    <a:lnTo>
                      <a:pt x="4217" y="1979"/>
                    </a:lnTo>
                    <a:lnTo>
                      <a:pt x="4224" y="1944"/>
                    </a:lnTo>
                    <a:lnTo>
                      <a:pt x="4228" y="1910"/>
                    </a:lnTo>
                    <a:lnTo>
                      <a:pt x="4231" y="1873"/>
                    </a:lnTo>
                    <a:lnTo>
                      <a:pt x="4232" y="1837"/>
                    </a:lnTo>
                    <a:lnTo>
                      <a:pt x="4232" y="1814"/>
                    </a:lnTo>
                    <a:lnTo>
                      <a:pt x="4230" y="1791"/>
                    </a:lnTo>
                    <a:lnTo>
                      <a:pt x="4228" y="1767"/>
                    </a:lnTo>
                    <a:lnTo>
                      <a:pt x="4225" y="1744"/>
                    </a:lnTo>
                    <a:lnTo>
                      <a:pt x="4221" y="1720"/>
                    </a:lnTo>
                    <a:lnTo>
                      <a:pt x="4216" y="1698"/>
                    </a:lnTo>
                    <a:lnTo>
                      <a:pt x="4210" y="1676"/>
                    </a:lnTo>
                    <a:lnTo>
                      <a:pt x="4204" y="1654"/>
                    </a:lnTo>
                    <a:lnTo>
                      <a:pt x="4196" y="1632"/>
                    </a:lnTo>
                    <a:lnTo>
                      <a:pt x="4189" y="1610"/>
                    </a:lnTo>
                    <a:lnTo>
                      <a:pt x="4180" y="1588"/>
                    </a:lnTo>
                    <a:lnTo>
                      <a:pt x="4171" y="1567"/>
                    </a:lnTo>
                    <a:lnTo>
                      <a:pt x="4160" y="1547"/>
                    </a:lnTo>
                    <a:lnTo>
                      <a:pt x="4150" y="1527"/>
                    </a:lnTo>
                    <a:lnTo>
                      <a:pt x="4138" y="1507"/>
                    </a:lnTo>
                    <a:lnTo>
                      <a:pt x="4126" y="1487"/>
                    </a:lnTo>
                    <a:lnTo>
                      <a:pt x="4113" y="1468"/>
                    </a:lnTo>
                    <a:lnTo>
                      <a:pt x="4099" y="1448"/>
                    </a:lnTo>
                    <a:lnTo>
                      <a:pt x="4084" y="1430"/>
                    </a:lnTo>
                    <a:lnTo>
                      <a:pt x="4069" y="1412"/>
                    </a:lnTo>
                    <a:lnTo>
                      <a:pt x="4054" y="1395"/>
                    </a:lnTo>
                    <a:lnTo>
                      <a:pt x="4038" y="1378"/>
                    </a:lnTo>
                    <a:lnTo>
                      <a:pt x="4021" y="1361"/>
                    </a:lnTo>
                    <a:lnTo>
                      <a:pt x="4004" y="1345"/>
                    </a:lnTo>
                    <a:lnTo>
                      <a:pt x="3986" y="1329"/>
                    </a:lnTo>
                    <a:lnTo>
                      <a:pt x="3968" y="1314"/>
                    </a:lnTo>
                    <a:lnTo>
                      <a:pt x="3948" y="1299"/>
                    </a:lnTo>
                    <a:lnTo>
                      <a:pt x="3928" y="1285"/>
                    </a:lnTo>
                    <a:lnTo>
                      <a:pt x="3908" y="1272"/>
                    </a:lnTo>
                    <a:lnTo>
                      <a:pt x="3888" y="1259"/>
                    </a:lnTo>
                    <a:lnTo>
                      <a:pt x="3867" y="1247"/>
                    </a:lnTo>
                    <a:lnTo>
                      <a:pt x="3846" y="1235"/>
                    </a:lnTo>
                    <a:lnTo>
                      <a:pt x="3850" y="1218"/>
                    </a:lnTo>
                    <a:lnTo>
                      <a:pt x="3854" y="1202"/>
                    </a:lnTo>
                    <a:lnTo>
                      <a:pt x="3859" y="1184"/>
                    </a:lnTo>
                    <a:lnTo>
                      <a:pt x="3863" y="1167"/>
                    </a:lnTo>
                    <a:lnTo>
                      <a:pt x="3867" y="1150"/>
                    </a:lnTo>
                    <a:lnTo>
                      <a:pt x="3870" y="1134"/>
                    </a:lnTo>
                    <a:lnTo>
                      <a:pt x="3872" y="1117"/>
                    </a:lnTo>
                    <a:lnTo>
                      <a:pt x="3873" y="1100"/>
                    </a:lnTo>
                    <a:lnTo>
                      <a:pt x="3872" y="1065"/>
                    </a:lnTo>
                    <a:lnTo>
                      <a:pt x="3869" y="1028"/>
                    </a:lnTo>
                    <a:lnTo>
                      <a:pt x="3864" y="993"/>
                    </a:lnTo>
                    <a:lnTo>
                      <a:pt x="3858" y="959"/>
                    </a:lnTo>
                    <a:lnTo>
                      <a:pt x="3849" y="926"/>
                    </a:lnTo>
                    <a:lnTo>
                      <a:pt x="3840" y="892"/>
                    </a:lnTo>
                    <a:lnTo>
                      <a:pt x="3827" y="859"/>
                    </a:lnTo>
                    <a:lnTo>
                      <a:pt x="3814" y="828"/>
                    </a:lnTo>
                    <a:lnTo>
                      <a:pt x="3799" y="797"/>
                    </a:lnTo>
                    <a:lnTo>
                      <a:pt x="3782" y="766"/>
                    </a:lnTo>
                    <a:lnTo>
                      <a:pt x="3765" y="737"/>
                    </a:lnTo>
                    <a:lnTo>
                      <a:pt x="3745" y="709"/>
                    </a:lnTo>
                    <a:lnTo>
                      <a:pt x="3725" y="681"/>
                    </a:lnTo>
                    <a:lnTo>
                      <a:pt x="3702" y="655"/>
                    </a:lnTo>
                    <a:lnTo>
                      <a:pt x="3679" y="629"/>
                    </a:lnTo>
                    <a:lnTo>
                      <a:pt x="3654" y="605"/>
                    </a:lnTo>
                    <a:lnTo>
                      <a:pt x="3628" y="582"/>
                    </a:lnTo>
                    <a:lnTo>
                      <a:pt x="3602" y="560"/>
                    </a:lnTo>
                    <a:lnTo>
                      <a:pt x="3573" y="539"/>
                    </a:lnTo>
                    <a:lnTo>
                      <a:pt x="3544" y="520"/>
                    </a:lnTo>
                    <a:lnTo>
                      <a:pt x="3514" y="500"/>
                    </a:lnTo>
                    <a:lnTo>
                      <a:pt x="3483" y="484"/>
                    </a:lnTo>
                    <a:lnTo>
                      <a:pt x="3450" y="468"/>
                    </a:lnTo>
                    <a:lnTo>
                      <a:pt x="3417" y="454"/>
                    </a:lnTo>
                    <a:lnTo>
                      <a:pt x="3384" y="442"/>
                    </a:lnTo>
                    <a:lnTo>
                      <a:pt x="3349" y="431"/>
                    </a:lnTo>
                    <a:lnTo>
                      <a:pt x="3313" y="422"/>
                    </a:lnTo>
                    <a:lnTo>
                      <a:pt x="3278" y="414"/>
                    </a:lnTo>
                    <a:lnTo>
                      <a:pt x="3241" y="408"/>
                    </a:lnTo>
                    <a:lnTo>
                      <a:pt x="3204" y="403"/>
                    </a:lnTo>
                    <a:lnTo>
                      <a:pt x="3166" y="401"/>
                    </a:lnTo>
                    <a:lnTo>
                      <a:pt x="3128" y="400"/>
                    </a:lnTo>
                    <a:lnTo>
                      <a:pt x="3114" y="400"/>
                    </a:lnTo>
                    <a:lnTo>
                      <a:pt x="3100" y="402"/>
                    </a:lnTo>
                    <a:lnTo>
                      <a:pt x="3085" y="404"/>
                    </a:lnTo>
                    <a:lnTo>
                      <a:pt x="3070" y="407"/>
                    </a:lnTo>
                    <a:lnTo>
                      <a:pt x="3056" y="410"/>
                    </a:lnTo>
                    <a:lnTo>
                      <a:pt x="3041" y="413"/>
                    </a:lnTo>
                    <a:lnTo>
                      <a:pt x="3027" y="416"/>
                    </a:lnTo>
                    <a:lnTo>
                      <a:pt x="3013" y="419"/>
                    </a:lnTo>
                    <a:lnTo>
                      <a:pt x="3002" y="396"/>
                    </a:lnTo>
                    <a:lnTo>
                      <a:pt x="2990" y="372"/>
                    </a:lnTo>
                    <a:lnTo>
                      <a:pt x="2977" y="351"/>
                    </a:lnTo>
                    <a:lnTo>
                      <a:pt x="2963" y="329"/>
                    </a:lnTo>
                    <a:lnTo>
                      <a:pt x="2948" y="308"/>
                    </a:lnTo>
                    <a:lnTo>
                      <a:pt x="2933" y="288"/>
                    </a:lnTo>
                    <a:lnTo>
                      <a:pt x="2917" y="268"/>
                    </a:lnTo>
                    <a:lnTo>
                      <a:pt x="2900" y="249"/>
                    </a:lnTo>
                    <a:lnTo>
                      <a:pt x="2883" y="229"/>
                    </a:lnTo>
                    <a:lnTo>
                      <a:pt x="2866" y="211"/>
                    </a:lnTo>
                    <a:lnTo>
                      <a:pt x="2847" y="194"/>
                    </a:lnTo>
                    <a:lnTo>
                      <a:pt x="2828" y="177"/>
                    </a:lnTo>
                    <a:lnTo>
                      <a:pt x="2808" y="161"/>
                    </a:lnTo>
                    <a:lnTo>
                      <a:pt x="2788" y="145"/>
                    </a:lnTo>
                    <a:lnTo>
                      <a:pt x="2767" y="130"/>
                    </a:lnTo>
                    <a:lnTo>
                      <a:pt x="2746" y="116"/>
                    </a:lnTo>
                    <a:lnTo>
                      <a:pt x="2724" y="102"/>
                    </a:lnTo>
                    <a:lnTo>
                      <a:pt x="2702" y="89"/>
                    </a:lnTo>
                    <a:lnTo>
                      <a:pt x="2678" y="78"/>
                    </a:lnTo>
                    <a:lnTo>
                      <a:pt x="2655" y="66"/>
                    </a:lnTo>
                    <a:lnTo>
                      <a:pt x="2632" y="56"/>
                    </a:lnTo>
                    <a:lnTo>
                      <a:pt x="2608" y="47"/>
                    </a:lnTo>
                    <a:lnTo>
                      <a:pt x="2583" y="38"/>
                    </a:lnTo>
                    <a:lnTo>
                      <a:pt x="2557" y="30"/>
                    </a:lnTo>
                    <a:lnTo>
                      <a:pt x="2532" y="23"/>
                    </a:lnTo>
                    <a:lnTo>
                      <a:pt x="2506" y="17"/>
                    </a:lnTo>
                    <a:lnTo>
                      <a:pt x="2480" y="12"/>
                    </a:lnTo>
                    <a:lnTo>
                      <a:pt x="2454" y="8"/>
                    </a:lnTo>
                    <a:lnTo>
                      <a:pt x="2426" y="4"/>
                    </a:lnTo>
                    <a:lnTo>
                      <a:pt x="2399" y="2"/>
                    </a:lnTo>
                    <a:lnTo>
                      <a:pt x="2372" y="0"/>
                    </a:lnTo>
                    <a:lnTo>
                      <a:pt x="2345" y="0"/>
                    </a:lnTo>
                    <a:lnTo>
                      <a:pt x="2311" y="1"/>
                    </a:lnTo>
                    <a:lnTo>
                      <a:pt x="2280" y="3"/>
                    </a:lnTo>
                    <a:lnTo>
                      <a:pt x="2248" y="6"/>
                    </a:lnTo>
                    <a:lnTo>
                      <a:pt x="2218" y="11"/>
                    </a:lnTo>
                    <a:lnTo>
                      <a:pt x="2186" y="16"/>
                    </a:lnTo>
                    <a:lnTo>
                      <a:pt x="2156" y="24"/>
                    </a:lnTo>
                    <a:lnTo>
                      <a:pt x="2127" y="32"/>
                    </a:lnTo>
                    <a:lnTo>
                      <a:pt x="2098" y="41"/>
                    </a:lnTo>
                    <a:lnTo>
                      <a:pt x="2070" y="52"/>
                    </a:lnTo>
                    <a:lnTo>
                      <a:pt x="2041" y="64"/>
                    </a:lnTo>
                    <a:lnTo>
                      <a:pt x="2014" y="76"/>
                    </a:lnTo>
                    <a:lnTo>
                      <a:pt x="1988" y="90"/>
                    </a:lnTo>
                    <a:lnTo>
                      <a:pt x="1962" y="105"/>
                    </a:lnTo>
                    <a:lnTo>
                      <a:pt x="1936" y="122"/>
                    </a:lnTo>
                    <a:lnTo>
                      <a:pt x="1912" y="138"/>
                    </a:lnTo>
                    <a:lnTo>
                      <a:pt x="1888" y="156"/>
                    </a:lnTo>
                    <a:lnTo>
                      <a:pt x="1866" y="175"/>
                    </a:lnTo>
                    <a:lnTo>
                      <a:pt x="1844" y="194"/>
                    </a:lnTo>
                    <a:lnTo>
                      <a:pt x="1822" y="215"/>
                    </a:lnTo>
                    <a:lnTo>
                      <a:pt x="1801" y="236"/>
                    </a:lnTo>
                    <a:lnTo>
                      <a:pt x="1782" y="259"/>
                    </a:lnTo>
                    <a:lnTo>
                      <a:pt x="1763" y="281"/>
                    </a:lnTo>
                    <a:lnTo>
                      <a:pt x="1746" y="305"/>
                    </a:lnTo>
                    <a:lnTo>
                      <a:pt x="1730" y="329"/>
                    </a:lnTo>
                    <a:lnTo>
                      <a:pt x="1714" y="354"/>
                    </a:lnTo>
                    <a:lnTo>
                      <a:pt x="1699" y="380"/>
                    </a:lnTo>
                    <a:lnTo>
                      <a:pt x="1685" y="406"/>
                    </a:lnTo>
                    <a:lnTo>
                      <a:pt x="1673" y="433"/>
                    </a:lnTo>
                    <a:lnTo>
                      <a:pt x="1661" y="460"/>
                    </a:lnTo>
                    <a:lnTo>
                      <a:pt x="1651" y="488"/>
                    </a:lnTo>
                    <a:lnTo>
                      <a:pt x="1642" y="517"/>
                    </a:lnTo>
                    <a:lnTo>
                      <a:pt x="1634" y="5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319360" y="1876680"/>
                <a:ext cx="208080" cy="114480"/>
              </a:xfrm>
              <a:custGeom>
                <a:avLst/>
                <a:gdLst/>
                <a:ahLst/>
                <a:rect l="l" t="t" r="r" b="b"/>
                <a:pathLst>
                  <a:path w="3672" h="2011">
                    <a:moveTo>
                      <a:pt x="1258" y="592"/>
                    </a:moveTo>
                    <a:lnTo>
                      <a:pt x="1283" y="579"/>
                    </a:lnTo>
                    <a:lnTo>
                      <a:pt x="1308" y="567"/>
                    </a:lnTo>
                    <a:lnTo>
                      <a:pt x="1334" y="556"/>
                    </a:lnTo>
                    <a:lnTo>
                      <a:pt x="1361" y="547"/>
                    </a:lnTo>
                    <a:lnTo>
                      <a:pt x="1388" y="540"/>
                    </a:lnTo>
                    <a:lnTo>
                      <a:pt x="1417" y="534"/>
                    </a:lnTo>
                    <a:lnTo>
                      <a:pt x="1446" y="529"/>
                    </a:lnTo>
                    <a:lnTo>
                      <a:pt x="1475" y="527"/>
                    </a:lnTo>
                    <a:lnTo>
                      <a:pt x="1596" y="518"/>
                    </a:lnTo>
                    <a:lnTo>
                      <a:pt x="1605" y="404"/>
                    </a:lnTo>
                    <a:lnTo>
                      <a:pt x="1607" y="383"/>
                    </a:lnTo>
                    <a:lnTo>
                      <a:pt x="1610" y="362"/>
                    </a:lnTo>
                    <a:lnTo>
                      <a:pt x="1614" y="341"/>
                    </a:lnTo>
                    <a:lnTo>
                      <a:pt x="1620" y="321"/>
                    </a:lnTo>
                    <a:lnTo>
                      <a:pt x="1626" y="302"/>
                    </a:lnTo>
                    <a:lnTo>
                      <a:pt x="1633" y="283"/>
                    </a:lnTo>
                    <a:lnTo>
                      <a:pt x="1641" y="264"/>
                    </a:lnTo>
                    <a:lnTo>
                      <a:pt x="1651" y="246"/>
                    </a:lnTo>
                    <a:lnTo>
                      <a:pt x="1661" y="227"/>
                    </a:lnTo>
                    <a:lnTo>
                      <a:pt x="1671" y="209"/>
                    </a:lnTo>
                    <a:lnTo>
                      <a:pt x="1683" y="193"/>
                    </a:lnTo>
                    <a:lnTo>
                      <a:pt x="1695" y="176"/>
                    </a:lnTo>
                    <a:lnTo>
                      <a:pt x="1708" y="161"/>
                    </a:lnTo>
                    <a:lnTo>
                      <a:pt x="1722" y="146"/>
                    </a:lnTo>
                    <a:lnTo>
                      <a:pt x="1736" y="131"/>
                    </a:lnTo>
                    <a:lnTo>
                      <a:pt x="1751" y="117"/>
                    </a:lnTo>
                    <a:lnTo>
                      <a:pt x="1767" y="104"/>
                    </a:lnTo>
                    <a:lnTo>
                      <a:pt x="1784" y="90"/>
                    </a:lnTo>
                    <a:lnTo>
                      <a:pt x="1801" y="79"/>
                    </a:lnTo>
                    <a:lnTo>
                      <a:pt x="1819" y="68"/>
                    </a:lnTo>
                    <a:lnTo>
                      <a:pt x="1837" y="57"/>
                    </a:lnTo>
                    <a:lnTo>
                      <a:pt x="1855" y="48"/>
                    </a:lnTo>
                    <a:lnTo>
                      <a:pt x="1874" y="39"/>
                    </a:lnTo>
                    <a:lnTo>
                      <a:pt x="1894" y="31"/>
                    </a:lnTo>
                    <a:lnTo>
                      <a:pt x="1914" y="24"/>
                    </a:lnTo>
                    <a:lnTo>
                      <a:pt x="1935" y="18"/>
                    </a:lnTo>
                    <a:lnTo>
                      <a:pt x="1955" y="12"/>
                    </a:lnTo>
                    <a:lnTo>
                      <a:pt x="1976" y="8"/>
                    </a:lnTo>
                    <a:lnTo>
                      <a:pt x="1998" y="4"/>
                    </a:lnTo>
                    <a:lnTo>
                      <a:pt x="2020" y="2"/>
                    </a:lnTo>
                    <a:lnTo>
                      <a:pt x="2042" y="0"/>
                    </a:lnTo>
                    <a:lnTo>
                      <a:pt x="2065" y="0"/>
                    </a:lnTo>
                    <a:lnTo>
                      <a:pt x="2084" y="0"/>
                    </a:lnTo>
                    <a:lnTo>
                      <a:pt x="2104" y="1"/>
                    </a:lnTo>
                    <a:lnTo>
                      <a:pt x="2123" y="3"/>
                    </a:lnTo>
                    <a:lnTo>
                      <a:pt x="2142" y="6"/>
                    </a:lnTo>
                    <a:lnTo>
                      <a:pt x="2162" y="10"/>
                    </a:lnTo>
                    <a:lnTo>
                      <a:pt x="2181" y="14"/>
                    </a:lnTo>
                    <a:lnTo>
                      <a:pt x="2199" y="19"/>
                    </a:lnTo>
                    <a:lnTo>
                      <a:pt x="2217" y="24"/>
                    </a:lnTo>
                    <a:lnTo>
                      <a:pt x="2235" y="30"/>
                    </a:lnTo>
                    <a:lnTo>
                      <a:pt x="2252" y="37"/>
                    </a:lnTo>
                    <a:lnTo>
                      <a:pt x="2270" y="45"/>
                    </a:lnTo>
                    <a:lnTo>
                      <a:pt x="2287" y="53"/>
                    </a:lnTo>
                    <a:lnTo>
                      <a:pt x="2303" y="62"/>
                    </a:lnTo>
                    <a:lnTo>
                      <a:pt x="2319" y="72"/>
                    </a:lnTo>
                    <a:lnTo>
                      <a:pt x="2335" y="82"/>
                    </a:lnTo>
                    <a:lnTo>
                      <a:pt x="2350" y="93"/>
                    </a:lnTo>
                    <a:lnTo>
                      <a:pt x="2364" y="104"/>
                    </a:lnTo>
                    <a:lnTo>
                      <a:pt x="2378" y="116"/>
                    </a:lnTo>
                    <a:lnTo>
                      <a:pt x="2392" y="129"/>
                    </a:lnTo>
                    <a:lnTo>
                      <a:pt x="2406" y="141"/>
                    </a:lnTo>
                    <a:lnTo>
                      <a:pt x="2418" y="155"/>
                    </a:lnTo>
                    <a:lnTo>
                      <a:pt x="2430" y="169"/>
                    </a:lnTo>
                    <a:lnTo>
                      <a:pt x="2441" y="183"/>
                    </a:lnTo>
                    <a:lnTo>
                      <a:pt x="2452" y="198"/>
                    </a:lnTo>
                    <a:lnTo>
                      <a:pt x="2462" y="213"/>
                    </a:lnTo>
                    <a:lnTo>
                      <a:pt x="2471" y="230"/>
                    </a:lnTo>
                    <a:lnTo>
                      <a:pt x="2480" y="246"/>
                    </a:lnTo>
                    <a:lnTo>
                      <a:pt x="2488" y="262"/>
                    </a:lnTo>
                    <a:lnTo>
                      <a:pt x="2495" y="279"/>
                    </a:lnTo>
                    <a:lnTo>
                      <a:pt x="2502" y="297"/>
                    </a:lnTo>
                    <a:lnTo>
                      <a:pt x="2508" y="314"/>
                    </a:lnTo>
                    <a:lnTo>
                      <a:pt x="2513" y="332"/>
                    </a:lnTo>
                    <a:lnTo>
                      <a:pt x="2550" y="474"/>
                    </a:lnTo>
                    <a:lnTo>
                      <a:pt x="2697" y="426"/>
                    </a:lnTo>
                    <a:lnTo>
                      <a:pt x="2716" y="420"/>
                    </a:lnTo>
                    <a:lnTo>
                      <a:pt x="2736" y="414"/>
                    </a:lnTo>
                    <a:lnTo>
                      <a:pt x="2755" y="410"/>
                    </a:lnTo>
                    <a:lnTo>
                      <a:pt x="2774" y="406"/>
                    </a:lnTo>
                    <a:lnTo>
                      <a:pt x="2793" y="403"/>
                    </a:lnTo>
                    <a:lnTo>
                      <a:pt x="2812" y="401"/>
                    </a:lnTo>
                    <a:lnTo>
                      <a:pt x="2830" y="400"/>
                    </a:lnTo>
                    <a:lnTo>
                      <a:pt x="2848" y="399"/>
                    </a:lnTo>
                    <a:lnTo>
                      <a:pt x="2872" y="400"/>
                    </a:lnTo>
                    <a:lnTo>
                      <a:pt x="2895" y="402"/>
                    </a:lnTo>
                    <a:lnTo>
                      <a:pt x="2919" y="405"/>
                    </a:lnTo>
                    <a:lnTo>
                      <a:pt x="2942" y="408"/>
                    </a:lnTo>
                    <a:lnTo>
                      <a:pt x="2964" y="413"/>
                    </a:lnTo>
                    <a:lnTo>
                      <a:pt x="2986" y="419"/>
                    </a:lnTo>
                    <a:lnTo>
                      <a:pt x="3007" y="426"/>
                    </a:lnTo>
                    <a:lnTo>
                      <a:pt x="3028" y="434"/>
                    </a:lnTo>
                    <a:lnTo>
                      <a:pt x="3049" y="442"/>
                    </a:lnTo>
                    <a:lnTo>
                      <a:pt x="3069" y="452"/>
                    </a:lnTo>
                    <a:lnTo>
                      <a:pt x="3088" y="462"/>
                    </a:lnTo>
                    <a:lnTo>
                      <a:pt x="3107" y="474"/>
                    </a:lnTo>
                    <a:lnTo>
                      <a:pt x="3125" y="486"/>
                    </a:lnTo>
                    <a:lnTo>
                      <a:pt x="3143" y="499"/>
                    </a:lnTo>
                    <a:lnTo>
                      <a:pt x="3160" y="513"/>
                    </a:lnTo>
                    <a:lnTo>
                      <a:pt x="3176" y="528"/>
                    </a:lnTo>
                    <a:lnTo>
                      <a:pt x="3192" y="543"/>
                    </a:lnTo>
                    <a:lnTo>
                      <a:pt x="3206" y="558"/>
                    </a:lnTo>
                    <a:lnTo>
                      <a:pt x="3220" y="575"/>
                    </a:lnTo>
                    <a:lnTo>
                      <a:pt x="3233" y="592"/>
                    </a:lnTo>
                    <a:lnTo>
                      <a:pt x="3245" y="609"/>
                    </a:lnTo>
                    <a:lnTo>
                      <a:pt x="3256" y="627"/>
                    </a:lnTo>
                    <a:lnTo>
                      <a:pt x="3266" y="647"/>
                    </a:lnTo>
                    <a:lnTo>
                      <a:pt x="3275" y="666"/>
                    </a:lnTo>
                    <a:lnTo>
                      <a:pt x="3283" y="686"/>
                    </a:lnTo>
                    <a:lnTo>
                      <a:pt x="3292" y="706"/>
                    </a:lnTo>
                    <a:lnTo>
                      <a:pt x="3298" y="727"/>
                    </a:lnTo>
                    <a:lnTo>
                      <a:pt x="3303" y="748"/>
                    </a:lnTo>
                    <a:lnTo>
                      <a:pt x="3307" y="769"/>
                    </a:lnTo>
                    <a:lnTo>
                      <a:pt x="3310" y="792"/>
                    </a:lnTo>
                    <a:lnTo>
                      <a:pt x="3312" y="814"/>
                    </a:lnTo>
                    <a:lnTo>
                      <a:pt x="3312" y="836"/>
                    </a:lnTo>
                    <a:lnTo>
                      <a:pt x="3312" y="855"/>
                    </a:lnTo>
                    <a:lnTo>
                      <a:pt x="3310" y="874"/>
                    </a:lnTo>
                    <a:lnTo>
                      <a:pt x="3308" y="894"/>
                    </a:lnTo>
                    <a:lnTo>
                      <a:pt x="3304" y="914"/>
                    </a:lnTo>
                    <a:lnTo>
                      <a:pt x="3300" y="934"/>
                    </a:lnTo>
                    <a:lnTo>
                      <a:pt x="3294" y="954"/>
                    </a:lnTo>
                    <a:lnTo>
                      <a:pt x="3288" y="973"/>
                    </a:lnTo>
                    <a:lnTo>
                      <a:pt x="3279" y="993"/>
                    </a:lnTo>
                    <a:lnTo>
                      <a:pt x="3229" y="1119"/>
                    </a:lnTo>
                    <a:lnTo>
                      <a:pt x="3363" y="1164"/>
                    </a:lnTo>
                    <a:lnTo>
                      <a:pt x="3380" y="1170"/>
                    </a:lnTo>
                    <a:lnTo>
                      <a:pt x="3397" y="1177"/>
                    </a:lnTo>
                    <a:lnTo>
                      <a:pt x="3414" y="1185"/>
                    </a:lnTo>
                    <a:lnTo>
                      <a:pt x="3430" y="1193"/>
                    </a:lnTo>
                    <a:lnTo>
                      <a:pt x="3445" y="1201"/>
                    </a:lnTo>
                    <a:lnTo>
                      <a:pt x="3460" y="1210"/>
                    </a:lnTo>
                    <a:lnTo>
                      <a:pt x="3475" y="1219"/>
                    </a:lnTo>
                    <a:lnTo>
                      <a:pt x="3489" y="1229"/>
                    </a:lnTo>
                    <a:lnTo>
                      <a:pt x="3503" y="1240"/>
                    </a:lnTo>
                    <a:lnTo>
                      <a:pt x="3516" y="1250"/>
                    </a:lnTo>
                    <a:lnTo>
                      <a:pt x="3529" y="1261"/>
                    </a:lnTo>
                    <a:lnTo>
                      <a:pt x="3542" y="1273"/>
                    </a:lnTo>
                    <a:lnTo>
                      <a:pt x="3554" y="1285"/>
                    </a:lnTo>
                    <a:lnTo>
                      <a:pt x="3565" y="1298"/>
                    </a:lnTo>
                    <a:lnTo>
                      <a:pt x="3576" y="1310"/>
                    </a:lnTo>
                    <a:lnTo>
                      <a:pt x="3587" y="1324"/>
                    </a:lnTo>
                    <a:lnTo>
                      <a:pt x="3596" y="1338"/>
                    </a:lnTo>
                    <a:lnTo>
                      <a:pt x="3606" y="1352"/>
                    </a:lnTo>
                    <a:lnTo>
                      <a:pt x="3614" y="1366"/>
                    </a:lnTo>
                    <a:lnTo>
                      <a:pt x="3622" y="1380"/>
                    </a:lnTo>
                    <a:lnTo>
                      <a:pt x="3630" y="1395"/>
                    </a:lnTo>
                    <a:lnTo>
                      <a:pt x="3637" y="1410"/>
                    </a:lnTo>
                    <a:lnTo>
                      <a:pt x="3643" y="1426"/>
                    </a:lnTo>
                    <a:lnTo>
                      <a:pt x="3649" y="1441"/>
                    </a:lnTo>
                    <a:lnTo>
                      <a:pt x="3654" y="1458"/>
                    </a:lnTo>
                    <a:lnTo>
                      <a:pt x="3658" y="1474"/>
                    </a:lnTo>
                    <a:lnTo>
                      <a:pt x="3663" y="1490"/>
                    </a:lnTo>
                    <a:lnTo>
                      <a:pt x="3666" y="1506"/>
                    </a:lnTo>
                    <a:lnTo>
                      <a:pt x="3669" y="1523"/>
                    </a:lnTo>
                    <a:lnTo>
                      <a:pt x="3670" y="1540"/>
                    </a:lnTo>
                    <a:lnTo>
                      <a:pt x="3671" y="1556"/>
                    </a:lnTo>
                    <a:lnTo>
                      <a:pt x="3672" y="1573"/>
                    </a:lnTo>
                    <a:lnTo>
                      <a:pt x="3671" y="1597"/>
                    </a:lnTo>
                    <a:lnTo>
                      <a:pt x="3669" y="1619"/>
                    </a:lnTo>
                    <a:lnTo>
                      <a:pt x="3666" y="1640"/>
                    </a:lnTo>
                    <a:lnTo>
                      <a:pt x="3661" y="1662"/>
                    </a:lnTo>
                    <a:lnTo>
                      <a:pt x="3656" y="1682"/>
                    </a:lnTo>
                    <a:lnTo>
                      <a:pt x="3650" y="1703"/>
                    </a:lnTo>
                    <a:lnTo>
                      <a:pt x="3643" y="1723"/>
                    </a:lnTo>
                    <a:lnTo>
                      <a:pt x="3635" y="1744"/>
                    </a:lnTo>
                    <a:lnTo>
                      <a:pt x="3625" y="1763"/>
                    </a:lnTo>
                    <a:lnTo>
                      <a:pt x="3615" y="1782"/>
                    </a:lnTo>
                    <a:lnTo>
                      <a:pt x="3604" y="1800"/>
                    </a:lnTo>
                    <a:lnTo>
                      <a:pt x="3592" y="1817"/>
                    </a:lnTo>
                    <a:lnTo>
                      <a:pt x="3579" y="1834"/>
                    </a:lnTo>
                    <a:lnTo>
                      <a:pt x="3566" y="1851"/>
                    </a:lnTo>
                    <a:lnTo>
                      <a:pt x="3551" y="1867"/>
                    </a:lnTo>
                    <a:lnTo>
                      <a:pt x="3535" y="1882"/>
                    </a:lnTo>
                    <a:lnTo>
                      <a:pt x="3519" y="1897"/>
                    </a:lnTo>
                    <a:lnTo>
                      <a:pt x="3502" y="1910"/>
                    </a:lnTo>
                    <a:lnTo>
                      <a:pt x="3485" y="1923"/>
                    </a:lnTo>
                    <a:lnTo>
                      <a:pt x="3467" y="1935"/>
                    </a:lnTo>
                    <a:lnTo>
                      <a:pt x="3448" y="1947"/>
                    </a:lnTo>
                    <a:lnTo>
                      <a:pt x="3429" y="1957"/>
                    </a:lnTo>
                    <a:lnTo>
                      <a:pt x="3408" y="1967"/>
                    </a:lnTo>
                    <a:lnTo>
                      <a:pt x="3388" y="1975"/>
                    </a:lnTo>
                    <a:lnTo>
                      <a:pt x="3367" y="1983"/>
                    </a:lnTo>
                    <a:lnTo>
                      <a:pt x="3345" y="1990"/>
                    </a:lnTo>
                    <a:lnTo>
                      <a:pt x="3324" y="1997"/>
                    </a:lnTo>
                    <a:lnTo>
                      <a:pt x="3301" y="2002"/>
                    </a:lnTo>
                    <a:lnTo>
                      <a:pt x="3278" y="2006"/>
                    </a:lnTo>
                    <a:lnTo>
                      <a:pt x="3255" y="2008"/>
                    </a:lnTo>
                    <a:lnTo>
                      <a:pt x="3231" y="2010"/>
                    </a:lnTo>
                    <a:lnTo>
                      <a:pt x="3208" y="2011"/>
                    </a:lnTo>
                    <a:lnTo>
                      <a:pt x="464" y="2011"/>
                    </a:lnTo>
                    <a:lnTo>
                      <a:pt x="441" y="2010"/>
                    </a:lnTo>
                    <a:lnTo>
                      <a:pt x="417" y="2008"/>
                    </a:lnTo>
                    <a:lnTo>
                      <a:pt x="394" y="2006"/>
                    </a:lnTo>
                    <a:lnTo>
                      <a:pt x="371" y="2002"/>
                    </a:lnTo>
                    <a:lnTo>
                      <a:pt x="348" y="1997"/>
                    </a:lnTo>
                    <a:lnTo>
                      <a:pt x="327" y="1990"/>
                    </a:lnTo>
                    <a:lnTo>
                      <a:pt x="305" y="1983"/>
                    </a:lnTo>
                    <a:lnTo>
                      <a:pt x="284" y="1975"/>
                    </a:lnTo>
                    <a:lnTo>
                      <a:pt x="264" y="1967"/>
                    </a:lnTo>
                    <a:lnTo>
                      <a:pt x="243" y="1957"/>
                    </a:lnTo>
                    <a:lnTo>
                      <a:pt x="224" y="1947"/>
                    </a:lnTo>
                    <a:lnTo>
                      <a:pt x="205" y="1935"/>
                    </a:lnTo>
                    <a:lnTo>
                      <a:pt x="187" y="1923"/>
                    </a:lnTo>
                    <a:lnTo>
                      <a:pt x="170" y="1910"/>
                    </a:lnTo>
                    <a:lnTo>
                      <a:pt x="153" y="1897"/>
                    </a:lnTo>
                    <a:lnTo>
                      <a:pt x="137" y="1882"/>
                    </a:lnTo>
                    <a:lnTo>
                      <a:pt x="121" y="1867"/>
                    </a:lnTo>
                    <a:lnTo>
                      <a:pt x="106" y="1851"/>
                    </a:lnTo>
                    <a:lnTo>
                      <a:pt x="93" y="1834"/>
                    </a:lnTo>
                    <a:lnTo>
                      <a:pt x="80" y="1817"/>
                    </a:lnTo>
                    <a:lnTo>
                      <a:pt x="68" y="1800"/>
                    </a:lnTo>
                    <a:lnTo>
                      <a:pt x="57" y="1782"/>
                    </a:lnTo>
                    <a:lnTo>
                      <a:pt x="47" y="1763"/>
                    </a:lnTo>
                    <a:lnTo>
                      <a:pt x="37" y="1744"/>
                    </a:lnTo>
                    <a:lnTo>
                      <a:pt x="29" y="1723"/>
                    </a:lnTo>
                    <a:lnTo>
                      <a:pt x="22" y="1703"/>
                    </a:lnTo>
                    <a:lnTo>
                      <a:pt x="16" y="1682"/>
                    </a:lnTo>
                    <a:lnTo>
                      <a:pt x="11" y="1662"/>
                    </a:lnTo>
                    <a:lnTo>
                      <a:pt x="5" y="1640"/>
                    </a:lnTo>
                    <a:lnTo>
                      <a:pt x="3" y="1619"/>
                    </a:lnTo>
                    <a:lnTo>
                      <a:pt x="1" y="1597"/>
                    </a:lnTo>
                    <a:lnTo>
                      <a:pt x="0" y="1573"/>
                    </a:lnTo>
                    <a:lnTo>
                      <a:pt x="1" y="1556"/>
                    </a:lnTo>
                    <a:lnTo>
                      <a:pt x="2" y="1540"/>
                    </a:lnTo>
                    <a:lnTo>
                      <a:pt x="3" y="1523"/>
                    </a:lnTo>
                    <a:lnTo>
                      <a:pt x="6" y="1506"/>
                    </a:lnTo>
                    <a:lnTo>
                      <a:pt x="10" y="1490"/>
                    </a:lnTo>
                    <a:lnTo>
                      <a:pt x="14" y="1474"/>
                    </a:lnTo>
                    <a:lnTo>
                      <a:pt x="18" y="1458"/>
                    </a:lnTo>
                    <a:lnTo>
                      <a:pt x="23" y="1441"/>
                    </a:lnTo>
                    <a:lnTo>
                      <a:pt x="29" y="1426"/>
                    </a:lnTo>
                    <a:lnTo>
                      <a:pt x="35" y="1410"/>
                    </a:lnTo>
                    <a:lnTo>
                      <a:pt x="42" y="1395"/>
                    </a:lnTo>
                    <a:lnTo>
                      <a:pt x="50" y="1381"/>
                    </a:lnTo>
                    <a:lnTo>
                      <a:pt x="58" y="1366"/>
                    </a:lnTo>
                    <a:lnTo>
                      <a:pt x="66" y="1352"/>
                    </a:lnTo>
                    <a:lnTo>
                      <a:pt x="76" y="1338"/>
                    </a:lnTo>
                    <a:lnTo>
                      <a:pt x="85" y="1325"/>
                    </a:lnTo>
                    <a:lnTo>
                      <a:pt x="96" y="1310"/>
                    </a:lnTo>
                    <a:lnTo>
                      <a:pt x="106" y="1298"/>
                    </a:lnTo>
                    <a:lnTo>
                      <a:pt x="118" y="1285"/>
                    </a:lnTo>
                    <a:lnTo>
                      <a:pt x="130" y="1273"/>
                    </a:lnTo>
                    <a:lnTo>
                      <a:pt x="143" y="1262"/>
                    </a:lnTo>
                    <a:lnTo>
                      <a:pt x="156" y="1250"/>
                    </a:lnTo>
                    <a:lnTo>
                      <a:pt x="169" y="1240"/>
                    </a:lnTo>
                    <a:lnTo>
                      <a:pt x="183" y="1229"/>
                    </a:lnTo>
                    <a:lnTo>
                      <a:pt x="197" y="1220"/>
                    </a:lnTo>
                    <a:lnTo>
                      <a:pt x="211" y="1210"/>
                    </a:lnTo>
                    <a:lnTo>
                      <a:pt x="226" y="1202"/>
                    </a:lnTo>
                    <a:lnTo>
                      <a:pt x="242" y="1193"/>
                    </a:lnTo>
                    <a:lnTo>
                      <a:pt x="258" y="1185"/>
                    </a:lnTo>
                    <a:lnTo>
                      <a:pt x="275" y="1177"/>
                    </a:lnTo>
                    <a:lnTo>
                      <a:pt x="292" y="1171"/>
                    </a:lnTo>
                    <a:lnTo>
                      <a:pt x="309" y="1164"/>
                    </a:lnTo>
                    <a:lnTo>
                      <a:pt x="413" y="1130"/>
                    </a:lnTo>
                    <a:lnTo>
                      <a:pt x="393" y="959"/>
                    </a:lnTo>
                    <a:lnTo>
                      <a:pt x="394" y="937"/>
                    </a:lnTo>
                    <a:lnTo>
                      <a:pt x="395" y="915"/>
                    </a:lnTo>
                    <a:lnTo>
                      <a:pt x="398" y="892"/>
                    </a:lnTo>
                    <a:lnTo>
                      <a:pt x="402" y="871"/>
                    </a:lnTo>
                    <a:lnTo>
                      <a:pt x="407" y="850"/>
                    </a:lnTo>
                    <a:lnTo>
                      <a:pt x="414" y="829"/>
                    </a:lnTo>
                    <a:lnTo>
                      <a:pt x="421" y="809"/>
                    </a:lnTo>
                    <a:lnTo>
                      <a:pt x="429" y="790"/>
                    </a:lnTo>
                    <a:lnTo>
                      <a:pt x="438" y="769"/>
                    </a:lnTo>
                    <a:lnTo>
                      <a:pt x="448" y="751"/>
                    </a:lnTo>
                    <a:lnTo>
                      <a:pt x="460" y="733"/>
                    </a:lnTo>
                    <a:lnTo>
                      <a:pt x="472" y="715"/>
                    </a:lnTo>
                    <a:lnTo>
                      <a:pt x="484" y="698"/>
                    </a:lnTo>
                    <a:lnTo>
                      <a:pt x="498" y="682"/>
                    </a:lnTo>
                    <a:lnTo>
                      <a:pt x="514" y="666"/>
                    </a:lnTo>
                    <a:lnTo>
                      <a:pt x="529" y="651"/>
                    </a:lnTo>
                    <a:lnTo>
                      <a:pt x="545" y="637"/>
                    </a:lnTo>
                    <a:lnTo>
                      <a:pt x="561" y="622"/>
                    </a:lnTo>
                    <a:lnTo>
                      <a:pt x="579" y="609"/>
                    </a:lnTo>
                    <a:lnTo>
                      <a:pt x="597" y="597"/>
                    </a:lnTo>
                    <a:lnTo>
                      <a:pt x="616" y="586"/>
                    </a:lnTo>
                    <a:lnTo>
                      <a:pt x="635" y="575"/>
                    </a:lnTo>
                    <a:lnTo>
                      <a:pt x="656" y="566"/>
                    </a:lnTo>
                    <a:lnTo>
                      <a:pt x="676" y="557"/>
                    </a:lnTo>
                    <a:lnTo>
                      <a:pt x="697" y="549"/>
                    </a:lnTo>
                    <a:lnTo>
                      <a:pt x="718" y="542"/>
                    </a:lnTo>
                    <a:lnTo>
                      <a:pt x="740" y="536"/>
                    </a:lnTo>
                    <a:lnTo>
                      <a:pt x="762" y="532"/>
                    </a:lnTo>
                    <a:lnTo>
                      <a:pt x="786" y="528"/>
                    </a:lnTo>
                    <a:lnTo>
                      <a:pt x="809" y="525"/>
                    </a:lnTo>
                    <a:lnTo>
                      <a:pt x="832" y="523"/>
                    </a:lnTo>
                    <a:lnTo>
                      <a:pt x="856" y="523"/>
                    </a:lnTo>
                    <a:lnTo>
                      <a:pt x="872" y="523"/>
                    </a:lnTo>
                    <a:lnTo>
                      <a:pt x="889" y="524"/>
                    </a:lnTo>
                    <a:lnTo>
                      <a:pt x="906" y="525"/>
                    </a:lnTo>
                    <a:lnTo>
                      <a:pt x="922" y="527"/>
                    </a:lnTo>
                    <a:lnTo>
                      <a:pt x="954" y="533"/>
                    </a:lnTo>
                    <a:lnTo>
                      <a:pt x="986" y="540"/>
                    </a:lnTo>
                    <a:lnTo>
                      <a:pt x="1018" y="550"/>
                    </a:lnTo>
                    <a:lnTo>
                      <a:pt x="1048" y="562"/>
                    </a:lnTo>
                    <a:lnTo>
                      <a:pt x="1078" y="576"/>
                    </a:lnTo>
                    <a:lnTo>
                      <a:pt x="1107" y="592"/>
                    </a:lnTo>
                    <a:lnTo>
                      <a:pt x="1183" y="639"/>
                    </a:lnTo>
                    <a:lnTo>
                      <a:pt x="1258" y="592"/>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630680" y="1860840"/>
                <a:ext cx="239400" cy="144360"/>
              </a:xfrm>
              <a:custGeom>
                <a:avLst/>
                <a:gdLst/>
                <a:ahLst/>
                <a:rect l="l" t="t" r="r" b="b"/>
                <a:pathLst>
                  <a:path w="4233" h="2538">
                    <a:moveTo>
                      <a:pt x="1888" y="0"/>
                    </a:moveTo>
                    <a:lnTo>
                      <a:pt x="1860" y="0"/>
                    </a:lnTo>
                    <a:lnTo>
                      <a:pt x="1833" y="2"/>
                    </a:lnTo>
                    <a:lnTo>
                      <a:pt x="1805" y="4"/>
                    </a:lnTo>
                    <a:lnTo>
                      <a:pt x="1778" y="8"/>
                    </a:lnTo>
                    <a:lnTo>
                      <a:pt x="1752" y="12"/>
                    </a:lnTo>
                    <a:lnTo>
                      <a:pt x="1726" y="17"/>
                    </a:lnTo>
                    <a:lnTo>
                      <a:pt x="1699" y="23"/>
                    </a:lnTo>
                    <a:lnTo>
                      <a:pt x="1674" y="30"/>
                    </a:lnTo>
                    <a:lnTo>
                      <a:pt x="1649" y="38"/>
                    </a:lnTo>
                    <a:lnTo>
                      <a:pt x="1624" y="47"/>
                    </a:lnTo>
                    <a:lnTo>
                      <a:pt x="1600" y="56"/>
                    </a:lnTo>
                    <a:lnTo>
                      <a:pt x="1577" y="66"/>
                    </a:lnTo>
                    <a:lnTo>
                      <a:pt x="1553" y="78"/>
                    </a:lnTo>
                    <a:lnTo>
                      <a:pt x="1530" y="89"/>
                    </a:lnTo>
                    <a:lnTo>
                      <a:pt x="1508" y="102"/>
                    </a:lnTo>
                    <a:lnTo>
                      <a:pt x="1486" y="116"/>
                    </a:lnTo>
                    <a:lnTo>
                      <a:pt x="1465" y="130"/>
                    </a:lnTo>
                    <a:lnTo>
                      <a:pt x="1443" y="145"/>
                    </a:lnTo>
                    <a:lnTo>
                      <a:pt x="1423" y="161"/>
                    </a:lnTo>
                    <a:lnTo>
                      <a:pt x="1404" y="177"/>
                    </a:lnTo>
                    <a:lnTo>
                      <a:pt x="1385" y="194"/>
                    </a:lnTo>
                    <a:lnTo>
                      <a:pt x="1366" y="211"/>
                    </a:lnTo>
                    <a:lnTo>
                      <a:pt x="1349" y="229"/>
                    </a:lnTo>
                    <a:lnTo>
                      <a:pt x="1332" y="249"/>
                    </a:lnTo>
                    <a:lnTo>
                      <a:pt x="1314" y="268"/>
                    </a:lnTo>
                    <a:lnTo>
                      <a:pt x="1298" y="288"/>
                    </a:lnTo>
                    <a:lnTo>
                      <a:pt x="1283" y="308"/>
                    </a:lnTo>
                    <a:lnTo>
                      <a:pt x="1269" y="329"/>
                    </a:lnTo>
                    <a:lnTo>
                      <a:pt x="1255" y="351"/>
                    </a:lnTo>
                    <a:lnTo>
                      <a:pt x="1243" y="372"/>
                    </a:lnTo>
                    <a:lnTo>
                      <a:pt x="1230" y="396"/>
                    </a:lnTo>
                    <a:lnTo>
                      <a:pt x="1219" y="419"/>
                    </a:lnTo>
                    <a:lnTo>
                      <a:pt x="1205" y="416"/>
                    </a:lnTo>
                    <a:lnTo>
                      <a:pt x="1190" y="413"/>
                    </a:lnTo>
                    <a:lnTo>
                      <a:pt x="1175" y="410"/>
                    </a:lnTo>
                    <a:lnTo>
                      <a:pt x="1161" y="407"/>
                    </a:lnTo>
                    <a:lnTo>
                      <a:pt x="1147" y="404"/>
                    </a:lnTo>
                    <a:lnTo>
                      <a:pt x="1132" y="402"/>
                    </a:lnTo>
                    <a:lnTo>
                      <a:pt x="1118" y="400"/>
                    </a:lnTo>
                    <a:lnTo>
                      <a:pt x="1104" y="400"/>
                    </a:lnTo>
                    <a:lnTo>
                      <a:pt x="1065" y="401"/>
                    </a:lnTo>
                    <a:lnTo>
                      <a:pt x="1028" y="403"/>
                    </a:lnTo>
                    <a:lnTo>
                      <a:pt x="991" y="408"/>
                    </a:lnTo>
                    <a:lnTo>
                      <a:pt x="954" y="414"/>
                    </a:lnTo>
                    <a:lnTo>
                      <a:pt x="918" y="422"/>
                    </a:lnTo>
                    <a:lnTo>
                      <a:pt x="883" y="431"/>
                    </a:lnTo>
                    <a:lnTo>
                      <a:pt x="848" y="442"/>
                    </a:lnTo>
                    <a:lnTo>
                      <a:pt x="814" y="454"/>
                    </a:lnTo>
                    <a:lnTo>
                      <a:pt x="781" y="468"/>
                    </a:lnTo>
                    <a:lnTo>
                      <a:pt x="749" y="484"/>
                    </a:lnTo>
                    <a:lnTo>
                      <a:pt x="718" y="500"/>
                    </a:lnTo>
                    <a:lnTo>
                      <a:pt x="687" y="520"/>
                    </a:lnTo>
                    <a:lnTo>
                      <a:pt x="658" y="539"/>
                    </a:lnTo>
                    <a:lnTo>
                      <a:pt x="630" y="560"/>
                    </a:lnTo>
                    <a:lnTo>
                      <a:pt x="604" y="582"/>
                    </a:lnTo>
                    <a:lnTo>
                      <a:pt x="578" y="605"/>
                    </a:lnTo>
                    <a:lnTo>
                      <a:pt x="552" y="629"/>
                    </a:lnTo>
                    <a:lnTo>
                      <a:pt x="529" y="655"/>
                    </a:lnTo>
                    <a:lnTo>
                      <a:pt x="507" y="681"/>
                    </a:lnTo>
                    <a:lnTo>
                      <a:pt x="487" y="709"/>
                    </a:lnTo>
                    <a:lnTo>
                      <a:pt x="467" y="737"/>
                    </a:lnTo>
                    <a:lnTo>
                      <a:pt x="450" y="766"/>
                    </a:lnTo>
                    <a:lnTo>
                      <a:pt x="432" y="797"/>
                    </a:lnTo>
                    <a:lnTo>
                      <a:pt x="417" y="828"/>
                    </a:lnTo>
                    <a:lnTo>
                      <a:pt x="404" y="859"/>
                    </a:lnTo>
                    <a:lnTo>
                      <a:pt x="392" y="892"/>
                    </a:lnTo>
                    <a:lnTo>
                      <a:pt x="382" y="926"/>
                    </a:lnTo>
                    <a:lnTo>
                      <a:pt x="374" y="959"/>
                    </a:lnTo>
                    <a:lnTo>
                      <a:pt x="368" y="993"/>
                    </a:lnTo>
                    <a:lnTo>
                      <a:pt x="363" y="1028"/>
                    </a:lnTo>
                    <a:lnTo>
                      <a:pt x="360" y="1065"/>
                    </a:lnTo>
                    <a:lnTo>
                      <a:pt x="359" y="1100"/>
                    </a:lnTo>
                    <a:lnTo>
                      <a:pt x="360" y="1117"/>
                    </a:lnTo>
                    <a:lnTo>
                      <a:pt x="362" y="1134"/>
                    </a:lnTo>
                    <a:lnTo>
                      <a:pt x="365" y="1150"/>
                    </a:lnTo>
                    <a:lnTo>
                      <a:pt x="369" y="1167"/>
                    </a:lnTo>
                    <a:lnTo>
                      <a:pt x="373" y="1184"/>
                    </a:lnTo>
                    <a:lnTo>
                      <a:pt x="378" y="1202"/>
                    </a:lnTo>
                    <a:lnTo>
                      <a:pt x="382" y="1218"/>
                    </a:lnTo>
                    <a:lnTo>
                      <a:pt x="386" y="1235"/>
                    </a:lnTo>
                    <a:lnTo>
                      <a:pt x="365" y="1247"/>
                    </a:lnTo>
                    <a:lnTo>
                      <a:pt x="344" y="1259"/>
                    </a:lnTo>
                    <a:lnTo>
                      <a:pt x="324" y="1272"/>
                    </a:lnTo>
                    <a:lnTo>
                      <a:pt x="303" y="1285"/>
                    </a:lnTo>
                    <a:lnTo>
                      <a:pt x="283" y="1299"/>
                    </a:lnTo>
                    <a:lnTo>
                      <a:pt x="264" y="1314"/>
                    </a:lnTo>
                    <a:lnTo>
                      <a:pt x="246" y="1329"/>
                    </a:lnTo>
                    <a:lnTo>
                      <a:pt x="228" y="1345"/>
                    </a:lnTo>
                    <a:lnTo>
                      <a:pt x="211" y="1361"/>
                    </a:lnTo>
                    <a:lnTo>
                      <a:pt x="194" y="1378"/>
                    </a:lnTo>
                    <a:lnTo>
                      <a:pt x="177" y="1395"/>
                    </a:lnTo>
                    <a:lnTo>
                      <a:pt x="162" y="1412"/>
                    </a:lnTo>
                    <a:lnTo>
                      <a:pt x="147" y="1430"/>
                    </a:lnTo>
                    <a:lnTo>
                      <a:pt x="133" y="1448"/>
                    </a:lnTo>
                    <a:lnTo>
                      <a:pt x="119" y="1468"/>
                    </a:lnTo>
                    <a:lnTo>
                      <a:pt x="106" y="1487"/>
                    </a:lnTo>
                    <a:lnTo>
                      <a:pt x="94" y="1507"/>
                    </a:lnTo>
                    <a:lnTo>
                      <a:pt x="82" y="1527"/>
                    </a:lnTo>
                    <a:lnTo>
                      <a:pt x="72" y="1547"/>
                    </a:lnTo>
                    <a:lnTo>
                      <a:pt x="61" y="1567"/>
                    </a:lnTo>
                    <a:lnTo>
                      <a:pt x="51" y="1588"/>
                    </a:lnTo>
                    <a:lnTo>
                      <a:pt x="42" y="1610"/>
                    </a:lnTo>
                    <a:lnTo>
                      <a:pt x="35" y="1632"/>
                    </a:lnTo>
                    <a:lnTo>
                      <a:pt x="27" y="1654"/>
                    </a:lnTo>
                    <a:lnTo>
                      <a:pt x="21" y="1676"/>
                    </a:lnTo>
                    <a:lnTo>
                      <a:pt x="16" y="1698"/>
                    </a:lnTo>
                    <a:lnTo>
                      <a:pt x="11" y="1720"/>
                    </a:lnTo>
                    <a:lnTo>
                      <a:pt x="7" y="1744"/>
                    </a:lnTo>
                    <a:lnTo>
                      <a:pt x="4" y="1767"/>
                    </a:lnTo>
                    <a:lnTo>
                      <a:pt x="2" y="1791"/>
                    </a:lnTo>
                    <a:lnTo>
                      <a:pt x="0" y="1814"/>
                    </a:lnTo>
                    <a:lnTo>
                      <a:pt x="0" y="1837"/>
                    </a:lnTo>
                    <a:lnTo>
                      <a:pt x="1" y="1873"/>
                    </a:lnTo>
                    <a:lnTo>
                      <a:pt x="4" y="1910"/>
                    </a:lnTo>
                    <a:lnTo>
                      <a:pt x="8" y="1944"/>
                    </a:lnTo>
                    <a:lnTo>
                      <a:pt x="15" y="1979"/>
                    </a:lnTo>
                    <a:lnTo>
                      <a:pt x="23" y="2013"/>
                    </a:lnTo>
                    <a:lnTo>
                      <a:pt x="33" y="2046"/>
                    </a:lnTo>
                    <a:lnTo>
                      <a:pt x="45" y="2079"/>
                    </a:lnTo>
                    <a:lnTo>
                      <a:pt x="58" y="2110"/>
                    </a:lnTo>
                    <a:lnTo>
                      <a:pt x="74" y="2141"/>
                    </a:lnTo>
                    <a:lnTo>
                      <a:pt x="90" y="2172"/>
                    </a:lnTo>
                    <a:lnTo>
                      <a:pt x="108" y="2201"/>
                    </a:lnTo>
                    <a:lnTo>
                      <a:pt x="127" y="2229"/>
                    </a:lnTo>
                    <a:lnTo>
                      <a:pt x="148" y="2257"/>
                    </a:lnTo>
                    <a:lnTo>
                      <a:pt x="170" y="2284"/>
                    </a:lnTo>
                    <a:lnTo>
                      <a:pt x="194" y="2309"/>
                    </a:lnTo>
                    <a:lnTo>
                      <a:pt x="219" y="2333"/>
                    </a:lnTo>
                    <a:lnTo>
                      <a:pt x="244" y="2356"/>
                    </a:lnTo>
                    <a:lnTo>
                      <a:pt x="271" y="2378"/>
                    </a:lnTo>
                    <a:lnTo>
                      <a:pt x="299" y="2399"/>
                    </a:lnTo>
                    <a:lnTo>
                      <a:pt x="329" y="2419"/>
                    </a:lnTo>
                    <a:lnTo>
                      <a:pt x="359" y="2438"/>
                    </a:lnTo>
                    <a:lnTo>
                      <a:pt x="390" y="2454"/>
                    </a:lnTo>
                    <a:lnTo>
                      <a:pt x="422" y="2470"/>
                    </a:lnTo>
                    <a:lnTo>
                      <a:pt x="455" y="2484"/>
                    </a:lnTo>
                    <a:lnTo>
                      <a:pt x="489" y="2496"/>
                    </a:lnTo>
                    <a:lnTo>
                      <a:pt x="523" y="2507"/>
                    </a:lnTo>
                    <a:lnTo>
                      <a:pt x="558" y="2516"/>
                    </a:lnTo>
                    <a:lnTo>
                      <a:pt x="595" y="2524"/>
                    </a:lnTo>
                    <a:lnTo>
                      <a:pt x="631" y="2530"/>
                    </a:lnTo>
                    <a:lnTo>
                      <a:pt x="668" y="2535"/>
                    </a:lnTo>
                    <a:lnTo>
                      <a:pt x="707" y="2537"/>
                    </a:lnTo>
                    <a:lnTo>
                      <a:pt x="745" y="2538"/>
                    </a:lnTo>
                    <a:lnTo>
                      <a:pt x="3488" y="2538"/>
                    </a:lnTo>
                    <a:lnTo>
                      <a:pt x="3526" y="2537"/>
                    </a:lnTo>
                    <a:lnTo>
                      <a:pt x="3563" y="2535"/>
                    </a:lnTo>
                    <a:lnTo>
                      <a:pt x="3601" y="2530"/>
                    </a:lnTo>
                    <a:lnTo>
                      <a:pt x="3638" y="2524"/>
                    </a:lnTo>
                    <a:lnTo>
                      <a:pt x="3673" y="2516"/>
                    </a:lnTo>
                    <a:lnTo>
                      <a:pt x="3708" y="2507"/>
                    </a:lnTo>
                    <a:lnTo>
                      <a:pt x="3744" y="2496"/>
                    </a:lnTo>
                    <a:lnTo>
                      <a:pt x="3777" y="2484"/>
                    </a:lnTo>
                    <a:lnTo>
                      <a:pt x="3810" y="2470"/>
                    </a:lnTo>
                    <a:lnTo>
                      <a:pt x="3842" y="2454"/>
                    </a:lnTo>
                    <a:lnTo>
                      <a:pt x="3874" y="2438"/>
                    </a:lnTo>
                    <a:lnTo>
                      <a:pt x="3904" y="2419"/>
                    </a:lnTo>
                    <a:lnTo>
                      <a:pt x="3933" y="2399"/>
                    </a:lnTo>
                    <a:lnTo>
                      <a:pt x="3960" y="2378"/>
                    </a:lnTo>
                    <a:lnTo>
                      <a:pt x="3988" y="2356"/>
                    </a:lnTo>
                    <a:lnTo>
                      <a:pt x="4014" y="2333"/>
                    </a:lnTo>
                    <a:lnTo>
                      <a:pt x="4038" y="2309"/>
                    </a:lnTo>
                    <a:lnTo>
                      <a:pt x="4062" y="2284"/>
                    </a:lnTo>
                    <a:lnTo>
                      <a:pt x="4084" y="2257"/>
                    </a:lnTo>
                    <a:lnTo>
                      <a:pt x="4105" y="2229"/>
                    </a:lnTo>
                    <a:lnTo>
                      <a:pt x="4124" y="2201"/>
                    </a:lnTo>
                    <a:lnTo>
                      <a:pt x="4142" y="2172"/>
                    </a:lnTo>
                    <a:lnTo>
                      <a:pt x="4159" y="2141"/>
                    </a:lnTo>
                    <a:lnTo>
                      <a:pt x="4173" y="2110"/>
                    </a:lnTo>
                    <a:lnTo>
                      <a:pt x="4187" y="2079"/>
                    </a:lnTo>
                    <a:lnTo>
                      <a:pt x="4198" y="2046"/>
                    </a:lnTo>
                    <a:lnTo>
                      <a:pt x="4208" y="2013"/>
                    </a:lnTo>
                    <a:lnTo>
                      <a:pt x="4217" y="1979"/>
                    </a:lnTo>
                    <a:lnTo>
                      <a:pt x="4224" y="1944"/>
                    </a:lnTo>
                    <a:lnTo>
                      <a:pt x="4229" y="1910"/>
                    </a:lnTo>
                    <a:lnTo>
                      <a:pt x="4232" y="1873"/>
                    </a:lnTo>
                    <a:lnTo>
                      <a:pt x="4233" y="1837"/>
                    </a:lnTo>
                    <a:lnTo>
                      <a:pt x="4232" y="1814"/>
                    </a:lnTo>
                    <a:lnTo>
                      <a:pt x="4231" y="1790"/>
                    </a:lnTo>
                    <a:lnTo>
                      <a:pt x="4229" y="1767"/>
                    </a:lnTo>
                    <a:lnTo>
                      <a:pt x="4225" y="1743"/>
                    </a:lnTo>
                    <a:lnTo>
                      <a:pt x="4220" y="1719"/>
                    </a:lnTo>
                    <a:lnTo>
                      <a:pt x="4216" y="1697"/>
                    </a:lnTo>
                    <a:lnTo>
                      <a:pt x="4210" y="1674"/>
                    </a:lnTo>
                    <a:lnTo>
                      <a:pt x="4204" y="1652"/>
                    </a:lnTo>
                    <a:lnTo>
                      <a:pt x="4196" y="1630"/>
                    </a:lnTo>
                    <a:lnTo>
                      <a:pt x="4188" y="1608"/>
                    </a:lnTo>
                    <a:lnTo>
                      <a:pt x="4179" y="1586"/>
                    </a:lnTo>
                    <a:lnTo>
                      <a:pt x="4170" y="1565"/>
                    </a:lnTo>
                    <a:lnTo>
                      <a:pt x="4160" y="1544"/>
                    </a:lnTo>
                    <a:lnTo>
                      <a:pt x="4149" y="1524"/>
                    </a:lnTo>
                    <a:lnTo>
                      <a:pt x="4137" y="1504"/>
                    </a:lnTo>
                    <a:lnTo>
                      <a:pt x="4124" y="1485"/>
                    </a:lnTo>
                    <a:lnTo>
                      <a:pt x="4111" y="1464"/>
                    </a:lnTo>
                    <a:lnTo>
                      <a:pt x="4097" y="1446"/>
                    </a:lnTo>
                    <a:lnTo>
                      <a:pt x="4082" y="1427"/>
                    </a:lnTo>
                    <a:lnTo>
                      <a:pt x="4067" y="1409"/>
                    </a:lnTo>
                    <a:lnTo>
                      <a:pt x="4051" y="1392"/>
                    </a:lnTo>
                    <a:lnTo>
                      <a:pt x="4035" y="1375"/>
                    </a:lnTo>
                    <a:lnTo>
                      <a:pt x="4018" y="1358"/>
                    </a:lnTo>
                    <a:lnTo>
                      <a:pt x="4000" y="1342"/>
                    </a:lnTo>
                    <a:lnTo>
                      <a:pt x="3982" y="1326"/>
                    </a:lnTo>
                    <a:lnTo>
                      <a:pt x="3963" y="1311"/>
                    </a:lnTo>
                    <a:lnTo>
                      <a:pt x="3944" y="1296"/>
                    </a:lnTo>
                    <a:lnTo>
                      <a:pt x="3924" y="1282"/>
                    </a:lnTo>
                    <a:lnTo>
                      <a:pt x="3904" y="1269"/>
                    </a:lnTo>
                    <a:lnTo>
                      <a:pt x="3883" y="1256"/>
                    </a:lnTo>
                    <a:lnTo>
                      <a:pt x="3862" y="1244"/>
                    </a:lnTo>
                    <a:lnTo>
                      <a:pt x="3839" y="1232"/>
                    </a:lnTo>
                    <a:lnTo>
                      <a:pt x="3839" y="1232"/>
                    </a:lnTo>
                    <a:lnTo>
                      <a:pt x="3839" y="1230"/>
                    </a:lnTo>
                    <a:lnTo>
                      <a:pt x="3839" y="1229"/>
                    </a:lnTo>
                    <a:lnTo>
                      <a:pt x="3840" y="1227"/>
                    </a:lnTo>
                    <a:lnTo>
                      <a:pt x="3840" y="1226"/>
                    </a:lnTo>
                    <a:lnTo>
                      <a:pt x="3840" y="1225"/>
                    </a:lnTo>
                    <a:lnTo>
                      <a:pt x="3840" y="1224"/>
                    </a:lnTo>
                    <a:lnTo>
                      <a:pt x="3840" y="1223"/>
                    </a:lnTo>
                    <a:lnTo>
                      <a:pt x="3839" y="1187"/>
                    </a:lnTo>
                    <a:lnTo>
                      <a:pt x="3836" y="1151"/>
                    </a:lnTo>
                    <a:lnTo>
                      <a:pt x="3831" y="1117"/>
                    </a:lnTo>
                    <a:lnTo>
                      <a:pt x="3825" y="1082"/>
                    </a:lnTo>
                    <a:lnTo>
                      <a:pt x="3817" y="1048"/>
                    </a:lnTo>
                    <a:lnTo>
                      <a:pt x="3807" y="1015"/>
                    </a:lnTo>
                    <a:lnTo>
                      <a:pt x="3795" y="982"/>
                    </a:lnTo>
                    <a:lnTo>
                      <a:pt x="3782" y="951"/>
                    </a:lnTo>
                    <a:lnTo>
                      <a:pt x="3767" y="919"/>
                    </a:lnTo>
                    <a:lnTo>
                      <a:pt x="3751" y="889"/>
                    </a:lnTo>
                    <a:lnTo>
                      <a:pt x="3733" y="860"/>
                    </a:lnTo>
                    <a:lnTo>
                      <a:pt x="3713" y="832"/>
                    </a:lnTo>
                    <a:lnTo>
                      <a:pt x="3692" y="804"/>
                    </a:lnTo>
                    <a:lnTo>
                      <a:pt x="3670" y="777"/>
                    </a:lnTo>
                    <a:lnTo>
                      <a:pt x="3647" y="752"/>
                    </a:lnTo>
                    <a:lnTo>
                      <a:pt x="3622" y="728"/>
                    </a:lnTo>
                    <a:lnTo>
                      <a:pt x="3597" y="705"/>
                    </a:lnTo>
                    <a:lnTo>
                      <a:pt x="3569" y="683"/>
                    </a:lnTo>
                    <a:lnTo>
                      <a:pt x="3541" y="662"/>
                    </a:lnTo>
                    <a:lnTo>
                      <a:pt x="3512" y="642"/>
                    </a:lnTo>
                    <a:lnTo>
                      <a:pt x="3482" y="623"/>
                    </a:lnTo>
                    <a:lnTo>
                      <a:pt x="3450" y="607"/>
                    </a:lnTo>
                    <a:lnTo>
                      <a:pt x="3418" y="591"/>
                    </a:lnTo>
                    <a:lnTo>
                      <a:pt x="3385" y="577"/>
                    </a:lnTo>
                    <a:lnTo>
                      <a:pt x="3352" y="565"/>
                    </a:lnTo>
                    <a:lnTo>
                      <a:pt x="3317" y="554"/>
                    </a:lnTo>
                    <a:lnTo>
                      <a:pt x="3282" y="545"/>
                    </a:lnTo>
                    <a:lnTo>
                      <a:pt x="3246" y="537"/>
                    </a:lnTo>
                    <a:lnTo>
                      <a:pt x="3208" y="531"/>
                    </a:lnTo>
                    <a:lnTo>
                      <a:pt x="3172" y="526"/>
                    </a:lnTo>
                    <a:lnTo>
                      <a:pt x="3134" y="524"/>
                    </a:lnTo>
                    <a:lnTo>
                      <a:pt x="3096" y="523"/>
                    </a:lnTo>
                    <a:lnTo>
                      <a:pt x="3074" y="523"/>
                    </a:lnTo>
                    <a:lnTo>
                      <a:pt x="3053" y="524"/>
                    </a:lnTo>
                    <a:lnTo>
                      <a:pt x="3032" y="526"/>
                    </a:lnTo>
                    <a:lnTo>
                      <a:pt x="3011" y="528"/>
                    </a:lnTo>
                    <a:lnTo>
                      <a:pt x="2991" y="531"/>
                    </a:lnTo>
                    <a:lnTo>
                      <a:pt x="2970" y="535"/>
                    </a:lnTo>
                    <a:lnTo>
                      <a:pt x="2949" y="539"/>
                    </a:lnTo>
                    <a:lnTo>
                      <a:pt x="2928" y="544"/>
                    </a:lnTo>
                    <a:lnTo>
                      <a:pt x="2888" y="555"/>
                    </a:lnTo>
                    <a:lnTo>
                      <a:pt x="2849" y="569"/>
                    </a:lnTo>
                    <a:lnTo>
                      <a:pt x="2809" y="584"/>
                    </a:lnTo>
                    <a:lnTo>
                      <a:pt x="2771" y="601"/>
                    </a:lnTo>
                    <a:lnTo>
                      <a:pt x="2750" y="592"/>
                    </a:lnTo>
                    <a:lnTo>
                      <a:pt x="2729" y="583"/>
                    </a:lnTo>
                    <a:lnTo>
                      <a:pt x="2707" y="576"/>
                    </a:lnTo>
                    <a:lnTo>
                      <a:pt x="2686" y="568"/>
                    </a:lnTo>
                    <a:lnTo>
                      <a:pt x="2664" y="562"/>
                    </a:lnTo>
                    <a:lnTo>
                      <a:pt x="2642" y="556"/>
                    </a:lnTo>
                    <a:lnTo>
                      <a:pt x="2620" y="550"/>
                    </a:lnTo>
                    <a:lnTo>
                      <a:pt x="2598" y="546"/>
                    </a:lnTo>
                    <a:lnTo>
                      <a:pt x="2590" y="517"/>
                    </a:lnTo>
                    <a:lnTo>
                      <a:pt x="2580" y="488"/>
                    </a:lnTo>
                    <a:lnTo>
                      <a:pt x="2570" y="460"/>
                    </a:lnTo>
                    <a:lnTo>
                      <a:pt x="2558" y="433"/>
                    </a:lnTo>
                    <a:lnTo>
                      <a:pt x="2546" y="406"/>
                    </a:lnTo>
                    <a:lnTo>
                      <a:pt x="2533" y="380"/>
                    </a:lnTo>
                    <a:lnTo>
                      <a:pt x="2518" y="354"/>
                    </a:lnTo>
                    <a:lnTo>
                      <a:pt x="2503" y="329"/>
                    </a:lnTo>
                    <a:lnTo>
                      <a:pt x="2486" y="305"/>
                    </a:lnTo>
                    <a:lnTo>
                      <a:pt x="2469" y="281"/>
                    </a:lnTo>
                    <a:lnTo>
                      <a:pt x="2449" y="259"/>
                    </a:lnTo>
                    <a:lnTo>
                      <a:pt x="2430" y="236"/>
                    </a:lnTo>
                    <a:lnTo>
                      <a:pt x="2409" y="215"/>
                    </a:lnTo>
                    <a:lnTo>
                      <a:pt x="2388" y="194"/>
                    </a:lnTo>
                    <a:lnTo>
                      <a:pt x="2366" y="175"/>
                    </a:lnTo>
                    <a:lnTo>
                      <a:pt x="2344" y="156"/>
                    </a:lnTo>
                    <a:lnTo>
                      <a:pt x="2319" y="138"/>
                    </a:lnTo>
                    <a:lnTo>
                      <a:pt x="2295" y="122"/>
                    </a:lnTo>
                    <a:lnTo>
                      <a:pt x="2270" y="105"/>
                    </a:lnTo>
                    <a:lnTo>
                      <a:pt x="2244" y="90"/>
                    </a:lnTo>
                    <a:lnTo>
                      <a:pt x="2218" y="76"/>
                    </a:lnTo>
                    <a:lnTo>
                      <a:pt x="2190" y="64"/>
                    </a:lnTo>
                    <a:lnTo>
                      <a:pt x="2162" y="52"/>
                    </a:lnTo>
                    <a:lnTo>
                      <a:pt x="2134" y="41"/>
                    </a:lnTo>
                    <a:lnTo>
                      <a:pt x="2105" y="32"/>
                    </a:lnTo>
                    <a:lnTo>
                      <a:pt x="2075" y="24"/>
                    </a:lnTo>
                    <a:lnTo>
                      <a:pt x="2045" y="16"/>
                    </a:lnTo>
                    <a:lnTo>
                      <a:pt x="2014" y="11"/>
                    </a:lnTo>
                    <a:lnTo>
                      <a:pt x="1984" y="6"/>
                    </a:lnTo>
                    <a:lnTo>
                      <a:pt x="1951" y="3"/>
                    </a:lnTo>
                    <a:lnTo>
                      <a:pt x="1920" y="1"/>
                    </a:lnTo>
                    <a:lnTo>
                      <a:pt x="188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4644720" y="1876680"/>
                <a:ext cx="209520" cy="114480"/>
              </a:xfrm>
              <a:custGeom>
                <a:avLst/>
                <a:gdLst/>
                <a:ahLst/>
                <a:rect l="l" t="t" r="r" b="b"/>
                <a:pathLst>
                  <a:path w="3671" h="2011">
                    <a:moveTo>
                      <a:pt x="2489" y="639"/>
                    </a:moveTo>
                    <a:lnTo>
                      <a:pt x="2565" y="592"/>
                    </a:lnTo>
                    <a:lnTo>
                      <a:pt x="2594" y="576"/>
                    </a:lnTo>
                    <a:lnTo>
                      <a:pt x="2624" y="562"/>
                    </a:lnTo>
                    <a:lnTo>
                      <a:pt x="2654" y="550"/>
                    </a:lnTo>
                    <a:lnTo>
                      <a:pt x="2685" y="540"/>
                    </a:lnTo>
                    <a:lnTo>
                      <a:pt x="2718" y="533"/>
                    </a:lnTo>
                    <a:lnTo>
                      <a:pt x="2750" y="527"/>
                    </a:lnTo>
                    <a:lnTo>
                      <a:pt x="2766" y="525"/>
                    </a:lnTo>
                    <a:lnTo>
                      <a:pt x="2782" y="524"/>
                    </a:lnTo>
                    <a:lnTo>
                      <a:pt x="2799" y="523"/>
                    </a:lnTo>
                    <a:lnTo>
                      <a:pt x="2815" y="523"/>
                    </a:lnTo>
                    <a:lnTo>
                      <a:pt x="2840" y="523"/>
                    </a:lnTo>
                    <a:lnTo>
                      <a:pt x="2863" y="525"/>
                    </a:lnTo>
                    <a:lnTo>
                      <a:pt x="2886" y="528"/>
                    </a:lnTo>
                    <a:lnTo>
                      <a:pt x="2909" y="532"/>
                    </a:lnTo>
                    <a:lnTo>
                      <a:pt x="2931" y="536"/>
                    </a:lnTo>
                    <a:lnTo>
                      <a:pt x="2954" y="542"/>
                    </a:lnTo>
                    <a:lnTo>
                      <a:pt x="2975" y="549"/>
                    </a:lnTo>
                    <a:lnTo>
                      <a:pt x="2996" y="557"/>
                    </a:lnTo>
                    <a:lnTo>
                      <a:pt x="3016" y="566"/>
                    </a:lnTo>
                    <a:lnTo>
                      <a:pt x="3036" y="575"/>
                    </a:lnTo>
                    <a:lnTo>
                      <a:pt x="3055" y="586"/>
                    </a:lnTo>
                    <a:lnTo>
                      <a:pt x="3074" y="597"/>
                    </a:lnTo>
                    <a:lnTo>
                      <a:pt x="3093" y="609"/>
                    </a:lnTo>
                    <a:lnTo>
                      <a:pt x="3111" y="622"/>
                    </a:lnTo>
                    <a:lnTo>
                      <a:pt x="3127" y="637"/>
                    </a:lnTo>
                    <a:lnTo>
                      <a:pt x="3143" y="651"/>
                    </a:lnTo>
                    <a:lnTo>
                      <a:pt x="3158" y="666"/>
                    </a:lnTo>
                    <a:lnTo>
                      <a:pt x="3173" y="682"/>
                    </a:lnTo>
                    <a:lnTo>
                      <a:pt x="3187" y="698"/>
                    </a:lnTo>
                    <a:lnTo>
                      <a:pt x="3199" y="715"/>
                    </a:lnTo>
                    <a:lnTo>
                      <a:pt x="3212" y="733"/>
                    </a:lnTo>
                    <a:lnTo>
                      <a:pt x="3224" y="751"/>
                    </a:lnTo>
                    <a:lnTo>
                      <a:pt x="3234" y="769"/>
                    </a:lnTo>
                    <a:lnTo>
                      <a:pt x="3243" y="790"/>
                    </a:lnTo>
                    <a:lnTo>
                      <a:pt x="3251" y="809"/>
                    </a:lnTo>
                    <a:lnTo>
                      <a:pt x="3258" y="829"/>
                    </a:lnTo>
                    <a:lnTo>
                      <a:pt x="3265" y="850"/>
                    </a:lnTo>
                    <a:lnTo>
                      <a:pt x="3270" y="871"/>
                    </a:lnTo>
                    <a:lnTo>
                      <a:pt x="3274" y="892"/>
                    </a:lnTo>
                    <a:lnTo>
                      <a:pt x="3277" y="915"/>
                    </a:lnTo>
                    <a:lnTo>
                      <a:pt x="3279" y="937"/>
                    </a:lnTo>
                    <a:lnTo>
                      <a:pt x="3279" y="959"/>
                    </a:lnTo>
                    <a:lnTo>
                      <a:pt x="3260" y="1130"/>
                    </a:lnTo>
                    <a:lnTo>
                      <a:pt x="3364" y="1164"/>
                    </a:lnTo>
                    <a:lnTo>
                      <a:pt x="3381" y="1171"/>
                    </a:lnTo>
                    <a:lnTo>
                      <a:pt x="3397" y="1177"/>
                    </a:lnTo>
                    <a:lnTo>
                      <a:pt x="3413" y="1185"/>
                    </a:lnTo>
                    <a:lnTo>
                      <a:pt x="3429" y="1193"/>
                    </a:lnTo>
                    <a:lnTo>
                      <a:pt x="3445" y="1202"/>
                    </a:lnTo>
                    <a:lnTo>
                      <a:pt x="3460" y="1210"/>
                    </a:lnTo>
                    <a:lnTo>
                      <a:pt x="3475" y="1220"/>
                    </a:lnTo>
                    <a:lnTo>
                      <a:pt x="3489" y="1229"/>
                    </a:lnTo>
                    <a:lnTo>
                      <a:pt x="3503" y="1240"/>
                    </a:lnTo>
                    <a:lnTo>
                      <a:pt x="3516" y="1250"/>
                    </a:lnTo>
                    <a:lnTo>
                      <a:pt x="3529" y="1262"/>
                    </a:lnTo>
                    <a:lnTo>
                      <a:pt x="3541" y="1273"/>
                    </a:lnTo>
                    <a:lnTo>
                      <a:pt x="3553" y="1285"/>
                    </a:lnTo>
                    <a:lnTo>
                      <a:pt x="3565" y="1298"/>
                    </a:lnTo>
                    <a:lnTo>
                      <a:pt x="3575" y="1310"/>
                    </a:lnTo>
                    <a:lnTo>
                      <a:pt x="3587" y="1325"/>
                    </a:lnTo>
                    <a:lnTo>
                      <a:pt x="3596" y="1338"/>
                    </a:lnTo>
                    <a:lnTo>
                      <a:pt x="3606" y="1352"/>
                    </a:lnTo>
                    <a:lnTo>
                      <a:pt x="3614" y="1366"/>
                    </a:lnTo>
                    <a:lnTo>
                      <a:pt x="3622" y="1381"/>
                    </a:lnTo>
                    <a:lnTo>
                      <a:pt x="3630" y="1395"/>
                    </a:lnTo>
                    <a:lnTo>
                      <a:pt x="3637" y="1410"/>
                    </a:lnTo>
                    <a:lnTo>
                      <a:pt x="3643" y="1426"/>
                    </a:lnTo>
                    <a:lnTo>
                      <a:pt x="3649" y="1441"/>
                    </a:lnTo>
                    <a:lnTo>
                      <a:pt x="3654" y="1458"/>
                    </a:lnTo>
                    <a:lnTo>
                      <a:pt x="3658" y="1474"/>
                    </a:lnTo>
                    <a:lnTo>
                      <a:pt x="3662" y="1490"/>
                    </a:lnTo>
                    <a:lnTo>
                      <a:pt x="3665" y="1506"/>
                    </a:lnTo>
                    <a:lnTo>
                      <a:pt x="3668" y="1523"/>
                    </a:lnTo>
                    <a:lnTo>
                      <a:pt x="3669" y="1540"/>
                    </a:lnTo>
                    <a:lnTo>
                      <a:pt x="3671" y="1556"/>
                    </a:lnTo>
                    <a:lnTo>
                      <a:pt x="3671" y="1573"/>
                    </a:lnTo>
                    <a:lnTo>
                      <a:pt x="3670" y="1597"/>
                    </a:lnTo>
                    <a:lnTo>
                      <a:pt x="3669" y="1619"/>
                    </a:lnTo>
                    <a:lnTo>
                      <a:pt x="3666" y="1640"/>
                    </a:lnTo>
                    <a:lnTo>
                      <a:pt x="3662" y="1662"/>
                    </a:lnTo>
                    <a:lnTo>
                      <a:pt x="3656" y="1682"/>
                    </a:lnTo>
                    <a:lnTo>
                      <a:pt x="3650" y="1703"/>
                    </a:lnTo>
                    <a:lnTo>
                      <a:pt x="3643" y="1723"/>
                    </a:lnTo>
                    <a:lnTo>
                      <a:pt x="3635" y="1744"/>
                    </a:lnTo>
                    <a:lnTo>
                      <a:pt x="3625" y="1763"/>
                    </a:lnTo>
                    <a:lnTo>
                      <a:pt x="3615" y="1782"/>
                    </a:lnTo>
                    <a:lnTo>
                      <a:pt x="3604" y="1800"/>
                    </a:lnTo>
                    <a:lnTo>
                      <a:pt x="3592" y="1817"/>
                    </a:lnTo>
                    <a:lnTo>
                      <a:pt x="3578" y="1834"/>
                    </a:lnTo>
                    <a:lnTo>
                      <a:pt x="3565" y="1851"/>
                    </a:lnTo>
                    <a:lnTo>
                      <a:pt x="3550" y="1867"/>
                    </a:lnTo>
                    <a:lnTo>
                      <a:pt x="3535" y="1882"/>
                    </a:lnTo>
                    <a:lnTo>
                      <a:pt x="3519" y="1897"/>
                    </a:lnTo>
                    <a:lnTo>
                      <a:pt x="3502" y="1910"/>
                    </a:lnTo>
                    <a:lnTo>
                      <a:pt x="3485" y="1923"/>
                    </a:lnTo>
                    <a:lnTo>
                      <a:pt x="3467" y="1935"/>
                    </a:lnTo>
                    <a:lnTo>
                      <a:pt x="3447" y="1947"/>
                    </a:lnTo>
                    <a:lnTo>
                      <a:pt x="3428" y="1957"/>
                    </a:lnTo>
                    <a:lnTo>
                      <a:pt x="3408" y="1967"/>
                    </a:lnTo>
                    <a:lnTo>
                      <a:pt x="3388" y="1975"/>
                    </a:lnTo>
                    <a:lnTo>
                      <a:pt x="3367" y="1983"/>
                    </a:lnTo>
                    <a:lnTo>
                      <a:pt x="3345" y="1990"/>
                    </a:lnTo>
                    <a:lnTo>
                      <a:pt x="3322" y="1997"/>
                    </a:lnTo>
                    <a:lnTo>
                      <a:pt x="3300" y="2002"/>
                    </a:lnTo>
                    <a:lnTo>
                      <a:pt x="3278" y="2006"/>
                    </a:lnTo>
                    <a:lnTo>
                      <a:pt x="3255" y="2008"/>
                    </a:lnTo>
                    <a:lnTo>
                      <a:pt x="3231" y="2010"/>
                    </a:lnTo>
                    <a:lnTo>
                      <a:pt x="3208" y="2011"/>
                    </a:lnTo>
                    <a:lnTo>
                      <a:pt x="464" y="2011"/>
                    </a:lnTo>
                    <a:lnTo>
                      <a:pt x="441" y="2010"/>
                    </a:lnTo>
                    <a:lnTo>
                      <a:pt x="416" y="2008"/>
                    </a:lnTo>
                    <a:lnTo>
                      <a:pt x="393" y="2006"/>
                    </a:lnTo>
                    <a:lnTo>
                      <a:pt x="371" y="2002"/>
                    </a:lnTo>
                    <a:lnTo>
                      <a:pt x="348" y="1997"/>
                    </a:lnTo>
                    <a:lnTo>
                      <a:pt x="327" y="1990"/>
                    </a:lnTo>
                    <a:lnTo>
                      <a:pt x="305" y="1983"/>
                    </a:lnTo>
                    <a:lnTo>
                      <a:pt x="283" y="1975"/>
                    </a:lnTo>
                    <a:lnTo>
                      <a:pt x="263" y="1967"/>
                    </a:lnTo>
                    <a:lnTo>
                      <a:pt x="243" y="1957"/>
                    </a:lnTo>
                    <a:lnTo>
                      <a:pt x="224" y="1947"/>
                    </a:lnTo>
                    <a:lnTo>
                      <a:pt x="205" y="1935"/>
                    </a:lnTo>
                    <a:lnTo>
                      <a:pt x="187" y="1923"/>
                    </a:lnTo>
                    <a:lnTo>
                      <a:pt x="169" y="1910"/>
                    </a:lnTo>
                    <a:lnTo>
                      <a:pt x="152" y="1897"/>
                    </a:lnTo>
                    <a:lnTo>
                      <a:pt x="136" y="1882"/>
                    </a:lnTo>
                    <a:lnTo>
                      <a:pt x="121" y="1867"/>
                    </a:lnTo>
                    <a:lnTo>
                      <a:pt x="106" y="1851"/>
                    </a:lnTo>
                    <a:lnTo>
                      <a:pt x="93" y="1834"/>
                    </a:lnTo>
                    <a:lnTo>
                      <a:pt x="80" y="1817"/>
                    </a:lnTo>
                    <a:lnTo>
                      <a:pt x="68" y="1800"/>
                    </a:lnTo>
                    <a:lnTo>
                      <a:pt x="57" y="1782"/>
                    </a:lnTo>
                    <a:lnTo>
                      <a:pt x="46" y="1763"/>
                    </a:lnTo>
                    <a:lnTo>
                      <a:pt x="37" y="1744"/>
                    </a:lnTo>
                    <a:lnTo>
                      <a:pt x="28" y="1723"/>
                    </a:lnTo>
                    <a:lnTo>
                      <a:pt x="21" y="1703"/>
                    </a:lnTo>
                    <a:lnTo>
                      <a:pt x="15" y="1682"/>
                    </a:lnTo>
                    <a:lnTo>
                      <a:pt x="10" y="1662"/>
                    </a:lnTo>
                    <a:lnTo>
                      <a:pt x="6" y="1640"/>
                    </a:lnTo>
                    <a:lnTo>
                      <a:pt x="3" y="1619"/>
                    </a:lnTo>
                    <a:lnTo>
                      <a:pt x="1" y="1597"/>
                    </a:lnTo>
                    <a:lnTo>
                      <a:pt x="0" y="1573"/>
                    </a:lnTo>
                    <a:lnTo>
                      <a:pt x="1" y="1556"/>
                    </a:lnTo>
                    <a:lnTo>
                      <a:pt x="2" y="1540"/>
                    </a:lnTo>
                    <a:lnTo>
                      <a:pt x="4" y="1523"/>
                    </a:lnTo>
                    <a:lnTo>
                      <a:pt x="6" y="1506"/>
                    </a:lnTo>
                    <a:lnTo>
                      <a:pt x="9" y="1490"/>
                    </a:lnTo>
                    <a:lnTo>
                      <a:pt x="13" y="1474"/>
                    </a:lnTo>
                    <a:lnTo>
                      <a:pt x="17" y="1458"/>
                    </a:lnTo>
                    <a:lnTo>
                      <a:pt x="22" y="1441"/>
                    </a:lnTo>
                    <a:lnTo>
                      <a:pt x="28" y="1426"/>
                    </a:lnTo>
                    <a:lnTo>
                      <a:pt x="34" y="1410"/>
                    </a:lnTo>
                    <a:lnTo>
                      <a:pt x="41" y="1395"/>
                    </a:lnTo>
                    <a:lnTo>
                      <a:pt x="49" y="1380"/>
                    </a:lnTo>
                    <a:lnTo>
                      <a:pt x="58" y="1366"/>
                    </a:lnTo>
                    <a:lnTo>
                      <a:pt x="66" y="1352"/>
                    </a:lnTo>
                    <a:lnTo>
                      <a:pt x="76" y="1338"/>
                    </a:lnTo>
                    <a:lnTo>
                      <a:pt x="86" y="1324"/>
                    </a:lnTo>
                    <a:lnTo>
                      <a:pt x="96" y="1310"/>
                    </a:lnTo>
                    <a:lnTo>
                      <a:pt x="107" y="1298"/>
                    </a:lnTo>
                    <a:lnTo>
                      <a:pt x="118" y="1285"/>
                    </a:lnTo>
                    <a:lnTo>
                      <a:pt x="130" y="1273"/>
                    </a:lnTo>
                    <a:lnTo>
                      <a:pt x="142" y="1261"/>
                    </a:lnTo>
                    <a:lnTo>
                      <a:pt x="155" y="1250"/>
                    </a:lnTo>
                    <a:lnTo>
                      <a:pt x="168" y="1240"/>
                    </a:lnTo>
                    <a:lnTo>
                      <a:pt x="183" y="1229"/>
                    </a:lnTo>
                    <a:lnTo>
                      <a:pt x="197" y="1219"/>
                    </a:lnTo>
                    <a:lnTo>
                      <a:pt x="212" y="1210"/>
                    </a:lnTo>
                    <a:lnTo>
                      <a:pt x="227" y="1201"/>
                    </a:lnTo>
                    <a:lnTo>
                      <a:pt x="242" y="1193"/>
                    </a:lnTo>
                    <a:lnTo>
                      <a:pt x="258" y="1185"/>
                    </a:lnTo>
                    <a:lnTo>
                      <a:pt x="274" y="1177"/>
                    </a:lnTo>
                    <a:lnTo>
                      <a:pt x="291" y="1170"/>
                    </a:lnTo>
                    <a:lnTo>
                      <a:pt x="309" y="1164"/>
                    </a:lnTo>
                    <a:lnTo>
                      <a:pt x="443" y="1119"/>
                    </a:lnTo>
                    <a:lnTo>
                      <a:pt x="392" y="993"/>
                    </a:lnTo>
                    <a:lnTo>
                      <a:pt x="384" y="973"/>
                    </a:lnTo>
                    <a:lnTo>
                      <a:pt x="378" y="954"/>
                    </a:lnTo>
                    <a:lnTo>
                      <a:pt x="372" y="934"/>
                    </a:lnTo>
                    <a:lnTo>
                      <a:pt x="368" y="914"/>
                    </a:lnTo>
                    <a:lnTo>
                      <a:pt x="364" y="894"/>
                    </a:lnTo>
                    <a:lnTo>
                      <a:pt x="362" y="874"/>
                    </a:lnTo>
                    <a:lnTo>
                      <a:pt x="360" y="855"/>
                    </a:lnTo>
                    <a:lnTo>
                      <a:pt x="360" y="836"/>
                    </a:lnTo>
                    <a:lnTo>
                      <a:pt x="360" y="814"/>
                    </a:lnTo>
                    <a:lnTo>
                      <a:pt x="362" y="792"/>
                    </a:lnTo>
                    <a:lnTo>
                      <a:pt x="365" y="769"/>
                    </a:lnTo>
                    <a:lnTo>
                      <a:pt x="369" y="748"/>
                    </a:lnTo>
                    <a:lnTo>
                      <a:pt x="374" y="727"/>
                    </a:lnTo>
                    <a:lnTo>
                      <a:pt x="380" y="706"/>
                    </a:lnTo>
                    <a:lnTo>
                      <a:pt x="388" y="686"/>
                    </a:lnTo>
                    <a:lnTo>
                      <a:pt x="396" y="666"/>
                    </a:lnTo>
                    <a:lnTo>
                      <a:pt x="405" y="647"/>
                    </a:lnTo>
                    <a:lnTo>
                      <a:pt x="415" y="627"/>
                    </a:lnTo>
                    <a:lnTo>
                      <a:pt x="426" y="609"/>
                    </a:lnTo>
                    <a:lnTo>
                      <a:pt x="439" y="592"/>
                    </a:lnTo>
                    <a:lnTo>
                      <a:pt x="452" y="575"/>
                    </a:lnTo>
                    <a:lnTo>
                      <a:pt x="466" y="558"/>
                    </a:lnTo>
                    <a:lnTo>
                      <a:pt x="480" y="543"/>
                    </a:lnTo>
                    <a:lnTo>
                      <a:pt x="496" y="528"/>
                    </a:lnTo>
                    <a:lnTo>
                      <a:pt x="512" y="513"/>
                    </a:lnTo>
                    <a:lnTo>
                      <a:pt x="528" y="499"/>
                    </a:lnTo>
                    <a:lnTo>
                      <a:pt x="546" y="486"/>
                    </a:lnTo>
                    <a:lnTo>
                      <a:pt x="565" y="474"/>
                    </a:lnTo>
                    <a:lnTo>
                      <a:pt x="583" y="462"/>
                    </a:lnTo>
                    <a:lnTo>
                      <a:pt x="603" y="452"/>
                    </a:lnTo>
                    <a:lnTo>
                      <a:pt x="623" y="442"/>
                    </a:lnTo>
                    <a:lnTo>
                      <a:pt x="643" y="434"/>
                    </a:lnTo>
                    <a:lnTo>
                      <a:pt x="664" y="426"/>
                    </a:lnTo>
                    <a:lnTo>
                      <a:pt x="686" y="419"/>
                    </a:lnTo>
                    <a:lnTo>
                      <a:pt x="708" y="413"/>
                    </a:lnTo>
                    <a:lnTo>
                      <a:pt x="730" y="408"/>
                    </a:lnTo>
                    <a:lnTo>
                      <a:pt x="753" y="405"/>
                    </a:lnTo>
                    <a:lnTo>
                      <a:pt x="776" y="402"/>
                    </a:lnTo>
                    <a:lnTo>
                      <a:pt x="799" y="400"/>
                    </a:lnTo>
                    <a:lnTo>
                      <a:pt x="824" y="399"/>
                    </a:lnTo>
                    <a:lnTo>
                      <a:pt x="842" y="400"/>
                    </a:lnTo>
                    <a:lnTo>
                      <a:pt x="860" y="401"/>
                    </a:lnTo>
                    <a:lnTo>
                      <a:pt x="879" y="403"/>
                    </a:lnTo>
                    <a:lnTo>
                      <a:pt x="897" y="406"/>
                    </a:lnTo>
                    <a:lnTo>
                      <a:pt x="916" y="410"/>
                    </a:lnTo>
                    <a:lnTo>
                      <a:pt x="936" y="414"/>
                    </a:lnTo>
                    <a:lnTo>
                      <a:pt x="956" y="420"/>
                    </a:lnTo>
                    <a:lnTo>
                      <a:pt x="976" y="426"/>
                    </a:lnTo>
                    <a:lnTo>
                      <a:pt x="1122" y="474"/>
                    </a:lnTo>
                    <a:lnTo>
                      <a:pt x="1158" y="332"/>
                    </a:lnTo>
                    <a:lnTo>
                      <a:pt x="1163" y="314"/>
                    </a:lnTo>
                    <a:lnTo>
                      <a:pt x="1169" y="297"/>
                    </a:lnTo>
                    <a:lnTo>
                      <a:pt x="1176" y="279"/>
                    </a:lnTo>
                    <a:lnTo>
                      <a:pt x="1183" y="262"/>
                    </a:lnTo>
                    <a:lnTo>
                      <a:pt x="1192" y="246"/>
                    </a:lnTo>
                    <a:lnTo>
                      <a:pt x="1201" y="230"/>
                    </a:lnTo>
                    <a:lnTo>
                      <a:pt x="1210" y="213"/>
                    </a:lnTo>
                    <a:lnTo>
                      <a:pt x="1220" y="198"/>
                    </a:lnTo>
                    <a:lnTo>
                      <a:pt x="1231" y="183"/>
                    </a:lnTo>
                    <a:lnTo>
                      <a:pt x="1242" y="169"/>
                    </a:lnTo>
                    <a:lnTo>
                      <a:pt x="1254" y="155"/>
                    </a:lnTo>
                    <a:lnTo>
                      <a:pt x="1266" y="141"/>
                    </a:lnTo>
                    <a:lnTo>
                      <a:pt x="1279" y="129"/>
                    </a:lnTo>
                    <a:lnTo>
                      <a:pt x="1293" y="116"/>
                    </a:lnTo>
                    <a:lnTo>
                      <a:pt x="1307" y="104"/>
                    </a:lnTo>
                    <a:lnTo>
                      <a:pt x="1322" y="93"/>
                    </a:lnTo>
                    <a:lnTo>
                      <a:pt x="1337" y="82"/>
                    </a:lnTo>
                    <a:lnTo>
                      <a:pt x="1353" y="72"/>
                    </a:lnTo>
                    <a:lnTo>
                      <a:pt x="1369" y="62"/>
                    </a:lnTo>
                    <a:lnTo>
                      <a:pt x="1385" y="53"/>
                    </a:lnTo>
                    <a:lnTo>
                      <a:pt x="1401" y="45"/>
                    </a:lnTo>
                    <a:lnTo>
                      <a:pt x="1418" y="37"/>
                    </a:lnTo>
                    <a:lnTo>
                      <a:pt x="1436" y="30"/>
                    </a:lnTo>
                    <a:lnTo>
                      <a:pt x="1455" y="24"/>
                    </a:lnTo>
                    <a:lnTo>
                      <a:pt x="1473" y="19"/>
                    </a:lnTo>
                    <a:lnTo>
                      <a:pt x="1491" y="14"/>
                    </a:lnTo>
                    <a:lnTo>
                      <a:pt x="1510" y="10"/>
                    </a:lnTo>
                    <a:lnTo>
                      <a:pt x="1529" y="6"/>
                    </a:lnTo>
                    <a:lnTo>
                      <a:pt x="1548" y="3"/>
                    </a:lnTo>
                    <a:lnTo>
                      <a:pt x="1568" y="1"/>
                    </a:lnTo>
                    <a:lnTo>
                      <a:pt x="1588" y="0"/>
                    </a:lnTo>
                    <a:lnTo>
                      <a:pt x="1607" y="0"/>
                    </a:lnTo>
                    <a:lnTo>
                      <a:pt x="1630" y="0"/>
                    </a:lnTo>
                    <a:lnTo>
                      <a:pt x="1652" y="2"/>
                    </a:lnTo>
                    <a:lnTo>
                      <a:pt x="1673" y="4"/>
                    </a:lnTo>
                    <a:lnTo>
                      <a:pt x="1696" y="8"/>
                    </a:lnTo>
                    <a:lnTo>
                      <a:pt x="1717" y="12"/>
                    </a:lnTo>
                    <a:lnTo>
                      <a:pt x="1737" y="18"/>
                    </a:lnTo>
                    <a:lnTo>
                      <a:pt x="1758" y="24"/>
                    </a:lnTo>
                    <a:lnTo>
                      <a:pt x="1778" y="31"/>
                    </a:lnTo>
                    <a:lnTo>
                      <a:pt x="1797" y="39"/>
                    </a:lnTo>
                    <a:lnTo>
                      <a:pt x="1817" y="48"/>
                    </a:lnTo>
                    <a:lnTo>
                      <a:pt x="1835" y="57"/>
                    </a:lnTo>
                    <a:lnTo>
                      <a:pt x="1854" y="68"/>
                    </a:lnTo>
                    <a:lnTo>
                      <a:pt x="1871" y="79"/>
                    </a:lnTo>
                    <a:lnTo>
                      <a:pt x="1888" y="90"/>
                    </a:lnTo>
                    <a:lnTo>
                      <a:pt x="1904" y="104"/>
                    </a:lnTo>
                    <a:lnTo>
                      <a:pt x="1920" y="117"/>
                    </a:lnTo>
                    <a:lnTo>
                      <a:pt x="1935" y="131"/>
                    </a:lnTo>
                    <a:lnTo>
                      <a:pt x="1950" y="146"/>
                    </a:lnTo>
                    <a:lnTo>
                      <a:pt x="1964" y="161"/>
                    </a:lnTo>
                    <a:lnTo>
                      <a:pt x="1977" y="176"/>
                    </a:lnTo>
                    <a:lnTo>
                      <a:pt x="1989" y="193"/>
                    </a:lnTo>
                    <a:lnTo>
                      <a:pt x="2001" y="209"/>
                    </a:lnTo>
                    <a:lnTo>
                      <a:pt x="2011" y="227"/>
                    </a:lnTo>
                    <a:lnTo>
                      <a:pt x="2021" y="246"/>
                    </a:lnTo>
                    <a:lnTo>
                      <a:pt x="2030" y="264"/>
                    </a:lnTo>
                    <a:lnTo>
                      <a:pt x="2038" y="283"/>
                    </a:lnTo>
                    <a:lnTo>
                      <a:pt x="2045" y="302"/>
                    </a:lnTo>
                    <a:lnTo>
                      <a:pt x="2051" y="321"/>
                    </a:lnTo>
                    <a:lnTo>
                      <a:pt x="2057" y="341"/>
                    </a:lnTo>
                    <a:lnTo>
                      <a:pt x="2061" y="362"/>
                    </a:lnTo>
                    <a:lnTo>
                      <a:pt x="2064" y="383"/>
                    </a:lnTo>
                    <a:lnTo>
                      <a:pt x="2066" y="404"/>
                    </a:lnTo>
                    <a:lnTo>
                      <a:pt x="2076" y="518"/>
                    </a:lnTo>
                    <a:lnTo>
                      <a:pt x="2197" y="527"/>
                    </a:lnTo>
                    <a:lnTo>
                      <a:pt x="2226" y="529"/>
                    </a:lnTo>
                    <a:lnTo>
                      <a:pt x="2255" y="534"/>
                    </a:lnTo>
                    <a:lnTo>
                      <a:pt x="2283" y="540"/>
                    </a:lnTo>
                    <a:lnTo>
                      <a:pt x="2310" y="547"/>
                    </a:lnTo>
                    <a:lnTo>
                      <a:pt x="2338" y="556"/>
                    </a:lnTo>
                    <a:lnTo>
                      <a:pt x="2364" y="567"/>
                    </a:lnTo>
                    <a:lnTo>
                      <a:pt x="2389" y="579"/>
                    </a:lnTo>
                    <a:lnTo>
                      <a:pt x="2413" y="592"/>
                    </a:lnTo>
                    <a:lnTo>
                      <a:pt x="2489" y="639"/>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4670280" y="1984680"/>
                <a:ext cx="836640" cy="42840"/>
              </a:xfrm>
              <a:custGeom>
                <a:avLst/>
                <a:gdLst/>
                <a:ahLst/>
                <a:rect l="l" t="t" r="r" b="b"/>
                <a:pathLst>
                  <a:path w="14760" h="749">
                    <a:moveTo>
                      <a:pt x="14418" y="0"/>
                    </a:moveTo>
                    <a:lnTo>
                      <a:pt x="353" y="0"/>
                    </a:lnTo>
                    <a:lnTo>
                      <a:pt x="0" y="749"/>
                    </a:lnTo>
                    <a:lnTo>
                      <a:pt x="14760" y="749"/>
                    </a:lnTo>
                    <a:lnTo>
                      <a:pt x="14418" y="0"/>
                    </a:lnTo>
                    <a:close/>
                  </a:path>
                </a:pathLst>
              </a:custGeom>
              <a:solidFill>
                <a:srgbClr val="ccecf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43" name=""/>
              <p:cNvSpPr/>
              <p:nvPr/>
            </p:nvSpPr>
            <p:spPr>
              <a:xfrm>
                <a:off x="4835160" y="1806840"/>
                <a:ext cx="501840" cy="179280"/>
              </a:xfrm>
              <a:custGeom>
                <a:avLst/>
                <a:gdLst/>
                <a:ahLst/>
                <a:rect l="l" t="t" r="r" b="b"/>
                <a:pathLst>
                  <a:path w="8850" h="3139">
                    <a:moveTo>
                      <a:pt x="8718" y="0"/>
                    </a:moveTo>
                    <a:lnTo>
                      <a:pt x="0" y="0"/>
                    </a:lnTo>
                    <a:lnTo>
                      <a:pt x="0" y="1058"/>
                    </a:lnTo>
                    <a:lnTo>
                      <a:pt x="13" y="1058"/>
                    </a:lnTo>
                    <a:lnTo>
                      <a:pt x="51" y="1058"/>
                    </a:lnTo>
                    <a:lnTo>
                      <a:pt x="108" y="1058"/>
                    </a:lnTo>
                    <a:lnTo>
                      <a:pt x="176" y="1058"/>
                    </a:lnTo>
                    <a:lnTo>
                      <a:pt x="251" y="1058"/>
                    </a:lnTo>
                    <a:lnTo>
                      <a:pt x="326" y="1058"/>
                    </a:lnTo>
                    <a:lnTo>
                      <a:pt x="396" y="1058"/>
                    </a:lnTo>
                    <a:lnTo>
                      <a:pt x="453" y="1058"/>
                    </a:lnTo>
                    <a:lnTo>
                      <a:pt x="453" y="1214"/>
                    </a:lnTo>
                    <a:lnTo>
                      <a:pt x="453" y="1481"/>
                    </a:lnTo>
                    <a:lnTo>
                      <a:pt x="453" y="1818"/>
                    </a:lnTo>
                    <a:lnTo>
                      <a:pt x="453" y="2185"/>
                    </a:lnTo>
                    <a:lnTo>
                      <a:pt x="453" y="2541"/>
                    </a:lnTo>
                    <a:lnTo>
                      <a:pt x="453" y="2847"/>
                    </a:lnTo>
                    <a:lnTo>
                      <a:pt x="453" y="3059"/>
                    </a:lnTo>
                    <a:lnTo>
                      <a:pt x="453" y="3139"/>
                    </a:lnTo>
                    <a:lnTo>
                      <a:pt x="1310" y="3139"/>
                    </a:lnTo>
                    <a:lnTo>
                      <a:pt x="1310" y="3059"/>
                    </a:lnTo>
                    <a:lnTo>
                      <a:pt x="1310" y="2847"/>
                    </a:lnTo>
                    <a:lnTo>
                      <a:pt x="1310" y="2541"/>
                    </a:lnTo>
                    <a:lnTo>
                      <a:pt x="1310" y="2185"/>
                    </a:lnTo>
                    <a:lnTo>
                      <a:pt x="1310" y="1818"/>
                    </a:lnTo>
                    <a:lnTo>
                      <a:pt x="1310" y="1481"/>
                    </a:lnTo>
                    <a:lnTo>
                      <a:pt x="1310" y="1214"/>
                    </a:lnTo>
                    <a:lnTo>
                      <a:pt x="1310" y="1058"/>
                    </a:lnTo>
                    <a:lnTo>
                      <a:pt x="1635" y="1058"/>
                    </a:lnTo>
                    <a:lnTo>
                      <a:pt x="2337" y="1058"/>
                    </a:lnTo>
                    <a:lnTo>
                      <a:pt x="3293" y="1058"/>
                    </a:lnTo>
                    <a:lnTo>
                      <a:pt x="4375" y="1058"/>
                    </a:lnTo>
                    <a:lnTo>
                      <a:pt x="5457" y="1058"/>
                    </a:lnTo>
                    <a:lnTo>
                      <a:pt x="6413" y="1058"/>
                    </a:lnTo>
                    <a:lnTo>
                      <a:pt x="7116" y="1058"/>
                    </a:lnTo>
                    <a:lnTo>
                      <a:pt x="7441" y="1058"/>
                    </a:lnTo>
                    <a:lnTo>
                      <a:pt x="7441" y="1214"/>
                    </a:lnTo>
                    <a:lnTo>
                      <a:pt x="7441" y="1481"/>
                    </a:lnTo>
                    <a:lnTo>
                      <a:pt x="7441" y="1818"/>
                    </a:lnTo>
                    <a:lnTo>
                      <a:pt x="7441" y="2185"/>
                    </a:lnTo>
                    <a:lnTo>
                      <a:pt x="7441" y="2541"/>
                    </a:lnTo>
                    <a:lnTo>
                      <a:pt x="7441" y="2847"/>
                    </a:lnTo>
                    <a:lnTo>
                      <a:pt x="7441" y="3059"/>
                    </a:lnTo>
                    <a:lnTo>
                      <a:pt x="7441" y="3139"/>
                    </a:lnTo>
                    <a:lnTo>
                      <a:pt x="8298" y="3139"/>
                    </a:lnTo>
                    <a:lnTo>
                      <a:pt x="8298" y="3059"/>
                    </a:lnTo>
                    <a:lnTo>
                      <a:pt x="8298" y="2847"/>
                    </a:lnTo>
                    <a:lnTo>
                      <a:pt x="8298" y="2541"/>
                    </a:lnTo>
                    <a:lnTo>
                      <a:pt x="8298" y="2185"/>
                    </a:lnTo>
                    <a:lnTo>
                      <a:pt x="8298" y="1818"/>
                    </a:lnTo>
                    <a:lnTo>
                      <a:pt x="8298" y="1481"/>
                    </a:lnTo>
                    <a:lnTo>
                      <a:pt x="8298" y="1214"/>
                    </a:lnTo>
                    <a:lnTo>
                      <a:pt x="8298" y="1058"/>
                    </a:lnTo>
                    <a:lnTo>
                      <a:pt x="8365" y="1058"/>
                    </a:lnTo>
                    <a:lnTo>
                      <a:pt x="8449" y="1058"/>
                    </a:lnTo>
                    <a:lnTo>
                      <a:pt x="8540" y="1058"/>
                    </a:lnTo>
                    <a:lnTo>
                      <a:pt x="8631" y="1058"/>
                    </a:lnTo>
                    <a:lnTo>
                      <a:pt x="8716" y="1058"/>
                    </a:lnTo>
                    <a:lnTo>
                      <a:pt x="8785" y="1058"/>
                    </a:lnTo>
                    <a:lnTo>
                      <a:pt x="8833" y="1058"/>
                    </a:lnTo>
                    <a:lnTo>
                      <a:pt x="8850" y="1058"/>
                    </a:lnTo>
                    <a:lnTo>
                      <a:pt x="8850" y="0"/>
                    </a:lnTo>
                    <a:lnTo>
                      <a:pt x="87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a:off x="4938480" y="1852920"/>
                <a:ext cx="285840" cy="127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4957560" y="1868760"/>
                <a:ext cx="46080" cy="96840"/>
              </a:xfrm>
              <a:prstGeom prst="rect">
                <a:avLst/>
              </a:prstGeom>
              <a:solidFill>
                <a:srgbClr val="e7f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5024160" y="1868760"/>
                <a:ext cx="46080" cy="96840"/>
              </a:xfrm>
              <a:prstGeom prst="rect">
                <a:avLst/>
              </a:prstGeom>
              <a:solidFill>
                <a:srgbClr val="e7f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5092560" y="1868760"/>
                <a:ext cx="46080" cy="96840"/>
              </a:xfrm>
              <a:prstGeom prst="rect">
                <a:avLst/>
              </a:prstGeom>
              <a:solidFill>
                <a:srgbClr val="e7f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5159160" y="1868760"/>
                <a:ext cx="46080" cy="96840"/>
              </a:xfrm>
              <a:prstGeom prst="rect">
                <a:avLst/>
              </a:prstGeom>
              <a:solidFill>
                <a:srgbClr val="e7f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4851360" y="1822680"/>
                <a:ext cx="469800" cy="28800"/>
              </a:xfrm>
              <a:prstGeom prst="rect">
                <a:avLst/>
              </a:prstGeom>
              <a:solidFill>
                <a:srgbClr val="99ccff"/>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50" name=""/>
              <p:cNvSpPr/>
              <p:nvPr/>
            </p:nvSpPr>
            <p:spPr>
              <a:xfrm>
                <a:off x="5271840" y="1868760"/>
                <a:ext cx="19080" cy="986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4876560" y="1868760"/>
                <a:ext cx="19080" cy="986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4929120" y="1540080"/>
                <a:ext cx="498240" cy="76320"/>
              </a:xfrm>
              <a:custGeom>
                <a:avLst/>
                <a:gdLst/>
                <a:ahLst/>
                <a:rect l="l" t="t" r="r" b="b"/>
                <a:pathLst>
                  <a:path w="8809" h="1335">
                    <a:moveTo>
                      <a:pt x="8677" y="0"/>
                    </a:moveTo>
                    <a:lnTo>
                      <a:pt x="0" y="0"/>
                    </a:lnTo>
                    <a:lnTo>
                      <a:pt x="0" y="1335"/>
                    </a:lnTo>
                    <a:lnTo>
                      <a:pt x="8809" y="1335"/>
                    </a:lnTo>
                    <a:lnTo>
                      <a:pt x="8809" y="0"/>
                    </a:lnTo>
                    <a:lnTo>
                      <a:pt x="867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53" name=""/>
              <p:cNvSpPr/>
              <p:nvPr/>
            </p:nvSpPr>
            <p:spPr>
              <a:xfrm>
                <a:off x="4736880" y="1540080"/>
                <a:ext cx="81000" cy="76320"/>
              </a:xfrm>
              <a:custGeom>
                <a:avLst/>
                <a:gdLst/>
                <a:ahLst/>
                <a:rect l="l" t="t" r="r" b="b"/>
                <a:pathLst>
                  <a:path w="1448" h="1335">
                    <a:moveTo>
                      <a:pt x="0" y="0"/>
                    </a:moveTo>
                    <a:lnTo>
                      <a:pt x="0" y="1335"/>
                    </a:lnTo>
                    <a:lnTo>
                      <a:pt x="1448" y="1335"/>
                    </a:lnTo>
                    <a:lnTo>
                      <a:pt x="1448" y="0"/>
                    </a:lnTo>
                    <a:lnTo>
                      <a:pt x="1316"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54" name=""/>
              <p:cNvSpPr/>
              <p:nvPr/>
            </p:nvSpPr>
            <p:spPr>
              <a:xfrm>
                <a:off x="4929120" y="1683000"/>
                <a:ext cx="498240" cy="74520"/>
              </a:xfrm>
              <a:custGeom>
                <a:avLst/>
                <a:gdLst/>
                <a:ahLst/>
                <a:rect l="l" t="t" r="r" b="b"/>
                <a:pathLst>
                  <a:path w="8809" h="1334">
                    <a:moveTo>
                      <a:pt x="0" y="0"/>
                    </a:moveTo>
                    <a:lnTo>
                      <a:pt x="0" y="1334"/>
                    </a:lnTo>
                    <a:lnTo>
                      <a:pt x="8809" y="1334"/>
                    </a:lnTo>
                    <a:lnTo>
                      <a:pt x="8809" y="0"/>
                    </a:lnTo>
                    <a:lnTo>
                      <a:pt x="8677" y="0"/>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55" name=""/>
              <p:cNvSpPr/>
              <p:nvPr/>
            </p:nvSpPr>
            <p:spPr>
              <a:xfrm>
                <a:off x="4736880" y="1683000"/>
                <a:ext cx="81000" cy="74520"/>
              </a:xfrm>
              <a:custGeom>
                <a:avLst/>
                <a:gdLst/>
                <a:ahLst/>
                <a:rect l="l" t="t" r="r" b="b"/>
                <a:pathLst>
                  <a:path w="1448" h="1334">
                    <a:moveTo>
                      <a:pt x="0" y="0"/>
                    </a:moveTo>
                    <a:lnTo>
                      <a:pt x="0" y="1334"/>
                    </a:lnTo>
                    <a:lnTo>
                      <a:pt x="1448" y="1334"/>
                    </a:lnTo>
                    <a:lnTo>
                      <a:pt x="1448" y="0"/>
                    </a:lnTo>
                    <a:lnTo>
                      <a:pt x="1316" y="0"/>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56" name=""/>
              <p:cNvSpPr/>
              <p:nvPr/>
            </p:nvSpPr>
            <p:spPr>
              <a:xfrm>
                <a:off x="4749480" y="1555920"/>
                <a:ext cx="52560" cy="43200"/>
              </a:xfrm>
              <a:prstGeom prst="rect">
                <a:avLst/>
              </a:prstGeom>
              <a:solidFill>
                <a:srgbClr val="99ccff"/>
              </a:soli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57" name=""/>
              <p:cNvSpPr/>
              <p:nvPr/>
            </p:nvSpPr>
            <p:spPr>
              <a:xfrm>
                <a:off x="4749480" y="1698840"/>
                <a:ext cx="52560" cy="42840"/>
              </a:xfrm>
              <a:prstGeom prst="rect">
                <a:avLst/>
              </a:prstGeom>
              <a:solidFill>
                <a:srgbClr val="99ccf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58" name=""/>
              <p:cNvSpPr/>
              <p:nvPr/>
            </p:nvSpPr>
            <p:spPr>
              <a:xfrm>
                <a:off x="4946400" y="1555920"/>
                <a:ext cx="463680" cy="43200"/>
              </a:xfrm>
              <a:prstGeom prst="rect">
                <a:avLst/>
              </a:prstGeom>
              <a:solidFill>
                <a:srgbClr val="99ccff"/>
              </a:soli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59" name=""/>
              <p:cNvSpPr/>
              <p:nvPr/>
            </p:nvSpPr>
            <p:spPr>
              <a:xfrm>
                <a:off x="4946400" y="1698840"/>
                <a:ext cx="463680" cy="42840"/>
              </a:xfrm>
              <a:prstGeom prst="rect">
                <a:avLst/>
              </a:prstGeom>
              <a:solidFill>
                <a:srgbClr val="99ccf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60" name=""/>
              <p:cNvSpPr/>
              <p:nvPr/>
            </p:nvSpPr>
            <p:spPr>
              <a:xfrm>
                <a:off x="4993920" y="1275120"/>
                <a:ext cx="165240" cy="162000"/>
              </a:xfrm>
              <a:custGeom>
                <a:avLst/>
                <a:gdLst/>
                <a:ahLst/>
                <a:rect l="l" t="t" r="r" b="b"/>
                <a:pathLst>
                  <a:path w="2909" h="2852">
                    <a:moveTo>
                      <a:pt x="0" y="1425"/>
                    </a:moveTo>
                    <a:lnTo>
                      <a:pt x="2" y="1499"/>
                    </a:lnTo>
                    <a:lnTo>
                      <a:pt x="8" y="1571"/>
                    </a:lnTo>
                    <a:lnTo>
                      <a:pt x="17" y="1643"/>
                    </a:lnTo>
                    <a:lnTo>
                      <a:pt x="30" y="1712"/>
                    </a:lnTo>
                    <a:lnTo>
                      <a:pt x="46" y="1782"/>
                    </a:lnTo>
                    <a:lnTo>
                      <a:pt x="65" y="1849"/>
                    </a:lnTo>
                    <a:lnTo>
                      <a:pt x="89" y="1916"/>
                    </a:lnTo>
                    <a:lnTo>
                      <a:pt x="115" y="1980"/>
                    </a:lnTo>
                    <a:lnTo>
                      <a:pt x="144" y="2044"/>
                    </a:lnTo>
                    <a:lnTo>
                      <a:pt x="176" y="2105"/>
                    </a:lnTo>
                    <a:lnTo>
                      <a:pt x="211" y="2165"/>
                    </a:lnTo>
                    <a:lnTo>
                      <a:pt x="249" y="2222"/>
                    </a:lnTo>
                    <a:lnTo>
                      <a:pt x="289" y="2279"/>
                    </a:lnTo>
                    <a:lnTo>
                      <a:pt x="333" y="2332"/>
                    </a:lnTo>
                    <a:lnTo>
                      <a:pt x="378" y="2384"/>
                    </a:lnTo>
                    <a:lnTo>
                      <a:pt x="426" y="2434"/>
                    </a:lnTo>
                    <a:lnTo>
                      <a:pt x="477" y="2481"/>
                    </a:lnTo>
                    <a:lnTo>
                      <a:pt x="530" y="2525"/>
                    </a:lnTo>
                    <a:lnTo>
                      <a:pt x="585" y="2568"/>
                    </a:lnTo>
                    <a:lnTo>
                      <a:pt x="642" y="2608"/>
                    </a:lnTo>
                    <a:lnTo>
                      <a:pt x="700" y="2645"/>
                    </a:lnTo>
                    <a:lnTo>
                      <a:pt x="762" y="2679"/>
                    </a:lnTo>
                    <a:lnTo>
                      <a:pt x="824" y="2711"/>
                    </a:lnTo>
                    <a:lnTo>
                      <a:pt x="889" y="2739"/>
                    </a:lnTo>
                    <a:lnTo>
                      <a:pt x="954" y="2765"/>
                    </a:lnTo>
                    <a:lnTo>
                      <a:pt x="1022" y="2787"/>
                    </a:lnTo>
                    <a:lnTo>
                      <a:pt x="1092" y="2806"/>
                    </a:lnTo>
                    <a:lnTo>
                      <a:pt x="1162" y="2823"/>
                    </a:lnTo>
                    <a:lnTo>
                      <a:pt x="1234" y="2836"/>
                    </a:lnTo>
                    <a:lnTo>
                      <a:pt x="1306" y="2845"/>
                    </a:lnTo>
                    <a:lnTo>
                      <a:pt x="1380" y="2850"/>
                    </a:lnTo>
                    <a:lnTo>
                      <a:pt x="1454" y="2852"/>
                    </a:lnTo>
                    <a:lnTo>
                      <a:pt x="1529" y="2850"/>
                    </a:lnTo>
                    <a:lnTo>
                      <a:pt x="1603" y="2845"/>
                    </a:lnTo>
                    <a:lnTo>
                      <a:pt x="1676" y="2836"/>
                    </a:lnTo>
                    <a:lnTo>
                      <a:pt x="1748" y="2823"/>
                    </a:lnTo>
                    <a:lnTo>
                      <a:pt x="1817" y="2806"/>
                    </a:lnTo>
                    <a:lnTo>
                      <a:pt x="1887" y="2787"/>
                    </a:lnTo>
                    <a:lnTo>
                      <a:pt x="1954" y="2765"/>
                    </a:lnTo>
                    <a:lnTo>
                      <a:pt x="2020" y="2739"/>
                    </a:lnTo>
                    <a:lnTo>
                      <a:pt x="2084" y="2711"/>
                    </a:lnTo>
                    <a:lnTo>
                      <a:pt x="2147" y="2679"/>
                    </a:lnTo>
                    <a:lnTo>
                      <a:pt x="2208" y="2645"/>
                    </a:lnTo>
                    <a:lnTo>
                      <a:pt x="2267" y="2608"/>
                    </a:lnTo>
                    <a:lnTo>
                      <a:pt x="2324" y="2568"/>
                    </a:lnTo>
                    <a:lnTo>
                      <a:pt x="2380" y="2525"/>
                    </a:lnTo>
                    <a:lnTo>
                      <a:pt x="2432" y="2481"/>
                    </a:lnTo>
                    <a:lnTo>
                      <a:pt x="2483" y="2434"/>
                    </a:lnTo>
                    <a:lnTo>
                      <a:pt x="2531" y="2384"/>
                    </a:lnTo>
                    <a:lnTo>
                      <a:pt x="2576" y="2332"/>
                    </a:lnTo>
                    <a:lnTo>
                      <a:pt x="2620" y="2279"/>
                    </a:lnTo>
                    <a:lnTo>
                      <a:pt x="2660" y="2222"/>
                    </a:lnTo>
                    <a:lnTo>
                      <a:pt x="2698" y="2165"/>
                    </a:lnTo>
                    <a:lnTo>
                      <a:pt x="2734" y="2105"/>
                    </a:lnTo>
                    <a:lnTo>
                      <a:pt x="2766" y="2044"/>
                    </a:lnTo>
                    <a:lnTo>
                      <a:pt x="2795" y="1980"/>
                    </a:lnTo>
                    <a:lnTo>
                      <a:pt x="2820" y="1916"/>
                    </a:lnTo>
                    <a:lnTo>
                      <a:pt x="2843" y="1849"/>
                    </a:lnTo>
                    <a:lnTo>
                      <a:pt x="2864" y="1782"/>
                    </a:lnTo>
                    <a:lnTo>
                      <a:pt x="2880" y="1712"/>
                    </a:lnTo>
                    <a:lnTo>
                      <a:pt x="2893" y="1643"/>
                    </a:lnTo>
                    <a:lnTo>
                      <a:pt x="2902" y="1571"/>
                    </a:lnTo>
                    <a:lnTo>
                      <a:pt x="2907" y="1499"/>
                    </a:lnTo>
                    <a:lnTo>
                      <a:pt x="2909" y="1425"/>
                    </a:lnTo>
                    <a:lnTo>
                      <a:pt x="2907" y="1353"/>
                    </a:lnTo>
                    <a:lnTo>
                      <a:pt x="2902" y="1280"/>
                    </a:lnTo>
                    <a:lnTo>
                      <a:pt x="2893" y="1209"/>
                    </a:lnTo>
                    <a:lnTo>
                      <a:pt x="2880" y="1139"/>
                    </a:lnTo>
                    <a:lnTo>
                      <a:pt x="2864" y="1070"/>
                    </a:lnTo>
                    <a:lnTo>
                      <a:pt x="2843" y="1002"/>
                    </a:lnTo>
                    <a:lnTo>
                      <a:pt x="2820" y="936"/>
                    </a:lnTo>
                    <a:lnTo>
                      <a:pt x="2795" y="871"/>
                    </a:lnTo>
                    <a:lnTo>
                      <a:pt x="2766" y="809"/>
                    </a:lnTo>
                    <a:lnTo>
                      <a:pt x="2734" y="747"/>
                    </a:lnTo>
                    <a:lnTo>
                      <a:pt x="2698" y="687"/>
                    </a:lnTo>
                    <a:lnTo>
                      <a:pt x="2660" y="629"/>
                    </a:lnTo>
                    <a:lnTo>
                      <a:pt x="2620" y="573"/>
                    </a:lnTo>
                    <a:lnTo>
                      <a:pt x="2576" y="520"/>
                    </a:lnTo>
                    <a:lnTo>
                      <a:pt x="2531" y="467"/>
                    </a:lnTo>
                    <a:lnTo>
                      <a:pt x="2483" y="418"/>
                    </a:lnTo>
                    <a:lnTo>
                      <a:pt x="2432" y="370"/>
                    </a:lnTo>
                    <a:lnTo>
                      <a:pt x="2380" y="326"/>
                    </a:lnTo>
                    <a:lnTo>
                      <a:pt x="2324" y="284"/>
                    </a:lnTo>
                    <a:lnTo>
                      <a:pt x="2267" y="244"/>
                    </a:lnTo>
                    <a:lnTo>
                      <a:pt x="2208" y="206"/>
                    </a:lnTo>
                    <a:lnTo>
                      <a:pt x="2147" y="172"/>
                    </a:lnTo>
                    <a:lnTo>
                      <a:pt x="2084" y="141"/>
                    </a:lnTo>
                    <a:lnTo>
                      <a:pt x="2020" y="113"/>
                    </a:lnTo>
                    <a:lnTo>
                      <a:pt x="1954" y="86"/>
                    </a:lnTo>
                    <a:lnTo>
                      <a:pt x="1887" y="64"/>
                    </a:lnTo>
                    <a:lnTo>
                      <a:pt x="1817" y="45"/>
                    </a:lnTo>
                    <a:lnTo>
                      <a:pt x="1748" y="29"/>
                    </a:lnTo>
                    <a:lnTo>
                      <a:pt x="1676" y="17"/>
                    </a:lnTo>
                    <a:lnTo>
                      <a:pt x="1603" y="8"/>
                    </a:lnTo>
                    <a:lnTo>
                      <a:pt x="1529" y="2"/>
                    </a:lnTo>
                    <a:lnTo>
                      <a:pt x="1454" y="0"/>
                    </a:lnTo>
                    <a:lnTo>
                      <a:pt x="1380" y="2"/>
                    </a:lnTo>
                    <a:lnTo>
                      <a:pt x="1306" y="8"/>
                    </a:lnTo>
                    <a:lnTo>
                      <a:pt x="1234" y="17"/>
                    </a:lnTo>
                    <a:lnTo>
                      <a:pt x="1162" y="29"/>
                    </a:lnTo>
                    <a:lnTo>
                      <a:pt x="1092" y="45"/>
                    </a:lnTo>
                    <a:lnTo>
                      <a:pt x="1022" y="64"/>
                    </a:lnTo>
                    <a:lnTo>
                      <a:pt x="954" y="86"/>
                    </a:lnTo>
                    <a:lnTo>
                      <a:pt x="889" y="113"/>
                    </a:lnTo>
                    <a:lnTo>
                      <a:pt x="824" y="141"/>
                    </a:lnTo>
                    <a:lnTo>
                      <a:pt x="762" y="172"/>
                    </a:lnTo>
                    <a:lnTo>
                      <a:pt x="700" y="206"/>
                    </a:lnTo>
                    <a:lnTo>
                      <a:pt x="642" y="244"/>
                    </a:lnTo>
                    <a:lnTo>
                      <a:pt x="585" y="284"/>
                    </a:lnTo>
                    <a:lnTo>
                      <a:pt x="530" y="326"/>
                    </a:lnTo>
                    <a:lnTo>
                      <a:pt x="477" y="370"/>
                    </a:lnTo>
                    <a:lnTo>
                      <a:pt x="426" y="418"/>
                    </a:lnTo>
                    <a:lnTo>
                      <a:pt x="378" y="467"/>
                    </a:lnTo>
                    <a:lnTo>
                      <a:pt x="333" y="520"/>
                    </a:lnTo>
                    <a:lnTo>
                      <a:pt x="289" y="573"/>
                    </a:lnTo>
                    <a:lnTo>
                      <a:pt x="249" y="629"/>
                    </a:lnTo>
                    <a:lnTo>
                      <a:pt x="211" y="687"/>
                    </a:lnTo>
                    <a:lnTo>
                      <a:pt x="176" y="747"/>
                    </a:lnTo>
                    <a:lnTo>
                      <a:pt x="144" y="809"/>
                    </a:lnTo>
                    <a:lnTo>
                      <a:pt x="115" y="871"/>
                    </a:lnTo>
                    <a:lnTo>
                      <a:pt x="89" y="936"/>
                    </a:lnTo>
                    <a:lnTo>
                      <a:pt x="65" y="1002"/>
                    </a:lnTo>
                    <a:lnTo>
                      <a:pt x="46" y="1070"/>
                    </a:lnTo>
                    <a:lnTo>
                      <a:pt x="30" y="1139"/>
                    </a:lnTo>
                    <a:lnTo>
                      <a:pt x="17" y="1209"/>
                    </a:lnTo>
                    <a:lnTo>
                      <a:pt x="8" y="1280"/>
                    </a:lnTo>
                    <a:lnTo>
                      <a:pt x="2" y="1353"/>
                    </a:lnTo>
                    <a:lnTo>
                      <a:pt x="0" y="14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5014800" y="1295640"/>
                <a:ext cx="123840" cy="122400"/>
              </a:xfrm>
              <a:custGeom>
                <a:avLst/>
                <a:gdLst/>
                <a:ahLst/>
                <a:rect l="l" t="t" r="r" b="b"/>
                <a:pathLst>
                  <a:path w="2196" h="2153">
                    <a:moveTo>
                      <a:pt x="0" y="1076"/>
                    </a:moveTo>
                    <a:lnTo>
                      <a:pt x="1" y="1132"/>
                    </a:lnTo>
                    <a:lnTo>
                      <a:pt x="5" y="1187"/>
                    </a:lnTo>
                    <a:lnTo>
                      <a:pt x="12" y="1240"/>
                    </a:lnTo>
                    <a:lnTo>
                      <a:pt x="22" y="1294"/>
                    </a:lnTo>
                    <a:lnTo>
                      <a:pt x="34" y="1345"/>
                    </a:lnTo>
                    <a:lnTo>
                      <a:pt x="49" y="1397"/>
                    </a:lnTo>
                    <a:lnTo>
                      <a:pt x="66" y="1447"/>
                    </a:lnTo>
                    <a:lnTo>
                      <a:pt x="85" y="1495"/>
                    </a:lnTo>
                    <a:lnTo>
                      <a:pt x="108" y="1543"/>
                    </a:lnTo>
                    <a:lnTo>
                      <a:pt x="132" y="1590"/>
                    </a:lnTo>
                    <a:lnTo>
                      <a:pt x="158" y="1634"/>
                    </a:lnTo>
                    <a:lnTo>
                      <a:pt x="187" y="1679"/>
                    </a:lnTo>
                    <a:lnTo>
                      <a:pt x="217" y="1721"/>
                    </a:lnTo>
                    <a:lnTo>
                      <a:pt x="251" y="1761"/>
                    </a:lnTo>
                    <a:lnTo>
                      <a:pt x="285" y="1801"/>
                    </a:lnTo>
                    <a:lnTo>
                      <a:pt x="321" y="1838"/>
                    </a:lnTo>
                    <a:lnTo>
                      <a:pt x="360" y="1873"/>
                    </a:lnTo>
                    <a:lnTo>
                      <a:pt x="399" y="1907"/>
                    </a:lnTo>
                    <a:lnTo>
                      <a:pt x="441" y="1940"/>
                    </a:lnTo>
                    <a:lnTo>
                      <a:pt x="484" y="1969"/>
                    </a:lnTo>
                    <a:lnTo>
                      <a:pt x="529" y="1997"/>
                    </a:lnTo>
                    <a:lnTo>
                      <a:pt x="574" y="2023"/>
                    </a:lnTo>
                    <a:lnTo>
                      <a:pt x="622" y="2047"/>
                    </a:lnTo>
                    <a:lnTo>
                      <a:pt x="670" y="2069"/>
                    </a:lnTo>
                    <a:lnTo>
                      <a:pt x="720" y="2088"/>
                    </a:lnTo>
                    <a:lnTo>
                      <a:pt x="771" y="2105"/>
                    </a:lnTo>
                    <a:lnTo>
                      <a:pt x="823" y="2120"/>
                    </a:lnTo>
                    <a:lnTo>
                      <a:pt x="877" y="2131"/>
                    </a:lnTo>
                    <a:lnTo>
                      <a:pt x="930" y="2141"/>
                    </a:lnTo>
                    <a:lnTo>
                      <a:pt x="986" y="2148"/>
                    </a:lnTo>
                    <a:lnTo>
                      <a:pt x="1041" y="2152"/>
                    </a:lnTo>
                    <a:lnTo>
                      <a:pt x="1097" y="2153"/>
                    </a:lnTo>
                    <a:lnTo>
                      <a:pt x="1154" y="2152"/>
                    </a:lnTo>
                    <a:lnTo>
                      <a:pt x="1209" y="2148"/>
                    </a:lnTo>
                    <a:lnTo>
                      <a:pt x="1265" y="2141"/>
                    </a:lnTo>
                    <a:lnTo>
                      <a:pt x="1318" y="2131"/>
                    </a:lnTo>
                    <a:lnTo>
                      <a:pt x="1372" y="2120"/>
                    </a:lnTo>
                    <a:lnTo>
                      <a:pt x="1424" y="2105"/>
                    </a:lnTo>
                    <a:lnTo>
                      <a:pt x="1474" y="2088"/>
                    </a:lnTo>
                    <a:lnTo>
                      <a:pt x="1525" y="2069"/>
                    </a:lnTo>
                    <a:lnTo>
                      <a:pt x="1573" y="2047"/>
                    </a:lnTo>
                    <a:lnTo>
                      <a:pt x="1621" y="2023"/>
                    </a:lnTo>
                    <a:lnTo>
                      <a:pt x="1667" y="1997"/>
                    </a:lnTo>
                    <a:lnTo>
                      <a:pt x="1711" y="1969"/>
                    </a:lnTo>
                    <a:lnTo>
                      <a:pt x="1755" y="1940"/>
                    </a:lnTo>
                    <a:lnTo>
                      <a:pt x="1796" y="1907"/>
                    </a:lnTo>
                    <a:lnTo>
                      <a:pt x="1835" y="1873"/>
                    </a:lnTo>
                    <a:lnTo>
                      <a:pt x="1874" y="1838"/>
                    </a:lnTo>
                    <a:lnTo>
                      <a:pt x="1910" y="1801"/>
                    </a:lnTo>
                    <a:lnTo>
                      <a:pt x="1945" y="1761"/>
                    </a:lnTo>
                    <a:lnTo>
                      <a:pt x="1977" y="1721"/>
                    </a:lnTo>
                    <a:lnTo>
                      <a:pt x="2008" y="1679"/>
                    </a:lnTo>
                    <a:lnTo>
                      <a:pt x="2037" y="1634"/>
                    </a:lnTo>
                    <a:lnTo>
                      <a:pt x="2063" y="1590"/>
                    </a:lnTo>
                    <a:lnTo>
                      <a:pt x="2087" y="1543"/>
                    </a:lnTo>
                    <a:lnTo>
                      <a:pt x="2109" y="1495"/>
                    </a:lnTo>
                    <a:lnTo>
                      <a:pt x="2130" y="1447"/>
                    </a:lnTo>
                    <a:lnTo>
                      <a:pt x="2147" y="1397"/>
                    </a:lnTo>
                    <a:lnTo>
                      <a:pt x="2161" y="1345"/>
                    </a:lnTo>
                    <a:lnTo>
                      <a:pt x="2174" y="1294"/>
                    </a:lnTo>
                    <a:lnTo>
                      <a:pt x="2183" y="1240"/>
                    </a:lnTo>
                    <a:lnTo>
                      <a:pt x="2190" y="1187"/>
                    </a:lnTo>
                    <a:lnTo>
                      <a:pt x="2194" y="1132"/>
                    </a:lnTo>
                    <a:lnTo>
                      <a:pt x="2196" y="1076"/>
                    </a:lnTo>
                    <a:lnTo>
                      <a:pt x="2194" y="1022"/>
                    </a:lnTo>
                    <a:lnTo>
                      <a:pt x="2190" y="966"/>
                    </a:lnTo>
                    <a:lnTo>
                      <a:pt x="2183" y="913"/>
                    </a:lnTo>
                    <a:lnTo>
                      <a:pt x="2174" y="860"/>
                    </a:lnTo>
                    <a:lnTo>
                      <a:pt x="2161" y="808"/>
                    </a:lnTo>
                    <a:lnTo>
                      <a:pt x="2147" y="757"/>
                    </a:lnTo>
                    <a:lnTo>
                      <a:pt x="2130" y="707"/>
                    </a:lnTo>
                    <a:lnTo>
                      <a:pt x="2109" y="658"/>
                    </a:lnTo>
                    <a:lnTo>
                      <a:pt x="2087" y="611"/>
                    </a:lnTo>
                    <a:lnTo>
                      <a:pt x="2063" y="564"/>
                    </a:lnTo>
                    <a:lnTo>
                      <a:pt x="2037" y="519"/>
                    </a:lnTo>
                    <a:lnTo>
                      <a:pt x="2008" y="475"/>
                    </a:lnTo>
                    <a:lnTo>
                      <a:pt x="1977" y="434"/>
                    </a:lnTo>
                    <a:lnTo>
                      <a:pt x="1945" y="392"/>
                    </a:lnTo>
                    <a:lnTo>
                      <a:pt x="1910" y="353"/>
                    </a:lnTo>
                    <a:lnTo>
                      <a:pt x="1874" y="316"/>
                    </a:lnTo>
                    <a:lnTo>
                      <a:pt x="1835" y="280"/>
                    </a:lnTo>
                    <a:lnTo>
                      <a:pt x="1796" y="246"/>
                    </a:lnTo>
                    <a:lnTo>
                      <a:pt x="1755" y="214"/>
                    </a:lnTo>
                    <a:lnTo>
                      <a:pt x="1711" y="185"/>
                    </a:lnTo>
                    <a:lnTo>
                      <a:pt x="1667" y="156"/>
                    </a:lnTo>
                    <a:lnTo>
                      <a:pt x="1621" y="130"/>
                    </a:lnTo>
                    <a:lnTo>
                      <a:pt x="1573" y="106"/>
                    </a:lnTo>
                    <a:lnTo>
                      <a:pt x="1525" y="85"/>
                    </a:lnTo>
                    <a:lnTo>
                      <a:pt x="1474" y="66"/>
                    </a:lnTo>
                    <a:lnTo>
                      <a:pt x="1424" y="49"/>
                    </a:lnTo>
                    <a:lnTo>
                      <a:pt x="1372" y="35"/>
                    </a:lnTo>
                    <a:lnTo>
                      <a:pt x="1318" y="23"/>
                    </a:lnTo>
                    <a:lnTo>
                      <a:pt x="1265" y="12"/>
                    </a:lnTo>
                    <a:lnTo>
                      <a:pt x="1209" y="5"/>
                    </a:lnTo>
                    <a:lnTo>
                      <a:pt x="1154" y="1"/>
                    </a:lnTo>
                    <a:lnTo>
                      <a:pt x="1097" y="0"/>
                    </a:lnTo>
                    <a:lnTo>
                      <a:pt x="1041" y="1"/>
                    </a:lnTo>
                    <a:lnTo>
                      <a:pt x="986" y="5"/>
                    </a:lnTo>
                    <a:lnTo>
                      <a:pt x="930" y="12"/>
                    </a:lnTo>
                    <a:lnTo>
                      <a:pt x="877" y="23"/>
                    </a:lnTo>
                    <a:lnTo>
                      <a:pt x="823" y="35"/>
                    </a:lnTo>
                    <a:lnTo>
                      <a:pt x="771" y="49"/>
                    </a:lnTo>
                    <a:lnTo>
                      <a:pt x="720" y="66"/>
                    </a:lnTo>
                    <a:lnTo>
                      <a:pt x="670" y="85"/>
                    </a:lnTo>
                    <a:lnTo>
                      <a:pt x="622" y="106"/>
                    </a:lnTo>
                    <a:lnTo>
                      <a:pt x="574" y="130"/>
                    </a:lnTo>
                    <a:lnTo>
                      <a:pt x="529" y="156"/>
                    </a:lnTo>
                    <a:lnTo>
                      <a:pt x="484" y="185"/>
                    </a:lnTo>
                    <a:lnTo>
                      <a:pt x="441" y="214"/>
                    </a:lnTo>
                    <a:lnTo>
                      <a:pt x="399" y="246"/>
                    </a:lnTo>
                    <a:lnTo>
                      <a:pt x="360" y="280"/>
                    </a:lnTo>
                    <a:lnTo>
                      <a:pt x="321" y="316"/>
                    </a:lnTo>
                    <a:lnTo>
                      <a:pt x="285" y="353"/>
                    </a:lnTo>
                    <a:lnTo>
                      <a:pt x="251" y="392"/>
                    </a:lnTo>
                    <a:lnTo>
                      <a:pt x="217" y="434"/>
                    </a:lnTo>
                    <a:lnTo>
                      <a:pt x="187" y="475"/>
                    </a:lnTo>
                    <a:lnTo>
                      <a:pt x="158" y="519"/>
                    </a:lnTo>
                    <a:lnTo>
                      <a:pt x="132" y="564"/>
                    </a:lnTo>
                    <a:lnTo>
                      <a:pt x="108" y="611"/>
                    </a:lnTo>
                    <a:lnTo>
                      <a:pt x="85" y="658"/>
                    </a:lnTo>
                    <a:lnTo>
                      <a:pt x="66" y="707"/>
                    </a:lnTo>
                    <a:lnTo>
                      <a:pt x="49" y="757"/>
                    </a:lnTo>
                    <a:lnTo>
                      <a:pt x="34" y="808"/>
                    </a:lnTo>
                    <a:lnTo>
                      <a:pt x="22" y="860"/>
                    </a:lnTo>
                    <a:lnTo>
                      <a:pt x="12" y="913"/>
                    </a:lnTo>
                    <a:lnTo>
                      <a:pt x="5" y="966"/>
                    </a:lnTo>
                    <a:lnTo>
                      <a:pt x="1" y="1022"/>
                    </a:lnTo>
                    <a:lnTo>
                      <a:pt x="0" y="10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5036760" y="1319400"/>
                <a:ext cx="87480" cy="57240"/>
              </a:xfrm>
              <a:custGeom>
                <a:avLst/>
                <a:gdLst/>
                <a:ahLst/>
                <a:rect l="l" t="t" r="r" b="b"/>
                <a:pathLst>
                  <a:path w="1535" h="992">
                    <a:moveTo>
                      <a:pt x="696" y="631"/>
                    </a:moveTo>
                    <a:lnTo>
                      <a:pt x="636" y="577"/>
                    </a:lnTo>
                    <a:lnTo>
                      <a:pt x="559" y="507"/>
                    </a:lnTo>
                    <a:lnTo>
                      <a:pt x="474" y="431"/>
                    </a:lnTo>
                    <a:lnTo>
                      <a:pt x="387" y="352"/>
                    </a:lnTo>
                    <a:lnTo>
                      <a:pt x="306" y="280"/>
                    </a:lnTo>
                    <a:lnTo>
                      <a:pt x="240" y="219"/>
                    </a:lnTo>
                    <a:lnTo>
                      <a:pt x="193" y="178"/>
                    </a:lnTo>
                    <a:lnTo>
                      <a:pt x="176" y="162"/>
                    </a:lnTo>
                    <a:lnTo>
                      <a:pt x="0" y="358"/>
                    </a:lnTo>
                    <a:lnTo>
                      <a:pt x="702" y="992"/>
                    </a:lnTo>
                    <a:lnTo>
                      <a:pt x="1535" y="190"/>
                    </a:lnTo>
                    <a:lnTo>
                      <a:pt x="1352" y="0"/>
                    </a:lnTo>
                    <a:lnTo>
                      <a:pt x="1329" y="22"/>
                    </a:lnTo>
                    <a:lnTo>
                      <a:pt x="1269" y="80"/>
                    </a:lnTo>
                    <a:lnTo>
                      <a:pt x="1181" y="165"/>
                    </a:lnTo>
                    <a:lnTo>
                      <a:pt x="1075" y="266"/>
                    </a:lnTo>
                    <a:lnTo>
                      <a:pt x="965" y="373"/>
                    </a:lnTo>
                    <a:lnTo>
                      <a:pt x="857" y="476"/>
                    </a:lnTo>
                    <a:lnTo>
                      <a:pt x="764" y="566"/>
                    </a:lnTo>
                    <a:lnTo>
                      <a:pt x="696" y="63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sp>
          <p:nvSpPr>
            <p:cNvPr id="429" name=""/>
            <p:cNvSpPr/>
            <p:nvPr/>
          </p:nvSpPr>
          <p:spPr>
            <a:xfrm>
              <a:off x="4919400" y="1959120"/>
              <a:ext cx="287280" cy="71280"/>
            </a:xfrm>
            <a:prstGeom prst="rect">
              <a:avLst/>
            </a:prstGeom>
            <a:noFill/>
            <a:ln w="0">
              <a:noFill/>
            </a:ln>
          </p:spPr>
          <p:style>
            <a:lnRef idx="0"/>
            <a:fillRef idx="0"/>
            <a:effectRef idx="0"/>
            <a:fontRef idx="minor"/>
          </p:style>
          <p:txBody>
            <a:bodyPr wrap="none" lIns="90000" rIns="90000" tIns="24480" bIns="24480" anchor="ctr">
              <a:noAutofit/>
            </a:bodyPr>
            <a:p>
              <a:endParaRPr b="0" lang="en-US" sz="1800" spc="-1" strike="noStrike">
                <a:solidFill>
                  <a:srgbClr val="ffffff"/>
                </a:solidFill>
                <a:latin typeface="Arial"/>
              </a:endParaRPr>
            </a:p>
          </p:txBody>
        </p:sp>
      </p:grpSp>
      <p:cxnSp>
        <p:nvCxnSpPr>
          <p:cNvPr id="463" name=""/>
          <p:cNvCxnSpPr>
            <a:stCxn id="340" idx="0"/>
            <a:endCxn id="367" idx="4"/>
          </p:cNvCxnSpPr>
          <p:nvPr/>
        </p:nvCxnSpPr>
        <p:spPr>
          <a:xfrm flipV="1" rot="16200000">
            <a:off x="2698200" y="4926960"/>
            <a:ext cx="433800" cy="865800"/>
          </a:xfrm>
          <a:prstGeom prst="bentConnector3">
            <a:avLst>
              <a:gd name="adj1" fmla="val 49750"/>
            </a:avLst>
          </a:prstGeom>
          <a:ln w="28440">
            <a:solidFill>
              <a:srgbClr val="cc6600"/>
            </a:solidFill>
            <a:miter/>
            <a:headEnd len="med" type="triangle" w="med"/>
            <a:tailEnd len="med" type="triangle" w="med"/>
          </a:ln>
        </p:spPr>
      </p:cxnSp>
      <p:cxnSp>
        <p:nvCxnSpPr>
          <p:cNvPr id="464" name=""/>
          <p:cNvCxnSpPr>
            <a:stCxn id="340" idx="0"/>
            <a:endCxn id="337" idx="4"/>
          </p:cNvCxnSpPr>
          <p:nvPr/>
        </p:nvCxnSpPr>
        <p:spPr>
          <a:xfrm flipV="1" rot="16200000">
            <a:off x="3130200" y="5358600"/>
            <a:ext cx="433800" cy="2160"/>
          </a:xfrm>
          <a:prstGeom prst="bentConnector3">
            <a:avLst>
              <a:gd name="adj1" fmla="val 49750"/>
            </a:avLst>
          </a:prstGeom>
          <a:ln w="28440">
            <a:solidFill>
              <a:srgbClr val="cc6600"/>
            </a:solidFill>
            <a:miter/>
            <a:headEnd len="med" type="triangle" w="med"/>
            <a:tailEnd len="med" type="triangle" w="med"/>
          </a:ln>
        </p:spPr>
      </p:cxnSp>
      <p:cxnSp>
        <p:nvCxnSpPr>
          <p:cNvPr id="465" name=""/>
          <p:cNvCxnSpPr>
            <a:stCxn id="340" idx="0"/>
            <a:endCxn id="368" idx="4"/>
          </p:cNvCxnSpPr>
          <p:nvPr/>
        </p:nvCxnSpPr>
        <p:spPr>
          <a:xfrm flipH="1" flipV="1" rot="5400000">
            <a:off x="3562200" y="4928400"/>
            <a:ext cx="433800" cy="862920"/>
          </a:xfrm>
          <a:prstGeom prst="bentConnector3">
            <a:avLst>
              <a:gd name="adj1" fmla="val 49750"/>
            </a:avLst>
          </a:prstGeom>
          <a:ln w="28440">
            <a:solidFill>
              <a:srgbClr val="cc6600"/>
            </a:solidFill>
            <a:miter/>
            <a:headEnd len="med" type="triangle" w="med"/>
            <a:tailEnd len="med" type="triangle" w="med"/>
          </a:ln>
        </p:spPr>
      </p:cxnSp>
      <p:sp>
        <p:nvSpPr>
          <p:cNvPr id="466" name=""/>
          <p:cNvSpPr/>
          <p:nvPr/>
        </p:nvSpPr>
        <p:spPr>
          <a:xfrm>
            <a:off x="1512720" y="2838600"/>
            <a:ext cx="1152720" cy="0"/>
          </a:xfrm>
          <a:prstGeom prst="line">
            <a:avLst/>
          </a:prstGeom>
          <a:ln w="284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7" name=""/>
          <p:cNvSpPr/>
          <p:nvPr/>
        </p:nvSpPr>
        <p:spPr>
          <a:xfrm>
            <a:off x="1512720" y="3848040"/>
            <a:ext cx="503280" cy="0"/>
          </a:xfrm>
          <a:prstGeom prst="line">
            <a:avLst/>
          </a:prstGeom>
          <a:ln w="284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8" name=""/>
          <p:cNvSpPr/>
          <p:nvPr/>
        </p:nvSpPr>
        <p:spPr>
          <a:xfrm>
            <a:off x="1512720" y="4856040"/>
            <a:ext cx="503280" cy="0"/>
          </a:xfrm>
          <a:prstGeom prst="line">
            <a:avLst/>
          </a:prstGeom>
          <a:ln w="284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9" name=""/>
          <p:cNvSpPr/>
          <p:nvPr/>
        </p:nvSpPr>
        <p:spPr>
          <a:xfrm>
            <a:off x="1224000" y="750960"/>
            <a:ext cx="1368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upermarket Chain</a:t>
            </a:r>
            <a:endParaRPr b="0" lang="en-US" sz="1400" spc="-1" strike="noStrike">
              <a:solidFill>
                <a:srgbClr val="ffffff"/>
              </a:solidFill>
              <a:latin typeface="Arial"/>
            </a:endParaRPr>
          </a:p>
        </p:txBody>
      </p:sp>
      <p:sp>
        <p:nvSpPr>
          <p:cNvPr id="470" name=""/>
          <p:cNvSpPr/>
          <p:nvPr/>
        </p:nvSpPr>
        <p:spPr>
          <a:xfrm>
            <a:off x="2736720" y="750960"/>
            <a:ext cx="1368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ndependent Retailer</a:t>
            </a:r>
            <a:endParaRPr b="0" lang="en-US" sz="1400" spc="-1" strike="noStrike">
              <a:solidFill>
                <a:srgbClr val="ffffff"/>
              </a:solidFill>
              <a:latin typeface="Arial"/>
            </a:endParaRPr>
          </a:p>
        </p:txBody>
      </p:sp>
      <p:sp>
        <p:nvSpPr>
          <p:cNvPr id="471" name=""/>
          <p:cNvSpPr/>
          <p:nvPr/>
        </p:nvSpPr>
        <p:spPr>
          <a:xfrm>
            <a:off x="4427640" y="907920"/>
            <a:ext cx="1368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orporate</a:t>
            </a:r>
            <a:br>
              <a:rPr sz="1400"/>
            </a:br>
            <a:r>
              <a:rPr b="1" lang="en-GB" sz="1400" spc="-1" strike="noStrike">
                <a:solidFill>
                  <a:srgbClr val="ffffff"/>
                </a:solidFill>
                <a:latin typeface="Arial"/>
              </a:rPr>
              <a:t>Procurement</a:t>
            </a:r>
            <a:endParaRPr b="0" lang="en-US" sz="1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 view: The Enterprise Service Bus</a:t>
            </a:r>
            <a:endParaRPr b="0" lang="en-US" sz="2800" spc="-1" strike="noStrike">
              <a:solidFill>
                <a:srgbClr val="7889fb"/>
              </a:solidFill>
              <a:latin typeface="Arial"/>
            </a:endParaRPr>
          </a:p>
        </p:txBody>
      </p:sp>
      <p:pic>
        <p:nvPicPr>
          <p:cNvPr id="473" name="" descr=""/>
          <p:cNvPicPr/>
          <p:nvPr/>
        </p:nvPicPr>
        <p:blipFill>
          <a:blip r:embed="rId1"/>
          <a:stretch/>
        </p:blipFill>
        <p:spPr>
          <a:xfrm>
            <a:off x="0" y="1295280"/>
            <a:ext cx="9144000" cy="5139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4" name="" descr=""/>
          <p:cNvPicPr/>
          <p:nvPr/>
        </p:nvPicPr>
        <p:blipFill>
          <a:blip r:embed="rId1"/>
          <a:stretch/>
        </p:blipFill>
        <p:spPr>
          <a:xfrm>
            <a:off x="1465200" y="1603440"/>
            <a:ext cx="5619960" cy="3171600"/>
          </a:xfrm>
          <a:prstGeom prst="rect">
            <a:avLst/>
          </a:prstGeom>
          <a:ln w="0">
            <a:noFill/>
          </a:ln>
        </p:spPr>
      </p:pic>
      <p:sp>
        <p:nvSpPr>
          <p:cNvPr id="47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nterprise Service Bus Defining Concepts – the IBM View</a:t>
            </a:r>
            <a:endParaRPr b="0" lang="en-US" sz="2800" spc="-1" strike="noStrike">
              <a:solidFill>
                <a:srgbClr val="7889fb"/>
              </a:solidFill>
              <a:latin typeface="Arial"/>
            </a:endParaRPr>
          </a:p>
        </p:txBody>
      </p:sp>
      <p:sp>
        <p:nvSpPr>
          <p:cNvPr id="476" name=""/>
          <p:cNvSpPr/>
          <p:nvPr/>
        </p:nvSpPr>
        <p:spPr>
          <a:xfrm>
            <a:off x="179280" y="2349360"/>
            <a:ext cx="2563920" cy="91260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ice Orientation</a:t>
            </a:r>
            <a:r>
              <a:rPr b="0" lang="en-GB" sz="1600" spc="-1" strike="noStrike">
                <a:solidFill>
                  <a:srgbClr val="000000"/>
                </a:solidFill>
                <a:latin typeface="Arial"/>
              </a:rPr>
              <a:t> </a:t>
            </a:r>
            <a:r>
              <a:rPr b="0" lang="en-GB" sz="1400" spc="-1" strike="noStrike">
                <a:solidFill>
                  <a:srgbClr val="000000"/>
                </a:solidFill>
                <a:latin typeface="Arial"/>
              </a:rPr>
              <a:t>Middleware that facilitates loose coupling between software components</a:t>
            </a:r>
            <a:r>
              <a:rPr b="0" lang="en-GB" sz="1600" spc="-1" strike="noStrike">
                <a:solidFill>
                  <a:srgbClr val="000000"/>
                </a:solidFill>
                <a:latin typeface="Arial"/>
              </a:rPr>
              <a:t>.</a:t>
            </a:r>
            <a:endParaRPr b="0" lang="en-US" sz="1600" spc="-1" strike="noStrike">
              <a:solidFill>
                <a:srgbClr val="ffffff"/>
              </a:solidFill>
              <a:latin typeface="Arial"/>
            </a:endParaRPr>
          </a:p>
        </p:txBody>
      </p:sp>
      <p:sp>
        <p:nvSpPr>
          <p:cNvPr id="477" name=""/>
          <p:cNvSpPr/>
          <p:nvPr/>
        </p:nvSpPr>
        <p:spPr>
          <a:xfrm>
            <a:off x="152280" y="5229360"/>
            <a:ext cx="3059280" cy="88524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teroperability</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pen protocols support the interoperability of middleware from multiple vendors.</a:t>
            </a:r>
            <a:endParaRPr b="0" lang="en-US" sz="1400" spc="-1" strike="noStrike">
              <a:solidFill>
                <a:srgbClr val="ffffff"/>
              </a:solidFill>
              <a:latin typeface="Arial"/>
            </a:endParaRPr>
          </a:p>
        </p:txBody>
      </p:sp>
      <p:sp>
        <p:nvSpPr>
          <p:cNvPr id="478" name=""/>
          <p:cNvSpPr/>
          <p:nvPr/>
        </p:nvSpPr>
        <p:spPr>
          <a:xfrm>
            <a:off x="6126120" y="2347920"/>
            <a:ext cx="2941560" cy="107676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cremental Integration</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distribution of low-function message brokers to provide low initial costs and step by step growth capabilities.</a:t>
            </a:r>
            <a:endParaRPr b="0" lang="en-US" sz="1400" spc="-1" strike="noStrike">
              <a:solidFill>
                <a:srgbClr val="ffffff"/>
              </a:solidFill>
              <a:latin typeface="Arial"/>
            </a:endParaRPr>
          </a:p>
        </p:txBody>
      </p:sp>
      <p:sp>
        <p:nvSpPr>
          <p:cNvPr id="479" name=""/>
          <p:cNvSpPr/>
          <p:nvPr/>
        </p:nvSpPr>
        <p:spPr>
          <a:xfrm>
            <a:off x="3529080" y="1125360"/>
            <a:ext cx="4319640" cy="107676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eterogeneity</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egrated, multi-protocol, multi-API, message distribution, routing and processing middleware to support extremely diverse systems and applications.</a:t>
            </a:r>
            <a:endParaRPr b="0" lang="en-US" sz="1400" spc="-1" strike="noStrike">
              <a:solidFill>
                <a:srgbClr val="ffffff"/>
              </a:solidFill>
              <a:latin typeface="Arial"/>
            </a:endParaRPr>
          </a:p>
        </p:txBody>
      </p:sp>
      <p:sp>
        <p:nvSpPr>
          <p:cNvPr id="480" name=""/>
          <p:cNvSpPr/>
          <p:nvPr/>
        </p:nvSpPr>
        <p:spPr>
          <a:xfrm>
            <a:off x="3657600" y="5373720"/>
            <a:ext cx="2438280" cy="88524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bstitution</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pen APIs allow the substitution of middleware from different vendors.</a:t>
            </a:r>
            <a:endParaRPr b="0" lang="en-US" sz="1400" spc="-1" strike="noStrike">
              <a:solidFill>
                <a:srgbClr val="ffffff"/>
              </a:solidFill>
              <a:latin typeface="Arial"/>
            </a:endParaRPr>
          </a:p>
        </p:txBody>
      </p:sp>
      <p:sp>
        <p:nvSpPr>
          <p:cNvPr id="481" name=""/>
          <p:cNvSpPr/>
          <p:nvPr/>
        </p:nvSpPr>
        <p:spPr>
          <a:xfrm>
            <a:off x="179280" y="3692520"/>
            <a:ext cx="2416320" cy="107676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vent Orientation</a:t>
            </a:r>
            <a:r>
              <a:rPr b="0" lang="en-GB" sz="1600" spc="-1" strike="noStrike">
                <a:solidFill>
                  <a:srgbClr val="000000"/>
                </a:solidFill>
                <a:latin typeface="Arial"/>
              </a:rPr>
              <a:t> </a:t>
            </a:r>
            <a:r>
              <a:rPr b="0" lang="en-GB" sz="1400" spc="-1" strike="noStrike">
                <a:solidFill>
                  <a:srgbClr val="000000"/>
                </a:solidFill>
                <a:latin typeface="Arial"/>
              </a:rPr>
              <a:t>Decoupling applications that publish business events from subscribing applications.</a:t>
            </a:r>
            <a:endParaRPr b="0" lang="en-US" sz="1400" spc="-1" strike="noStrike">
              <a:solidFill>
                <a:srgbClr val="ffffff"/>
              </a:solidFill>
              <a:latin typeface="Arial"/>
            </a:endParaRPr>
          </a:p>
        </p:txBody>
      </p:sp>
      <p:sp>
        <p:nvSpPr>
          <p:cNvPr id="482" name=""/>
          <p:cNvSpPr/>
          <p:nvPr/>
        </p:nvSpPr>
        <p:spPr>
          <a:xfrm>
            <a:off x="6477120" y="4978440"/>
            <a:ext cx="2514600" cy="126828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Qualities of Service</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variety of qualities of persistence, performance, reliability, security, availability and transactionality.</a:t>
            </a:r>
            <a:endParaRPr b="0" lang="en-US" sz="1400" spc="-1" strike="noStrike">
              <a:solidFill>
                <a:srgbClr val="ffffff"/>
              </a:solidFill>
              <a:latin typeface="Arial"/>
            </a:endParaRPr>
          </a:p>
        </p:txBody>
      </p:sp>
      <p:sp>
        <p:nvSpPr>
          <p:cNvPr id="483" name=""/>
          <p:cNvSpPr/>
          <p:nvPr/>
        </p:nvSpPr>
        <p:spPr>
          <a:xfrm>
            <a:off x="2819520" y="3581280"/>
            <a:ext cx="2209680" cy="172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Universality</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universal connectivity layer extends the scope and scale of integration across an extended enterprise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476"/>
                                        </p:tgtEl>
                                        <p:attrNameLst>
                                          <p:attrName>style.visibility</p:attrName>
                                        </p:attrNameLst>
                                      </p:cBhvr>
                                      <p:to>
                                        <p:strVal val="visible"/>
                                      </p:to>
                                    </p:set>
                                    <p:animEffect filter="fade" transition="in">
                                      <p:cBhvr additive="repl">
                                        <p:cTn id="149" dur="2000"/>
                                        <p:tgtEl>
                                          <p:spTgt spid="476"/>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0">
                                  <p:stCondLst>
                                    <p:cond delay="0"/>
                                  </p:stCondLst>
                                  <p:childTnLst>
                                    <p:set>
                                      <p:cBhvr>
                                        <p:cTn id="153" dur="1" fill="hold">
                                          <p:stCondLst>
                                            <p:cond delay="0"/>
                                          </p:stCondLst>
                                        </p:cTn>
                                        <p:tgtEl>
                                          <p:spTgt spid="481"/>
                                        </p:tgtEl>
                                        <p:attrNameLst>
                                          <p:attrName>style.visibility</p:attrName>
                                        </p:attrNameLst>
                                      </p:cBhvr>
                                      <p:to>
                                        <p:strVal val="visible"/>
                                      </p:to>
                                    </p:set>
                                    <p:animEffect filter="fade" transition="in">
                                      <p:cBhvr additive="repl">
                                        <p:cTn id="154" dur="2000"/>
                                        <p:tgtEl>
                                          <p:spTgt spid="481"/>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477"/>
                                        </p:tgtEl>
                                        <p:attrNameLst>
                                          <p:attrName>style.visibility</p:attrName>
                                        </p:attrNameLst>
                                      </p:cBhvr>
                                      <p:to>
                                        <p:strVal val="visible"/>
                                      </p:to>
                                    </p:set>
                                    <p:animEffect filter="fade" transition="in">
                                      <p:cBhvr additive="repl">
                                        <p:cTn id="159" dur="2000"/>
                                        <p:tgtEl>
                                          <p:spTgt spid="477"/>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0">
                                  <p:stCondLst>
                                    <p:cond delay="0"/>
                                  </p:stCondLst>
                                  <p:childTnLst>
                                    <p:set>
                                      <p:cBhvr>
                                        <p:cTn id="163" dur="1" fill="hold">
                                          <p:stCondLst>
                                            <p:cond delay="0"/>
                                          </p:stCondLst>
                                        </p:cTn>
                                        <p:tgtEl>
                                          <p:spTgt spid="479"/>
                                        </p:tgtEl>
                                        <p:attrNameLst>
                                          <p:attrName>style.visibility</p:attrName>
                                        </p:attrNameLst>
                                      </p:cBhvr>
                                      <p:to>
                                        <p:strVal val="visible"/>
                                      </p:to>
                                    </p:set>
                                    <p:animEffect filter="fade" transition="in">
                                      <p:cBhvr additive="repl">
                                        <p:cTn id="164" dur="2000"/>
                                        <p:tgtEl>
                                          <p:spTgt spid="479"/>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0">
                                  <p:stCondLst>
                                    <p:cond delay="0"/>
                                  </p:stCondLst>
                                  <p:childTnLst>
                                    <p:set>
                                      <p:cBhvr>
                                        <p:cTn id="168" dur="1" fill="hold">
                                          <p:stCondLst>
                                            <p:cond delay="0"/>
                                          </p:stCondLst>
                                        </p:cTn>
                                        <p:tgtEl>
                                          <p:spTgt spid="478"/>
                                        </p:tgtEl>
                                        <p:attrNameLst>
                                          <p:attrName>style.visibility</p:attrName>
                                        </p:attrNameLst>
                                      </p:cBhvr>
                                      <p:to>
                                        <p:strVal val="visible"/>
                                      </p:to>
                                    </p:set>
                                    <p:animEffect filter="fade" transition="in">
                                      <p:cBhvr additive="repl">
                                        <p:cTn id="169" dur="2000"/>
                                        <p:tgtEl>
                                          <p:spTgt spid="478"/>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0">
                                  <p:stCondLst>
                                    <p:cond delay="0"/>
                                  </p:stCondLst>
                                  <p:childTnLst>
                                    <p:set>
                                      <p:cBhvr>
                                        <p:cTn id="173" dur="1" fill="hold">
                                          <p:stCondLst>
                                            <p:cond delay="0"/>
                                          </p:stCondLst>
                                        </p:cTn>
                                        <p:tgtEl>
                                          <p:spTgt spid="482"/>
                                        </p:tgtEl>
                                        <p:attrNameLst>
                                          <p:attrName>style.visibility</p:attrName>
                                        </p:attrNameLst>
                                      </p:cBhvr>
                                      <p:to>
                                        <p:strVal val="visible"/>
                                      </p:to>
                                    </p:set>
                                    <p:animEffect filter="fade" transition="in">
                                      <p:cBhvr additive="repl">
                                        <p:cTn id="174" dur="2000"/>
                                        <p:tgtEl>
                                          <p:spTgt spid="482"/>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0">
                                  <p:stCondLst>
                                    <p:cond delay="0"/>
                                  </p:stCondLst>
                                  <p:childTnLst>
                                    <p:set>
                                      <p:cBhvr>
                                        <p:cTn id="178" dur="1" fill="hold">
                                          <p:stCondLst>
                                            <p:cond delay="0"/>
                                          </p:stCondLst>
                                        </p:cTn>
                                        <p:tgtEl>
                                          <p:spTgt spid="480"/>
                                        </p:tgtEl>
                                        <p:attrNameLst>
                                          <p:attrName>style.visibility</p:attrName>
                                        </p:attrNameLst>
                                      </p:cBhvr>
                                      <p:to>
                                        <p:strVal val="visible"/>
                                      </p:to>
                                    </p:set>
                                    <p:animEffect filter="fade" transition="in">
                                      <p:cBhvr additive="repl">
                                        <p:cTn id="179" dur="20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0" y="6091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rocess Choreography in a Service oriented world</a:t>
            </a:r>
            <a:endParaRPr b="0" lang="en-US" sz="2800" spc="-1" strike="noStrike">
              <a:solidFill>
                <a:srgbClr val="7889fb"/>
              </a:solidFill>
              <a:latin typeface="Arial"/>
            </a:endParaRPr>
          </a:p>
        </p:txBody>
      </p:sp>
      <p:sp>
        <p:nvSpPr>
          <p:cNvPr id="485" name="PlaceHolder 2"/>
          <p:cNvSpPr>
            <a:spLocks noGrp="1"/>
          </p:cNvSpPr>
          <p:nvPr>
            <p:ph/>
          </p:nvPr>
        </p:nvSpPr>
        <p:spPr>
          <a:xfrm>
            <a:off x="3048120" y="1295280"/>
            <a:ext cx="3154320" cy="1981440"/>
          </a:xfrm>
          <a:prstGeom prst="rect">
            <a:avLst/>
          </a:prstGeom>
          <a:noFill/>
          <a:ln w="0">
            <a:noFill/>
          </a:ln>
        </p:spPr>
        <p:txBody>
          <a:bodyPr lIns="90000" rIns="90000" tIns="46800" bIns="46800" anchor="t">
            <a:normAutofit/>
          </a:bodyPr>
          <a:p>
            <a:pPr marL="2286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Narrow"/>
              </a:rPr>
              <a:t>BPEL4WS benefits</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Open standard, Portable</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tate and Context Management</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arallel processing</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vents/notifications</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ompensating heterogeneous transactions. </a:t>
            </a:r>
            <a:endParaRPr b="0" lang="en-US" sz="1800" spc="-1" strike="noStrike">
              <a:solidFill>
                <a:srgbClr val="000000"/>
              </a:solidFill>
              <a:latin typeface="Arial"/>
            </a:endParaRPr>
          </a:p>
        </p:txBody>
      </p:sp>
      <p:sp>
        <p:nvSpPr>
          <p:cNvPr id="486" name=""/>
          <p:cNvSpPr/>
          <p:nvPr/>
        </p:nvSpPr>
        <p:spPr>
          <a:xfrm>
            <a:off x="6019920" y="1143000"/>
            <a:ext cx="3124080" cy="1981080"/>
          </a:xfrm>
          <a:prstGeom prst="rect">
            <a:avLst/>
          </a:prstGeom>
          <a:noFill/>
          <a:ln w="0">
            <a:noFill/>
          </a:ln>
        </p:spPr>
        <p:style>
          <a:lnRef idx="0"/>
          <a:fillRef idx="0"/>
          <a:effectRef idx="0"/>
          <a:fontRef idx="minor"/>
        </p:style>
        <p:txBody>
          <a:bodyPr lIns="90000" rIns="90000" tIns="46800" bIns="46800" anchor="t">
            <a:normAutofit fontScale="95000"/>
          </a:bodyPr>
          <a:p>
            <a:pPr marL="217080" indent="-217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Narrow"/>
              </a:rPr>
              <a:t>BPEL4WS constructs</a:t>
            </a:r>
            <a:endParaRPr b="0" lang="en-US" sz="1800" spc="-1" strike="noStrike">
              <a:solidFill>
                <a:srgbClr val="ffffff"/>
              </a:solidFill>
              <a:latin typeface="Arial"/>
            </a:endParaRPr>
          </a:p>
          <a:p>
            <a:pPr marL="217080" indent="-217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teractions</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invoke&gt;, &lt;receive&gt;, &lt;reply&gt;</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wait&gt;</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assign&gt;</a:t>
            </a:r>
            <a:endParaRPr b="0" lang="en-US" sz="1800" spc="-1" strike="noStrike">
              <a:solidFill>
                <a:srgbClr val="ffffff"/>
              </a:solidFill>
              <a:latin typeface="Arial"/>
            </a:endParaRPr>
          </a:p>
          <a:p>
            <a:pPr marL="217080" indent="-217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tructure</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flow&gt;, &lt;sequence&gt;</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switch&gt;, &lt;while&gt;, &lt;pick&gt;</a:t>
            </a:r>
            <a:endParaRPr b="0" lang="en-US" sz="1800" spc="-1" strike="noStrike">
              <a:solidFill>
                <a:srgbClr val="ffffff"/>
              </a:solidFill>
              <a:latin typeface="Arial"/>
            </a:endParaRPr>
          </a:p>
        </p:txBody>
      </p:sp>
      <p:pic>
        <p:nvPicPr>
          <p:cNvPr id="487" name="" descr=""/>
          <p:cNvPicPr/>
          <p:nvPr/>
        </p:nvPicPr>
        <p:blipFill>
          <a:blip r:embed="rId1"/>
          <a:stretch/>
        </p:blipFill>
        <p:spPr>
          <a:xfrm>
            <a:off x="3581280" y="3352680"/>
            <a:ext cx="4286520" cy="2381400"/>
          </a:xfrm>
          <a:prstGeom prst="rect">
            <a:avLst/>
          </a:prstGeom>
          <a:ln w="0">
            <a:noFill/>
          </a:ln>
        </p:spPr>
      </p:pic>
      <p:pic>
        <p:nvPicPr>
          <p:cNvPr id="488" name="" descr=""/>
          <p:cNvPicPr/>
          <p:nvPr/>
        </p:nvPicPr>
        <p:blipFill>
          <a:blip r:embed="rId2"/>
          <a:stretch/>
        </p:blipFill>
        <p:spPr>
          <a:xfrm>
            <a:off x="228600" y="1219320"/>
            <a:ext cx="2457360" cy="4714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T evolution </a:t>
            </a:r>
            <a:endParaRPr b="0" lang="en-US" sz="2800" spc="-1" strike="noStrike">
              <a:solidFill>
                <a:srgbClr val="7889fb"/>
              </a:solidFill>
              <a:latin typeface="Arial"/>
            </a:endParaRPr>
          </a:p>
        </p:txBody>
      </p:sp>
      <p:pic>
        <p:nvPicPr>
          <p:cNvPr id="145" name="" descr=""/>
          <p:cNvPicPr/>
          <p:nvPr/>
        </p:nvPicPr>
        <p:blipFill>
          <a:blip r:embed="rId1"/>
          <a:stretch/>
        </p:blipFill>
        <p:spPr>
          <a:xfrm>
            <a:off x="457200" y="1600200"/>
            <a:ext cx="8458200" cy="4525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154080" y="709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 provides …</a:t>
            </a:r>
            <a:br>
              <a:rPr sz="2800"/>
            </a:br>
            <a:r>
              <a:rPr b="0" lang="en-US" sz="1800" spc="-1" strike="noStrike">
                <a:solidFill>
                  <a:srgbClr val="7889fb"/>
                </a:solidFill>
                <a:latin typeface="Arial"/>
              </a:rPr>
              <a:t>The next generation integration platform for building, deploying, and choreographing Web services to form composite applications within a service oriented architecture</a:t>
            </a:r>
            <a:endParaRPr b="0" lang="en-US" sz="1800" spc="-1" strike="noStrike">
              <a:solidFill>
                <a:srgbClr val="7889fb"/>
              </a:solidFill>
              <a:latin typeface="Arial"/>
            </a:endParaRPr>
          </a:p>
        </p:txBody>
      </p:sp>
      <p:sp>
        <p:nvSpPr>
          <p:cNvPr id="490" name="PlaceHolder 2"/>
          <p:cNvSpPr>
            <a:spLocks noGrp="1"/>
          </p:cNvSpPr>
          <p:nvPr>
            <p:ph/>
          </p:nvPr>
        </p:nvSpPr>
        <p:spPr>
          <a:xfrm>
            <a:off x="228240" y="2209680"/>
            <a:ext cx="4335480" cy="3936960"/>
          </a:xfrm>
          <a:prstGeom prst="rect">
            <a:avLst/>
          </a:prstGeom>
          <a:noFill/>
          <a:ln w="0">
            <a:noFill/>
          </a:ln>
        </p:spPr>
        <p:txBody>
          <a:bodyPr lIns="90000" rIns="90000" tIns="46800" bIns="46800" anchor="t">
            <a:normAutofit/>
          </a:bodyPr>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e oriented architecture</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PEL4WS process choreography</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uman workflow support</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 rules support</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lication adapters</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ramming model extensions</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 for WebSphere</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Business Integration Modeler and</a:t>
            </a:r>
            <a:r>
              <a:rPr b="0" lang="en-US" sz="1400" spc="-1" strike="noStrike">
                <a:solidFill>
                  <a:srgbClr val="000000"/>
                </a:solidFill>
                <a:latin typeface="Arial"/>
              </a:rPr>
              <a:t>	</a:t>
            </a:r>
            <a:r>
              <a:rPr b="0" lang="en-US" sz="1400" spc="-1" strike="noStrike">
                <a:solidFill>
                  <a:srgbClr val="000000"/>
                </a:solidFill>
                <a:latin typeface="Arial"/>
              </a:rPr>
              <a:t> Monitor (2H04)</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on Event Infrastructure*</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2EE Application Server</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ed J2EE development</a:t>
            </a:r>
            <a:r>
              <a:rPr b="0" lang="en-US" sz="1400" spc="-1" strike="noStrike">
                <a:solidFill>
                  <a:srgbClr val="000000"/>
                </a:solidFill>
                <a:latin typeface="Arial"/>
              </a:rPr>
              <a:t>	</a:t>
            </a:r>
            <a:r>
              <a:rPr b="0" lang="en-US" sz="1400" spc="-1" strike="noStrike">
                <a:solidFill>
                  <a:srgbClr val="000000"/>
                </a:solidFill>
                <a:latin typeface="Arial"/>
              </a:rPr>
              <a:t> environment</a:t>
            </a:r>
            <a:endParaRPr b="0" lang="en-US" sz="1400" spc="-1" strike="noStrike">
              <a:solidFill>
                <a:srgbClr val="000000"/>
              </a:solidFill>
              <a:latin typeface="Arial"/>
            </a:endParaRPr>
          </a:p>
        </p:txBody>
      </p:sp>
      <p:pic>
        <p:nvPicPr>
          <p:cNvPr id="491" name="" descr=""/>
          <p:cNvPicPr/>
          <p:nvPr/>
        </p:nvPicPr>
        <p:blipFill>
          <a:blip r:embed="rId1"/>
          <a:stretch/>
        </p:blipFill>
        <p:spPr>
          <a:xfrm>
            <a:off x="5049720" y="2482920"/>
            <a:ext cx="3002040" cy="2251080"/>
          </a:xfrm>
          <a:prstGeom prst="rect">
            <a:avLst/>
          </a:prstGeom>
          <a:ln w="38160">
            <a:solidFill>
              <a:srgbClr val="808080"/>
            </a:solidFill>
            <a:miter/>
          </a:ln>
        </p:spPr>
      </p:pic>
      <p:pic>
        <p:nvPicPr>
          <p:cNvPr id="492" name="" descr=""/>
          <p:cNvPicPr/>
          <p:nvPr/>
        </p:nvPicPr>
        <p:blipFill>
          <a:blip r:embed="rId2"/>
          <a:srcRect l="0" t="0" r="0" b="55826"/>
          <a:stretch/>
        </p:blipFill>
        <p:spPr>
          <a:xfrm>
            <a:off x="4308480" y="4879800"/>
            <a:ext cx="4483080" cy="1511640"/>
          </a:xfrm>
          <a:prstGeom prst="rect">
            <a:avLst/>
          </a:prstGeom>
          <a:ln w="38160">
            <a:solidFill>
              <a:srgbClr val="808080"/>
            </a:solidFill>
            <a:miter/>
          </a:ln>
        </p:spPr>
      </p:pic>
      <p:sp>
        <p:nvSpPr>
          <p:cNvPr id="493" name=""/>
          <p:cNvSpPr/>
          <p:nvPr/>
        </p:nvSpPr>
        <p:spPr>
          <a:xfrm>
            <a:off x="5324040" y="6483240"/>
            <a:ext cx="3503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 preview in V5.1, GA delivery later this year</a:t>
            </a:r>
            <a:endParaRPr b="0" lang="en-US" sz="1200" spc="-1" strike="noStrike">
              <a:solidFill>
                <a:srgbClr val="ffffff"/>
              </a:solidFill>
              <a:latin typeface="Arial"/>
            </a:endParaRPr>
          </a:p>
        </p:txBody>
      </p:sp>
      <p:sp>
        <p:nvSpPr>
          <p:cNvPr id="494" name=""/>
          <p:cNvSpPr/>
          <p:nvPr/>
        </p:nvSpPr>
        <p:spPr>
          <a:xfrm>
            <a:off x="1135080" y="1662120"/>
            <a:ext cx="6869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BM WebSphere Business Integration Server Foundation &amp;</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BM WebSphere Studio Application Developer Integration Edi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
          <p:cNvSpPr/>
          <p:nvPr/>
        </p:nvSpPr>
        <p:spPr>
          <a:xfrm>
            <a:off x="343080" y="665280"/>
            <a:ext cx="8551800" cy="555948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aphicFrame>
        <p:nvGraphicFramePr>
          <p:cNvPr id="496" name=""/>
          <p:cNvGraphicFramePr/>
          <p:nvPr/>
        </p:nvGraphicFramePr>
        <p:xfrm>
          <a:off x="5983200" y="4560840"/>
          <a:ext cx="2721240" cy="755640"/>
        </p:xfrm>
        <a:graphic>
          <a:graphicData uri="http://schemas.openxmlformats.org/presentationml/2006/ole">
            <p:oleObj r:id="rId1" spid="">
              <p:embed/>
              <p:pic>
                <p:nvPicPr>
                  <p:cNvPr id="497" name="" descr=""/>
                  <p:cNvPicPr/>
                  <p:nvPr/>
                </p:nvPicPr>
                <p:blipFill>
                  <a:blip r:embed="rId2"/>
                  <a:stretch/>
                </p:blipFill>
                <p:spPr>
                  <a:xfrm>
                    <a:off x="5983200" y="4560840"/>
                    <a:ext cx="2721240" cy="755640"/>
                  </a:xfrm>
                  <a:prstGeom prst="rect">
                    <a:avLst/>
                  </a:prstGeom>
                  <a:ln w="0">
                    <a:noFill/>
                  </a:ln>
                </p:spPr>
              </p:pic>
            </p:oleObj>
          </a:graphicData>
        </a:graphic>
      </p:graphicFrame>
      <p:sp>
        <p:nvSpPr>
          <p:cNvPr id="498" name=""/>
          <p:cNvSpPr/>
          <p:nvPr/>
        </p:nvSpPr>
        <p:spPr>
          <a:xfrm>
            <a:off x="3394080" y="2386080"/>
            <a:ext cx="2589120" cy="1462680"/>
          </a:xfrm>
          <a:prstGeom prst="rect">
            <a:avLst/>
          </a:prstGeom>
          <a:noFill/>
          <a:ln w="0">
            <a:noFill/>
          </a:ln>
        </p:spPr>
        <p:style>
          <a:lnRef idx="0"/>
          <a:fillRef idx="0"/>
          <a:effectRef idx="0"/>
          <a:fontRef idx="minor"/>
        </p:style>
        <p:txBody>
          <a:bodyPr lIns="0" rIns="0" tIns="0" bIns="0" anchor="t">
            <a:spAutoFit/>
          </a:bodyPr>
          <a:p>
            <a:pPr>
              <a:lnSpc>
                <a:spcPct val="100000"/>
              </a:lnSpc>
              <a:spcAft>
                <a:spcPts val="90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4800" spc="-1" strike="noStrike">
                <a:solidFill>
                  <a:srgbClr val="00549c"/>
                </a:solidFill>
                <a:latin typeface="Brush Script"/>
              </a:rPr>
              <a:t>Thank You</a:t>
            </a:r>
            <a:endParaRPr b="0" lang="en-US" sz="4800" spc="-1" strike="noStrike">
              <a:solidFill>
                <a:srgbClr val="ffffff"/>
              </a:solidFill>
              <a:latin typeface="Arial"/>
            </a:endParaRPr>
          </a:p>
        </p:txBody>
      </p:sp>
      <p:sp>
        <p:nvSpPr>
          <p:cNvPr id="499" name=""/>
          <p:cNvSpPr/>
          <p:nvPr/>
        </p:nvSpPr>
        <p:spPr>
          <a:xfrm>
            <a:off x="6491160" y="4111560"/>
            <a:ext cx="141156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400097"/>
                </a:solidFill>
                <a:latin typeface="Rockwell"/>
              </a:rPr>
              <a:t>Merci</a:t>
            </a:r>
            <a:endParaRPr b="0" lang="en-US" sz="1800" spc="-1" strike="noStrike">
              <a:solidFill>
                <a:srgbClr val="ffffff"/>
              </a:solidFill>
              <a:latin typeface="Arial"/>
            </a:endParaRPr>
          </a:p>
        </p:txBody>
      </p:sp>
      <p:sp>
        <p:nvSpPr>
          <p:cNvPr id="500" name=""/>
          <p:cNvSpPr/>
          <p:nvPr/>
        </p:nvSpPr>
        <p:spPr>
          <a:xfrm>
            <a:off x="1979640" y="3957480"/>
            <a:ext cx="151920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a0"/>
                </a:solidFill>
                <a:latin typeface="Verdana"/>
              </a:rPr>
              <a:t>Grazie</a:t>
            </a:r>
            <a:endParaRPr b="0" lang="en-US" sz="1800" spc="-1" strike="noStrike">
              <a:solidFill>
                <a:srgbClr val="ffffff"/>
              </a:solidFill>
              <a:latin typeface="Arial"/>
            </a:endParaRPr>
          </a:p>
        </p:txBody>
      </p:sp>
      <p:sp>
        <p:nvSpPr>
          <p:cNvPr id="501" name=""/>
          <p:cNvSpPr/>
          <p:nvPr/>
        </p:nvSpPr>
        <p:spPr>
          <a:xfrm>
            <a:off x="5832360" y="1913040"/>
            <a:ext cx="1387440" cy="1035720"/>
          </a:xfrm>
          <a:prstGeom prst="rect">
            <a:avLst/>
          </a:prstGeom>
          <a:noFill/>
          <a:ln w="0">
            <a:noFill/>
          </a:ln>
        </p:spPr>
        <p:style>
          <a:lnRef idx="0"/>
          <a:fillRef idx="0"/>
          <a:effectRef idx="0"/>
          <a:fontRef idx="minor"/>
        </p:style>
        <p:txBody>
          <a:bodyPr lIns="0" rIns="0" tIns="0" bIns="0" anchor="t">
            <a:spAutoFit/>
          </a:bodyPr>
          <a:p>
            <a:pPr>
              <a:lnSpc>
                <a:spcPct val="100000"/>
              </a:lnSpc>
              <a:spcAft>
                <a:spcPts val="638"/>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800044"/>
                </a:solidFill>
                <a:latin typeface="Garamond"/>
              </a:rPr>
              <a:t>Gracias</a:t>
            </a:r>
            <a:endParaRPr b="0" lang="en-US" sz="3400" spc="-1" strike="noStrike">
              <a:solidFill>
                <a:srgbClr val="ffffff"/>
              </a:solidFill>
              <a:latin typeface="Arial"/>
            </a:endParaRPr>
          </a:p>
        </p:txBody>
      </p:sp>
      <p:sp>
        <p:nvSpPr>
          <p:cNvPr id="502" name=""/>
          <p:cNvSpPr/>
          <p:nvPr/>
        </p:nvSpPr>
        <p:spPr>
          <a:xfrm>
            <a:off x="5194440" y="3008160"/>
            <a:ext cx="1511280" cy="366120"/>
          </a:xfrm>
          <a:prstGeom prst="rect">
            <a:avLst/>
          </a:prstGeom>
          <a:noFill/>
          <a:ln w="0">
            <a:noFill/>
          </a:ln>
        </p:spPr>
        <p:style>
          <a:lnRef idx="0"/>
          <a:fillRef idx="0"/>
          <a:effectRef idx="0"/>
          <a:fontRef idx="minor"/>
        </p:style>
        <p:txBody>
          <a:bodyPr lIns="0" rIns="0" tIns="0" bIns="0" anchor="t">
            <a:spAutoFit/>
          </a:bodyPr>
          <a:p>
            <a:pPr>
              <a:lnSpc>
                <a:spcPct val="100000"/>
              </a:lnSpc>
              <a:spcAft>
                <a:spcPts val="45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4c6d"/>
                </a:solidFill>
                <a:latin typeface="Comic Sans MS"/>
              </a:rPr>
              <a:t>Obrigado</a:t>
            </a:r>
            <a:endParaRPr b="0" lang="en-US" sz="2400" spc="-1" strike="noStrike">
              <a:solidFill>
                <a:srgbClr val="ffffff"/>
              </a:solidFill>
              <a:latin typeface="Arial"/>
            </a:endParaRPr>
          </a:p>
        </p:txBody>
      </p:sp>
      <p:sp>
        <p:nvSpPr>
          <p:cNvPr id="503" name=""/>
          <p:cNvSpPr/>
          <p:nvPr/>
        </p:nvSpPr>
        <p:spPr>
          <a:xfrm>
            <a:off x="6454800" y="3552840"/>
            <a:ext cx="148104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5100"/>
                </a:solidFill>
                <a:latin typeface="Nimrod"/>
              </a:rPr>
              <a:t>Danke</a:t>
            </a:r>
            <a:endParaRPr b="0" lang="en-US" sz="1800" spc="-1" strike="noStrike">
              <a:solidFill>
                <a:srgbClr val="ffffff"/>
              </a:solidFill>
              <a:latin typeface="Arial"/>
            </a:endParaRPr>
          </a:p>
        </p:txBody>
      </p:sp>
      <p:pic>
        <p:nvPicPr>
          <p:cNvPr id="504" name="" descr=""/>
          <p:cNvPicPr/>
          <p:nvPr/>
        </p:nvPicPr>
        <p:blipFill>
          <a:blip r:embed="rId3"/>
          <a:stretch/>
        </p:blipFill>
        <p:spPr>
          <a:xfrm>
            <a:off x="1878120" y="2063880"/>
            <a:ext cx="1673280" cy="298440"/>
          </a:xfrm>
          <a:prstGeom prst="rect">
            <a:avLst/>
          </a:prstGeom>
          <a:ln w="0">
            <a:noFill/>
          </a:ln>
        </p:spPr>
      </p:pic>
      <p:pic>
        <p:nvPicPr>
          <p:cNvPr id="505" name="" descr=""/>
          <p:cNvPicPr/>
          <p:nvPr/>
        </p:nvPicPr>
        <p:blipFill>
          <a:blip r:embed="rId4"/>
          <a:stretch/>
        </p:blipFill>
        <p:spPr>
          <a:xfrm>
            <a:off x="2739960" y="4675320"/>
            <a:ext cx="3017880" cy="353880"/>
          </a:xfrm>
          <a:prstGeom prst="rect">
            <a:avLst/>
          </a:prstGeom>
          <a:ln w="0">
            <a:noFill/>
          </a:ln>
        </p:spPr>
      </p:pic>
      <p:sp>
        <p:nvSpPr>
          <p:cNvPr id="506" name=""/>
          <p:cNvSpPr/>
          <p:nvPr/>
        </p:nvSpPr>
        <p:spPr>
          <a:xfrm>
            <a:off x="4335480" y="5153040"/>
            <a:ext cx="3938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Japanese</a:t>
            </a:r>
            <a:endParaRPr b="0" lang="en-US" sz="600" spc="-1" strike="noStrike">
              <a:solidFill>
                <a:srgbClr val="ffffff"/>
              </a:solidFill>
              <a:latin typeface="Arial"/>
            </a:endParaRPr>
          </a:p>
        </p:txBody>
      </p:sp>
      <p:sp>
        <p:nvSpPr>
          <p:cNvPr id="507" name=""/>
          <p:cNvSpPr/>
          <p:nvPr/>
        </p:nvSpPr>
        <p:spPr>
          <a:xfrm>
            <a:off x="4335480" y="2971800"/>
            <a:ext cx="3078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English</a:t>
            </a:r>
            <a:endParaRPr b="0" lang="en-US" sz="600" spc="-1" strike="noStrike">
              <a:solidFill>
                <a:srgbClr val="ffffff"/>
              </a:solidFill>
              <a:latin typeface="Arial"/>
            </a:endParaRPr>
          </a:p>
        </p:txBody>
      </p:sp>
      <p:sp>
        <p:nvSpPr>
          <p:cNvPr id="508" name=""/>
          <p:cNvSpPr/>
          <p:nvPr/>
        </p:nvSpPr>
        <p:spPr>
          <a:xfrm>
            <a:off x="6742080" y="4405320"/>
            <a:ext cx="27792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French</a:t>
            </a:r>
            <a:endParaRPr b="0" lang="en-US" sz="600" spc="-1" strike="noStrike">
              <a:solidFill>
                <a:srgbClr val="ffffff"/>
              </a:solidFill>
              <a:latin typeface="Arial"/>
            </a:endParaRPr>
          </a:p>
        </p:txBody>
      </p:sp>
      <p:sp>
        <p:nvSpPr>
          <p:cNvPr id="509" name=""/>
          <p:cNvSpPr/>
          <p:nvPr/>
        </p:nvSpPr>
        <p:spPr>
          <a:xfrm>
            <a:off x="2567160" y="2381400"/>
            <a:ext cx="3380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Russian</a:t>
            </a:r>
            <a:endParaRPr b="0" lang="en-US" sz="600" spc="-1" strike="noStrike">
              <a:solidFill>
                <a:srgbClr val="ffffff"/>
              </a:solidFill>
              <a:latin typeface="Arial"/>
            </a:endParaRPr>
          </a:p>
        </p:txBody>
      </p:sp>
      <p:sp>
        <p:nvSpPr>
          <p:cNvPr id="510" name=""/>
          <p:cNvSpPr/>
          <p:nvPr/>
        </p:nvSpPr>
        <p:spPr>
          <a:xfrm>
            <a:off x="6697800" y="3873600"/>
            <a:ext cx="3380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German</a:t>
            </a:r>
            <a:endParaRPr b="0" lang="en-US" sz="600" spc="-1" strike="noStrike">
              <a:solidFill>
                <a:srgbClr val="ffffff"/>
              </a:solidFill>
              <a:latin typeface="Arial"/>
            </a:endParaRPr>
          </a:p>
        </p:txBody>
      </p:sp>
      <p:sp>
        <p:nvSpPr>
          <p:cNvPr id="511" name=""/>
          <p:cNvSpPr/>
          <p:nvPr/>
        </p:nvSpPr>
        <p:spPr>
          <a:xfrm>
            <a:off x="2325600" y="4254480"/>
            <a:ext cx="2556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Italian</a:t>
            </a:r>
            <a:endParaRPr b="0" lang="en-US" sz="600" spc="-1" strike="noStrike">
              <a:solidFill>
                <a:srgbClr val="ffffff"/>
              </a:solidFill>
              <a:latin typeface="Arial"/>
            </a:endParaRPr>
          </a:p>
        </p:txBody>
      </p:sp>
      <p:sp>
        <p:nvSpPr>
          <p:cNvPr id="512" name=""/>
          <p:cNvSpPr/>
          <p:nvPr/>
        </p:nvSpPr>
        <p:spPr>
          <a:xfrm>
            <a:off x="6405480" y="2379600"/>
            <a:ext cx="3366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Spanish</a:t>
            </a:r>
            <a:endParaRPr b="0" lang="en-US" sz="600" spc="-1" strike="noStrike">
              <a:solidFill>
                <a:srgbClr val="ffffff"/>
              </a:solidFill>
              <a:latin typeface="Arial"/>
            </a:endParaRPr>
          </a:p>
        </p:txBody>
      </p:sp>
      <p:sp>
        <p:nvSpPr>
          <p:cNvPr id="513" name=""/>
          <p:cNvSpPr/>
          <p:nvPr/>
        </p:nvSpPr>
        <p:spPr>
          <a:xfrm>
            <a:off x="5581800" y="3441600"/>
            <a:ext cx="78732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Brazilian Portuguese</a:t>
            </a:r>
            <a:endParaRPr b="0" lang="en-US" sz="600" spc="-1" strike="noStrike">
              <a:solidFill>
                <a:srgbClr val="ffffff"/>
              </a:solidFill>
              <a:latin typeface="Arial"/>
            </a:endParaRPr>
          </a:p>
        </p:txBody>
      </p:sp>
      <p:pic>
        <p:nvPicPr>
          <p:cNvPr id="514" name="" descr=""/>
          <p:cNvPicPr/>
          <p:nvPr/>
        </p:nvPicPr>
        <p:blipFill>
          <a:blip r:embed="rId5"/>
          <a:stretch/>
        </p:blipFill>
        <p:spPr>
          <a:xfrm>
            <a:off x="2333520" y="2981160"/>
            <a:ext cx="943200" cy="516240"/>
          </a:xfrm>
          <a:prstGeom prst="rect">
            <a:avLst/>
          </a:prstGeom>
          <a:ln w="0">
            <a:noFill/>
          </a:ln>
        </p:spPr>
      </p:pic>
      <p:sp>
        <p:nvSpPr>
          <p:cNvPr id="515" name=""/>
          <p:cNvSpPr/>
          <p:nvPr/>
        </p:nvSpPr>
        <p:spPr>
          <a:xfrm>
            <a:off x="2689200" y="3500280"/>
            <a:ext cx="31752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Arabic</a:t>
            </a:r>
            <a:endParaRPr b="0" lang="en-US" sz="600" spc="-1" strike="noStrike">
              <a:solidFill>
                <a:srgbClr val="ffffff"/>
              </a:solidFill>
              <a:latin typeface="Arial"/>
            </a:endParaRPr>
          </a:p>
        </p:txBody>
      </p:sp>
      <p:sp>
        <p:nvSpPr>
          <p:cNvPr id="516" name=""/>
          <p:cNvSpPr/>
          <p:nvPr/>
        </p:nvSpPr>
        <p:spPr>
          <a:xfrm>
            <a:off x="3967200" y="1701720"/>
            <a:ext cx="7398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Traditional Chinese</a:t>
            </a:r>
            <a:endParaRPr b="0" lang="en-US" sz="600" spc="-1" strike="noStrike">
              <a:solidFill>
                <a:srgbClr val="ffffff"/>
              </a:solidFill>
              <a:latin typeface="Arial"/>
            </a:endParaRPr>
          </a:p>
        </p:txBody>
      </p:sp>
      <p:sp>
        <p:nvSpPr>
          <p:cNvPr id="517" name=""/>
          <p:cNvSpPr/>
          <p:nvPr/>
        </p:nvSpPr>
        <p:spPr>
          <a:xfrm>
            <a:off x="4095720" y="4214880"/>
            <a:ext cx="7016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Simplified Chinese</a:t>
            </a:r>
            <a:endParaRPr b="0" lang="en-US" sz="600" spc="-1" strike="noStrike">
              <a:solidFill>
                <a:srgbClr val="ffffff"/>
              </a:solidFill>
              <a:latin typeface="Arial"/>
            </a:endParaRPr>
          </a:p>
        </p:txBody>
      </p:sp>
      <p:pic>
        <p:nvPicPr>
          <p:cNvPr id="518" name="" descr=""/>
          <p:cNvPicPr/>
          <p:nvPr/>
        </p:nvPicPr>
        <p:blipFill>
          <a:blip r:embed="rId6"/>
          <a:stretch/>
        </p:blipFill>
        <p:spPr>
          <a:xfrm>
            <a:off x="3765600" y="3568680"/>
            <a:ext cx="1271520" cy="638280"/>
          </a:xfrm>
          <a:prstGeom prst="rect">
            <a:avLst/>
          </a:prstGeom>
          <a:ln w="0">
            <a:noFill/>
          </a:ln>
        </p:spPr>
      </p:pic>
      <p:pic>
        <p:nvPicPr>
          <p:cNvPr id="519" name="" descr=""/>
          <p:cNvPicPr/>
          <p:nvPr/>
        </p:nvPicPr>
        <p:blipFill>
          <a:blip r:embed="rId7"/>
          <a:stretch/>
        </p:blipFill>
        <p:spPr>
          <a:xfrm>
            <a:off x="3733920" y="1006560"/>
            <a:ext cx="1252440" cy="660240"/>
          </a:xfrm>
          <a:prstGeom prst="rect">
            <a:avLst/>
          </a:prstGeom>
          <a:ln w="0">
            <a:noFill/>
          </a:ln>
        </p:spPr>
      </p:pic>
      <p:pic>
        <p:nvPicPr>
          <p:cNvPr id="520" name="" descr=""/>
          <p:cNvPicPr/>
          <p:nvPr/>
        </p:nvPicPr>
        <p:blipFill>
          <a:blip r:embed="rId8"/>
          <a:stretch/>
        </p:blipFill>
        <p:spPr>
          <a:xfrm>
            <a:off x="1330200" y="1268280"/>
            <a:ext cx="1368720" cy="465120"/>
          </a:xfrm>
          <a:prstGeom prst="rect">
            <a:avLst/>
          </a:prstGeom>
          <a:ln w="0">
            <a:noFill/>
          </a:ln>
        </p:spPr>
      </p:pic>
      <p:sp>
        <p:nvSpPr>
          <p:cNvPr id="521" name=""/>
          <p:cNvSpPr/>
          <p:nvPr/>
        </p:nvSpPr>
        <p:spPr>
          <a:xfrm>
            <a:off x="1897200" y="1585800"/>
            <a:ext cx="22356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Hindi</a:t>
            </a:r>
            <a:endParaRPr b="0" lang="en-US" sz="600" spc="-1" strike="noStrike">
              <a:solidFill>
                <a:srgbClr val="ffffff"/>
              </a:solidFill>
              <a:latin typeface="Arial"/>
            </a:endParaRPr>
          </a:p>
        </p:txBody>
      </p:sp>
      <p:pic>
        <p:nvPicPr>
          <p:cNvPr id="522" name="" descr=""/>
          <p:cNvPicPr/>
          <p:nvPr/>
        </p:nvPicPr>
        <p:blipFill>
          <a:blip r:embed="rId9"/>
          <a:stretch/>
        </p:blipFill>
        <p:spPr>
          <a:xfrm>
            <a:off x="1268280" y="4719600"/>
            <a:ext cx="1370160" cy="574560"/>
          </a:xfrm>
          <a:prstGeom prst="rect">
            <a:avLst/>
          </a:prstGeom>
          <a:ln w="0">
            <a:noFill/>
          </a:ln>
        </p:spPr>
      </p:pic>
      <p:sp>
        <p:nvSpPr>
          <p:cNvPr id="523" name=""/>
          <p:cNvSpPr/>
          <p:nvPr/>
        </p:nvSpPr>
        <p:spPr>
          <a:xfrm>
            <a:off x="1774800" y="5241960"/>
            <a:ext cx="2412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Tamil</a:t>
            </a:r>
            <a:endParaRPr b="0" lang="en-US" sz="600" spc="-1" strike="noStrike">
              <a:solidFill>
                <a:srgbClr val="ffffff"/>
              </a:solidFill>
              <a:latin typeface="Arial"/>
            </a:endParaRPr>
          </a:p>
        </p:txBody>
      </p:sp>
      <p:pic>
        <p:nvPicPr>
          <p:cNvPr id="524" name="" descr=""/>
          <p:cNvPicPr/>
          <p:nvPr/>
        </p:nvPicPr>
        <p:blipFill>
          <a:blip r:embed="rId10"/>
          <a:stretch/>
        </p:blipFill>
        <p:spPr>
          <a:xfrm>
            <a:off x="5649840" y="1031760"/>
            <a:ext cx="1614600" cy="636840"/>
          </a:xfrm>
          <a:prstGeom prst="rect">
            <a:avLst/>
          </a:prstGeom>
          <a:ln w="0">
            <a:noFill/>
          </a:ln>
        </p:spPr>
      </p:pic>
      <p:sp>
        <p:nvSpPr>
          <p:cNvPr id="525" name=""/>
          <p:cNvSpPr/>
          <p:nvPr/>
        </p:nvSpPr>
        <p:spPr>
          <a:xfrm>
            <a:off x="6305400" y="1547640"/>
            <a:ext cx="1922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Thai</a:t>
            </a:r>
            <a:endParaRPr b="0" lang="en-US" sz="600" spc="-1" strike="noStrike">
              <a:solidFill>
                <a:srgbClr val="ffffff"/>
              </a:solidFill>
              <a:latin typeface="Arial"/>
            </a:endParaRPr>
          </a:p>
        </p:txBody>
      </p:sp>
      <p:sp>
        <p:nvSpPr>
          <p:cNvPr id="526" name=""/>
          <p:cNvSpPr/>
          <p:nvPr/>
        </p:nvSpPr>
        <p:spPr>
          <a:xfrm>
            <a:off x="6940440" y="5226120"/>
            <a:ext cx="29376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Korean</a:t>
            </a:r>
            <a:endParaRPr b="0" lang="en-US" sz="600" spc="-1" strike="noStrike">
              <a:solidFill>
                <a:srgbClr val="ffffff"/>
              </a:solidFill>
              <a:latin typeface="Arial"/>
            </a:endParaRPr>
          </a:p>
        </p:txBody>
      </p:sp>
      <p:sp>
        <p:nvSpPr>
          <p:cNvPr id="527" name=""/>
          <p:cNvSpPr/>
          <p:nvPr/>
        </p:nvSpPr>
        <p:spPr>
          <a:xfrm>
            <a:off x="952560" y="1234800"/>
            <a:ext cx="7235640" cy="329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7889fb"/>
                </a:solidFill>
                <a:latin typeface="Arial"/>
              </a:rPr>
              <a:t> </a:t>
            </a:r>
            <a:endParaRPr b="0" lang="en-US" sz="2400" spc="-1" strike="noStrike">
              <a:solidFill>
                <a:srgbClr val="ffffff"/>
              </a:solidFill>
              <a:latin typeface="Arial"/>
            </a:endParaRPr>
          </a:p>
        </p:txBody>
      </p:sp>
      <p:sp>
        <p:nvSpPr>
          <p:cNvPr id="528" name=""/>
          <p:cNvSpPr/>
          <p:nvPr/>
        </p:nvSpPr>
        <p:spPr>
          <a:xfrm>
            <a:off x="343080" y="1225440"/>
            <a:ext cx="8354880" cy="329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7889fb"/>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361800" y="739440"/>
            <a:ext cx="8318520" cy="329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7889fb"/>
                </a:solidFill>
                <a:latin typeface="Arial"/>
              </a:rPr>
              <a:t>What is Service Oriented Architecture?</a:t>
            </a:r>
            <a:endParaRPr b="0" lang="en-US" sz="2400" spc="-1" strike="noStrike">
              <a:solidFill>
                <a:srgbClr val="ffffff"/>
              </a:solidFill>
              <a:latin typeface="Arial"/>
            </a:endParaRPr>
          </a:p>
        </p:txBody>
      </p:sp>
      <p:sp>
        <p:nvSpPr>
          <p:cNvPr id="147" name=""/>
          <p:cNvSpPr/>
          <p:nvPr/>
        </p:nvSpPr>
        <p:spPr>
          <a:xfrm>
            <a:off x="409680" y="1289160"/>
            <a:ext cx="5497560" cy="5568840"/>
          </a:xfrm>
          <a:prstGeom prst="rect">
            <a:avLst/>
          </a:prstGeom>
          <a:noFill/>
          <a:ln w="0">
            <a:noFill/>
          </a:ln>
        </p:spPr>
        <p:style>
          <a:lnRef idx="0"/>
          <a:fillRef idx="0"/>
          <a:effectRef idx="0"/>
          <a:fontRef idx="minor"/>
        </p:style>
        <p:txBody>
          <a:bodyPr lIns="82080" rIns="82080" tIns="41040" bIns="41040" anchor="t">
            <a:normAutofit/>
          </a:bodyPr>
          <a:p>
            <a:pPr marL="192240" indent="-19224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 </a:t>
            </a:r>
            <a:r>
              <a:rPr b="1" lang="en-GB" sz="1600" spc="-1" strike="noStrike">
                <a:solidFill>
                  <a:srgbClr val="3333cc"/>
                </a:solidFill>
                <a:latin typeface="Arial"/>
              </a:rPr>
              <a:t>approach</a:t>
            </a:r>
            <a:r>
              <a:rPr b="0" lang="en-GB" sz="1600" spc="-1" strike="noStrike">
                <a:solidFill>
                  <a:srgbClr val="000000"/>
                </a:solidFill>
                <a:latin typeface="Arial"/>
              </a:rPr>
              <a:t> for </a:t>
            </a:r>
            <a:r>
              <a:rPr b="1" lang="en-GB" sz="1600" spc="-1" strike="noStrike">
                <a:solidFill>
                  <a:srgbClr val="3333cc"/>
                </a:solidFill>
                <a:latin typeface="Arial"/>
              </a:rPr>
              <a:t>building</a:t>
            </a:r>
            <a:r>
              <a:rPr b="0" lang="en-GB" sz="1600" spc="-1" strike="noStrike">
                <a:solidFill>
                  <a:srgbClr val="000000"/>
                </a:solidFill>
                <a:latin typeface="Arial"/>
              </a:rPr>
              <a:t> distributed systems that deliver application functionality as </a:t>
            </a:r>
            <a:r>
              <a:rPr b="1" lang="en-GB" sz="1600" spc="-1" strike="noStrike">
                <a:solidFill>
                  <a:srgbClr val="3333cc"/>
                </a:solidFill>
                <a:latin typeface="Arial"/>
              </a:rPr>
              <a:t>services</a:t>
            </a:r>
            <a:r>
              <a:rPr b="0" lang="en-GB" sz="1600" spc="-1" strike="noStrike">
                <a:solidFill>
                  <a:srgbClr val="000000"/>
                </a:solidFill>
                <a:latin typeface="Arial"/>
              </a:rPr>
              <a:t> to either end-user applications or other services</a:t>
            </a:r>
            <a:r>
              <a:rPr b="0" lang="en-US" sz="1600" spc="-1" strike="noStrike">
                <a:solidFill>
                  <a:srgbClr val="000000"/>
                </a:solidFill>
                <a:latin typeface="Arial"/>
              </a:rPr>
              <a:t> </a:t>
            </a:r>
            <a:endParaRPr b="0" lang="en-US" sz="1600" spc="-1" strike="noStrike">
              <a:solidFill>
                <a:srgbClr val="ffffff"/>
              </a:solidFill>
              <a:latin typeface="Arial"/>
            </a:endParaRPr>
          </a:p>
          <a:p>
            <a:pPr marL="192240" indent="-19224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192240" indent="-19224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defines :</a:t>
            </a:r>
            <a:endParaRPr b="0" lang="en-US" sz="1600" spc="-1" strike="noStrike">
              <a:solidFill>
                <a:srgbClr val="ffffff"/>
              </a:solidFill>
              <a:latin typeface="Arial"/>
            </a:endParaRPr>
          </a:p>
          <a:p>
            <a:pPr lvl="1" marL="750960" indent="-285840">
              <a:lnSpc>
                <a:spcPct val="115000"/>
              </a:lnSpc>
              <a:spcBef>
                <a:spcPts val="374"/>
              </a:spcBef>
              <a:spcAft>
                <a:spcPts val="22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architecture that leverages </a:t>
            </a:r>
            <a:r>
              <a:rPr b="0" lang="en-US" sz="1400" spc="-1" strike="noStrike">
                <a:solidFill>
                  <a:srgbClr val="3333cc"/>
                </a:solidFill>
                <a:latin typeface="Arial"/>
              </a:rPr>
              <a:t>open standards</a:t>
            </a:r>
            <a:r>
              <a:rPr b="0" lang="en-US" sz="1400" spc="-1" strike="noStrike">
                <a:solidFill>
                  <a:srgbClr val="000000"/>
                </a:solidFill>
                <a:latin typeface="Arial"/>
              </a:rPr>
              <a:t> to represent software </a:t>
            </a:r>
            <a:r>
              <a:rPr b="0" lang="en-US" sz="1400" spc="-1" strike="noStrike">
                <a:solidFill>
                  <a:srgbClr val="3333cc"/>
                </a:solidFill>
                <a:latin typeface="Arial"/>
              </a:rPr>
              <a:t>assets as services</a:t>
            </a:r>
            <a:r>
              <a:rPr b="0" lang="en-GB" sz="1200" spc="-1" strike="noStrike">
                <a:solidFill>
                  <a:srgbClr val="000000"/>
                </a:solidFill>
                <a:latin typeface="Arial"/>
              </a:rPr>
              <a:t>.</a:t>
            </a:r>
            <a:endParaRPr b="0" lang="en-US" sz="1200" spc="-1" strike="noStrike">
              <a:solidFill>
                <a:srgbClr val="ffffff"/>
              </a:solidFill>
              <a:latin typeface="Arial"/>
            </a:endParaRPr>
          </a:p>
          <a:p>
            <a:pPr lvl="1" marL="750960" indent="-285840">
              <a:lnSpc>
                <a:spcPct val="115000"/>
              </a:lnSpc>
              <a:spcBef>
                <a:spcPts val="524"/>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es a </a:t>
            </a:r>
            <a:r>
              <a:rPr b="0" lang="en-US" sz="1400" spc="-1" strike="noStrike">
                <a:solidFill>
                  <a:srgbClr val="3333cc"/>
                </a:solidFill>
                <a:latin typeface="Arial"/>
              </a:rPr>
              <a:t>standard way of representing and interacting</a:t>
            </a:r>
            <a:r>
              <a:rPr b="0" lang="en-US" sz="1400" spc="-1" strike="noStrike">
                <a:solidFill>
                  <a:srgbClr val="000000"/>
                </a:solidFill>
                <a:latin typeface="Arial"/>
              </a:rPr>
              <a:t> with software assets</a:t>
            </a:r>
            <a:endParaRPr b="0" lang="en-US" sz="1400" spc="-1" strike="noStrike">
              <a:solidFill>
                <a:srgbClr val="ffffff"/>
              </a:solidFill>
              <a:latin typeface="Arial"/>
            </a:endParaRPr>
          </a:p>
          <a:p>
            <a:pPr lvl="1" marL="750960" indent="-285840">
              <a:lnSpc>
                <a:spcPct val="115000"/>
              </a:lnSpc>
              <a:spcBef>
                <a:spcPts val="524"/>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ividual software assets become </a:t>
            </a:r>
            <a:r>
              <a:rPr b="0" lang="en-US" sz="1400" spc="-1" strike="noStrike">
                <a:solidFill>
                  <a:srgbClr val="3333cc"/>
                </a:solidFill>
                <a:latin typeface="Arial"/>
              </a:rPr>
              <a:t>building blocks</a:t>
            </a:r>
            <a:r>
              <a:rPr b="0" lang="en-US" sz="1400" spc="-1" strike="noStrike">
                <a:solidFill>
                  <a:srgbClr val="000000"/>
                </a:solidFill>
                <a:latin typeface="Arial"/>
              </a:rPr>
              <a:t> that </a:t>
            </a:r>
            <a:r>
              <a:rPr b="0" lang="en-US" sz="1400" spc="-1" strike="noStrike">
                <a:solidFill>
                  <a:srgbClr val="3333cc"/>
                </a:solidFill>
                <a:latin typeface="Arial"/>
              </a:rPr>
              <a:t>can be reused</a:t>
            </a:r>
            <a:r>
              <a:rPr b="0" lang="en-US" sz="1400" spc="-1" strike="noStrike">
                <a:solidFill>
                  <a:srgbClr val="000000"/>
                </a:solidFill>
                <a:latin typeface="Arial"/>
              </a:rPr>
              <a:t> in developing other applications</a:t>
            </a:r>
            <a:endParaRPr b="0" lang="en-US" sz="1400" spc="-1" strike="noStrike">
              <a:solidFill>
                <a:srgbClr val="ffffff"/>
              </a:solidFill>
              <a:latin typeface="Arial"/>
            </a:endParaRPr>
          </a:p>
          <a:p>
            <a:pPr lvl="1" marL="750960" indent="-285840">
              <a:lnSpc>
                <a:spcPct val="115000"/>
              </a:lnSpc>
              <a:spcBef>
                <a:spcPts val="524"/>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Shifts focus to application assembly</a:t>
            </a:r>
            <a:r>
              <a:rPr b="0" lang="en-US" sz="1400" spc="-1" strike="noStrike">
                <a:solidFill>
                  <a:srgbClr val="000000"/>
                </a:solidFill>
                <a:latin typeface="Arial"/>
              </a:rPr>
              <a:t> rather than implementation details</a:t>
            </a:r>
            <a:endParaRPr b="0" lang="en-US" sz="1400" spc="-1" strike="noStrike">
              <a:solidFill>
                <a:srgbClr val="ffffff"/>
              </a:solidFill>
              <a:latin typeface="Arial"/>
            </a:endParaRPr>
          </a:p>
          <a:p>
            <a:pPr lvl="1" marL="750960" indent="-285840">
              <a:lnSpc>
                <a:spcPct val="115000"/>
              </a:lnSpc>
              <a:spcBef>
                <a:spcPts val="524"/>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d externally to </a:t>
            </a:r>
            <a:r>
              <a:rPr b="0" lang="en-US" sz="1400" spc="-1" strike="noStrike">
                <a:solidFill>
                  <a:srgbClr val="3333cc"/>
                </a:solidFill>
                <a:latin typeface="Arial"/>
              </a:rPr>
              <a:t>integrate with</a:t>
            </a:r>
            <a:r>
              <a:rPr b="0" lang="en-US" sz="2400" spc="-1" strike="noStrike">
                <a:solidFill>
                  <a:srgbClr val="3333cc"/>
                </a:solidFill>
                <a:latin typeface="Arial"/>
              </a:rPr>
              <a:t> </a:t>
            </a:r>
            <a:r>
              <a:rPr b="0" lang="en-US" sz="1400" spc="-1" strike="noStrike">
                <a:solidFill>
                  <a:srgbClr val="3333cc"/>
                </a:solidFill>
                <a:latin typeface="Arial"/>
              </a:rPr>
              <a:t>applications outside of the enterprise</a:t>
            </a:r>
            <a:endParaRPr b="0" lang="en-US" sz="1400" spc="-1" strike="noStrike">
              <a:solidFill>
                <a:srgbClr val="ffffff"/>
              </a:solidFill>
              <a:latin typeface="Arial"/>
            </a:endParaRPr>
          </a:p>
        </p:txBody>
      </p:sp>
      <p:grpSp>
        <p:nvGrpSpPr>
          <p:cNvPr id="148" name=""/>
          <p:cNvGrpSpPr/>
          <p:nvPr/>
        </p:nvGrpSpPr>
        <p:grpSpPr>
          <a:xfrm>
            <a:off x="6095880" y="914400"/>
            <a:ext cx="2776320" cy="3882600"/>
            <a:chOff x="6095880" y="914400"/>
            <a:chExt cx="2776320" cy="3882600"/>
          </a:xfrm>
        </p:grpSpPr>
        <p:pic>
          <p:nvPicPr>
            <p:cNvPr id="149" name="" descr=""/>
            <p:cNvPicPr/>
            <p:nvPr/>
          </p:nvPicPr>
          <p:blipFill>
            <a:blip r:embed="rId1"/>
            <a:stretch/>
          </p:blipFill>
          <p:spPr>
            <a:xfrm>
              <a:off x="7475400" y="3387600"/>
              <a:ext cx="1379520" cy="1409400"/>
            </a:xfrm>
            <a:prstGeom prst="rect">
              <a:avLst/>
            </a:prstGeom>
            <a:ln w="0">
              <a:noFill/>
            </a:ln>
          </p:spPr>
        </p:pic>
        <p:pic>
          <p:nvPicPr>
            <p:cNvPr id="150" name="" descr=""/>
            <p:cNvPicPr/>
            <p:nvPr/>
          </p:nvPicPr>
          <p:blipFill>
            <a:blip r:embed="rId2"/>
            <a:stretch/>
          </p:blipFill>
          <p:spPr>
            <a:xfrm>
              <a:off x="6095880" y="3387600"/>
              <a:ext cx="1379520" cy="1409400"/>
            </a:xfrm>
            <a:prstGeom prst="rect">
              <a:avLst/>
            </a:prstGeom>
            <a:ln w="0">
              <a:noFill/>
            </a:ln>
          </p:spPr>
        </p:pic>
        <p:pic>
          <p:nvPicPr>
            <p:cNvPr id="151" name="" descr=""/>
            <p:cNvPicPr/>
            <p:nvPr/>
          </p:nvPicPr>
          <p:blipFill>
            <a:blip r:embed="rId3"/>
            <a:stretch/>
          </p:blipFill>
          <p:spPr>
            <a:xfrm>
              <a:off x="6798600" y="2518200"/>
              <a:ext cx="1379520" cy="1409400"/>
            </a:xfrm>
            <a:prstGeom prst="rect">
              <a:avLst/>
            </a:prstGeom>
            <a:ln w="0">
              <a:noFill/>
            </a:ln>
          </p:spPr>
        </p:pic>
        <p:pic>
          <p:nvPicPr>
            <p:cNvPr id="152" name="" descr=""/>
            <p:cNvPicPr/>
            <p:nvPr/>
          </p:nvPicPr>
          <p:blipFill>
            <a:blip r:embed="rId4"/>
            <a:stretch/>
          </p:blipFill>
          <p:spPr>
            <a:xfrm>
              <a:off x="7492680" y="1699200"/>
              <a:ext cx="1379520" cy="1409760"/>
            </a:xfrm>
            <a:prstGeom prst="rect">
              <a:avLst/>
            </a:prstGeom>
            <a:ln w="0">
              <a:noFill/>
            </a:ln>
          </p:spPr>
        </p:pic>
        <p:pic>
          <p:nvPicPr>
            <p:cNvPr id="153" name="" descr=""/>
            <p:cNvPicPr/>
            <p:nvPr/>
          </p:nvPicPr>
          <p:blipFill>
            <a:blip r:embed="rId5"/>
            <a:stretch/>
          </p:blipFill>
          <p:spPr>
            <a:xfrm>
              <a:off x="6113160" y="1699200"/>
              <a:ext cx="1379520" cy="1409760"/>
            </a:xfrm>
            <a:prstGeom prst="rect">
              <a:avLst/>
            </a:prstGeom>
            <a:ln w="0">
              <a:noFill/>
            </a:ln>
          </p:spPr>
        </p:pic>
        <p:pic>
          <p:nvPicPr>
            <p:cNvPr id="154" name="" descr=""/>
            <p:cNvPicPr/>
            <p:nvPr/>
          </p:nvPicPr>
          <p:blipFill>
            <a:blip r:embed="rId6"/>
            <a:stretch/>
          </p:blipFill>
          <p:spPr>
            <a:xfrm>
              <a:off x="6798600" y="914400"/>
              <a:ext cx="1379520" cy="1409400"/>
            </a:xfrm>
            <a:prstGeom prst="rect">
              <a:avLst/>
            </a:prstGeom>
            <a:ln w="0">
              <a:noFill/>
            </a:ln>
          </p:spPr>
        </p:pic>
      </p:grpSp>
      <p:sp>
        <p:nvSpPr>
          <p:cNvPr id="155" name=""/>
          <p:cNvSpPr/>
          <p:nvPr/>
        </p:nvSpPr>
        <p:spPr>
          <a:xfrm>
            <a:off x="5867280" y="4876920"/>
            <a:ext cx="3124440" cy="1465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ility and heterogeneit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se Coupling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tion transparency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col Independen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y is SOA Important?</a:t>
            </a:r>
            <a:endParaRPr b="0" lang="en-US" sz="2800" spc="-1" strike="noStrike">
              <a:solidFill>
                <a:srgbClr val="7889fb"/>
              </a:solidFill>
              <a:latin typeface="Arial"/>
            </a:endParaRPr>
          </a:p>
        </p:txBody>
      </p:sp>
      <p:sp>
        <p:nvSpPr>
          <p:cNvPr id="157" name=""/>
          <p:cNvSpPr/>
          <p:nvPr/>
        </p:nvSpPr>
        <p:spPr>
          <a:xfrm>
            <a:off x="414360" y="3774960"/>
            <a:ext cx="8271000" cy="237960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58" name=""/>
          <p:cNvSpPr/>
          <p:nvPr/>
        </p:nvSpPr>
        <p:spPr>
          <a:xfrm>
            <a:off x="433440" y="4668840"/>
            <a:ext cx="162720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Benefits</a:t>
            </a:r>
            <a:endParaRPr b="0" lang="en-US" sz="2400" spc="-1" strike="noStrike">
              <a:solidFill>
                <a:srgbClr val="ffffff"/>
              </a:solidFill>
              <a:latin typeface="Arial"/>
            </a:endParaRPr>
          </a:p>
        </p:txBody>
      </p:sp>
      <p:sp>
        <p:nvSpPr>
          <p:cNvPr id="159" name=""/>
          <p:cNvSpPr/>
          <p:nvPr/>
        </p:nvSpPr>
        <p:spPr>
          <a:xfrm>
            <a:off x="2189160" y="3932280"/>
            <a:ext cx="6432480" cy="2077200"/>
          </a:xfrm>
          <a:prstGeom prst="rect">
            <a:avLst/>
          </a:prstGeom>
          <a:noFill/>
          <a:ln w="0">
            <a:noFill/>
          </a:ln>
        </p:spPr>
        <p:style>
          <a:lnRef idx="0"/>
          <a:fillRef idx="0"/>
          <a:effectRef idx="0"/>
          <a:fontRef idx="minor"/>
        </p:style>
        <p:txBody>
          <a:bodyPr lIns="90000" rIns="90000" tIns="46800" bIns="46800" anchor="t">
            <a:spAutoFit/>
          </a:bodyPr>
          <a:p>
            <a:pPr marL="176040" indent="-1760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oming a more responsive IT organization with a secure and managed integration environment</a:t>
            </a:r>
            <a:endParaRPr b="0" lang="en-US" sz="1800" spc="-1" strike="noStrike">
              <a:solidFill>
                <a:srgbClr val="ffffff"/>
              </a:solidFill>
              <a:latin typeface="Arial"/>
            </a:endParaRPr>
          </a:p>
          <a:p>
            <a:pPr marL="176040" indent="-1760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rease development and deployment cycle times through the use of pre-built, reusable services building blocks.</a:t>
            </a:r>
            <a:endParaRPr b="0" lang="en-US" sz="1800" spc="-1" strike="noStrike">
              <a:solidFill>
                <a:srgbClr val="ffffff"/>
              </a:solidFill>
              <a:latin typeface="Arial"/>
            </a:endParaRPr>
          </a:p>
          <a:p>
            <a:pPr marL="176040" indent="-1760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ing complexity and maintenance costs with common services</a:t>
            </a:r>
            <a:endParaRPr b="0" lang="en-US" sz="1800" spc="-1" strike="noStrike">
              <a:solidFill>
                <a:srgbClr val="ffffff"/>
              </a:solidFill>
              <a:latin typeface="Arial"/>
            </a:endParaRPr>
          </a:p>
          <a:p>
            <a:pPr marL="176040" indent="-1760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hancing existing IT systems rather than replacing them</a:t>
            </a:r>
            <a:endParaRPr b="0" lang="en-US" sz="1800" spc="-1" strike="noStrike">
              <a:solidFill>
                <a:srgbClr val="ffffff"/>
              </a:solidFill>
              <a:latin typeface="Arial"/>
            </a:endParaRPr>
          </a:p>
        </p:txBody>
      </p:sp>
      <p:sp>
        <p:nvSpPr>
          <p:cNvPr id="160" name=""/>
          <p:cNvSpPr/>
          <p:nvPr/>
        </p:nvSpPr>
        <p:spPr>
          <a:xfrm>
            <a:off x="415800" y="1533600"/>
            <a:ext cx="8277480" cy="2238480"/>
          </a:xfrm>
          <a:prstGeom prst="roundRect">
            <a:avLst>
              <a:gd name="adj" fmla="val 0"/>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161" name=""/>
          <p:cNvSpPr/>
          <p:nvPr/>
        </p:nvSpPr>
        <p:spPr>
          <a:xfrm>
            <a:off x="488880" y="2300400"/>
            <a:ext cx="162720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siness Benefits</a:t>
            </a:r>
            <a:endParaRPr b="0" lang="en-US" sz="2400" spc="-1" strike="noStrike">
              <a:solidFill>
                <a:srgbClr val="ffffff"/>
              </a:solidFill>
              <a:latin typeface="Arial"/>
            </a:endParaRPr>
          </a:p>
        </p:txBody>
      </p:sp>
      <p:sp>
        <p:nvSpPr>
          <p:cNvPr id="162" name=""/>
          <p:cNvSpPr/>
          <p:nvPr/>
        </p:nvSpPr>
        <p:spPr>
          <a:xfrm>
            <a:off x="2184480" y="1612800"/>
            <a:ext cx="6473880" cy="2025720"/>
          </a:xfrm>
          <a:prstGeom prst="rect">
            <a:avLst/>
          </a:prstGeom>
          <a:noFill/>
          <a:ln w="0">
            <a:noFill/>
          </a:ln>
        </p:spPr>
        <p:style>
          <a:lnRef idx="0"/>
          <a:fillRef idx="0"/>
          <a:effectRef idx="0"/>
          <a:fontRef idx="minor"/>
        </p:style>
        <p:txBody>
          <a:bodyPr lIns="90000" rIns="90000" tIns="46800" bIns="46800" anchor="t">
            <a:spAutoFit/>
          </a:bodyPr>
          <a:p>
            <a:pPr marL="176040" indent="-176040">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siness flexibility provided by increased granularity of processes enabled through services</a:t>
            </a:r>
            <a:endParaRPr b="0" lang="en-US" sz="1800" spc="-1" strike="noStrike">
              <a:solidFill>
                <a:srgbClr val="ffffff"/>
              </a:solidFill>
              <a:latin typeface="Arial"/>
            </a:endParaRPr>
          </a:p>
          <a:p>
            <a:pPr marL="176040" indent="-176040">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quickly create business processes and composite applications to respond to changes in the marketplace</a:t>
            </a:r>
            <a:endParaRPr b="0" lang="en-US" sz="1800" spc="-1" strike="noStrike">
              <a:solidFill>
                <a:srgbClr val="ffffff"/>
              </a:solidFill>
              <a:latin typeface="Arial"/>
            </a:endParaRPr>
          </a:p>
          <a:p>
            <a:pPr marL="176040" indent="-176040">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customer service using services without having to worry about the underlying IT infrastructure</a:t>
            </a:r>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522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ow did we get here: </a:t>
            </a:r>
            <a:br>
              <a:rPr sz="2400"/>
            </a:br>
            <a:r>
              <a:rPr b="0" lang="en-US" sz="2000" spc="-1" strike="noStrike">
                <a:solidFill>
                  <a:srgbClr val="ffffff"/>
                </a:solidFill>
                <a:latin typeface="Arial"/>
              </a:rPr>
              <a:t>Inter Process Communication Review</a:t>
            </a:r>
            <a:endParaRPr b="0" lang="en-US" sz="2000" spc="-1" strike="noStrike">
              <a:solidFill>
                <a:srgbClr val="7889fb"/>
              </a:solidFill>
              <a:latin typeface="Arial"/>
            </a:endParaRPr>
          </a:p>
        </p:txBody>
      </p:sp>
      <p:sp>
        <p:nvSpPr>
          <p:cNvPr id="164" name="PlaceHolder 2"/>
          <p:cNvSpPr>
            <a:spLocks noGrp="1"/>
          </p:cNvSpPr>
          <p:nvPr>
            <p:ph/>
          </p:nvPr>
        </p:nvSpPr>
        <p:spPr>
          <a:xfrm>
            <a:off x="1066320" y="1295280"/>
            <a:ext cx="7348680" cy="4624560"/>
          </a:xfrm>
          <a:prstGeom prst="rect">
            <a:avLst/>
          </a:prstGeom>
          <a:noFill/>
          <a:ln w="0">
            <a:noFill/>
          </a:ln>
        </p:spPr>
        <p:txBody>
          <a:bodyPr lIns="90000" rIns="90000" tIns="46800" bIns="46800" anchor="t">
            <a:normAutofit/>
          </a:bodyPr>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 (programs) exchange Information</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es need to expose interfaces for Data exchange.</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es need to expose entry points.</a:t>
            </a:r>
            <a:endParaRPr b="0" lang="en-US" sz="1600" spc="-1" strike="noStrike">
              <a:solidFill>
                <a:srgbClr val="000000"/>
              </a:solidFill>
              <a:latin typeface="Arial"/>
            </a:endParaRPr>
          </a:p>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 interaction patterns</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chronous or asynchronous</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ghtly or loosely coupled. (Loose or tight typing)</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versational or stateless.</a:t>
            </a:r>
            <a:endParaRPr b="0" lang="en-US" sz="1600" spc="-1" strike="noStrike">
              <a:solidFill>
                <a:srgbClr val="000000"/>
              </a:solidFill>
              <a:latin typeface="Arial"/>
            </a:endParaRPr>
          </a:p>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te Procedure Call (RPC)</a:t>
            </a:r>
            <a:endParaRPr b="0" lang="en-US" sz="16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ck_price = get_stock_price(stock_symbol)</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_stock_price = get_historical_stock_price(Date, stock_symbol)</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rd coded types -&gt; Date has to be understood by type system/language of both requester and provider. Not easily extensible. Parameterization is inflexible.</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ba provides for extensible object typing, but changes need to “recompiled” into both client and server systems.</a:t>
            </a:r>
            <a:endParaRPr b="0" lang="en-US" sz="14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ssage based</a:t>
            </a: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oosely typed and disconnected.</a:t>
            </a: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synchronous.</a:t>
            </a: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OA terminology</a:t>
            </a:r>
            <a:endParaRPr b="0" lang="en-US" sz="2800" spc="-1" strike="noStrike">
              <a:solidFill>
                <a:srgbClr val="7889fb"/>
              </a:solidFill>
              <a:latin typeface="Arial"/>
            </a:endParaRPr>
          </a:p>
        </p:txBody>
      </p:sp>
      <p:pic>
        <p:nvPicPr>
          <p:cNvPr id="166" name="" descr=""/>
          <p:cNvPicPr/>
          <p:nvPr/>
        </p:nvPicPr>
        <p:blipFill>
          <a:blip r:embed="rId1"/>
          <a:stretch/>
        </p:blipFill>
        <p:spPr>
          <a:xfrm>
            <a:off x="685800" y="1143000"/>
            <a:ext cx="4800600" cy="2400480"/>
          </a:xfrm>
          <a:prstGeom prst="rect">
            <a:avLst/>
          </a:prstGeom>
          <a:ln w="0">
            <a:noFill/>
          </a:ln>
        </p:spPr>
      </p:pic>
      <p:sp>
        <p:nvSpPr>
          <p:cNvPr id="167" name=""/>
          <p:cNvSpPr/>
          <p:nvPr/>
        </p:nvSpPr>
        <p:spPr>
          <a:xfrm>
            <a:off x="0" y="3657600"/>
            <a:ext cx="8915400" cy="2654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ervices</a:t>
            </a:r>
            <a:r>
              <a:rPr b="0" lang="en-US" sz="1600" spc="-1" strike="noStrike">
                <a:solidFill>
                  <a:srgbClr val="000000"/>
                </a:solidFill>
                <a:latin typeface="Arial"/>
              </a:rPr>
              <a:t>: Logical entities, the contracts defined by one or more published interfaces.</a:t>
            </a:r>
            <a:endParaRPr b="0" lang="en-US" sz="16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Service provider</a:t>
            </a:r>
            <a:r>
              <a:rPr b="0" lang="en-US" sz="1600" spc="-1" strike="noStrike">
                <a:solidFill>
                  <a:srgbClr val="000000"/>
                </a:solidFill>
                <a:latin typeface="Arial"/>
              </a:rPr>
              <a:t>: The software entity that implements a service specification.</a:t>
            </a:r>
            <a:endParaRPr b="0" lang="en-US" sz="16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Service consumer</a:t>
            </a:r>
            <a:r>
              <a:rPr b="0" lang="en-US" sz="1600" spc="-1" strike="noStrike">
                <a:solidFill>
                  <a:srgbClr val="000000"/>
                </a:solidFill>
                <a:latin typeface="Arial"/>
              </a:rPr>
              <a:t> (or requestor): The software entity that calls a service provider. Traditionally, this is termed a “client”. A service consumer can be an end-user application or another service.</a:t>
            </a:r>
            <a:endParaRPr b="0" lang="en-US" sz="16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Service locator</a:t>
            </a:r>
            <a:r>
              <a:rPr b="0" lang="en-US" sz="1600" spc="-1" strike="noStrike">
                <a:solidFill>
                  <a:srgbClr val="000000"/>
                </a:solidFill>
                <a:latin typeface="Arial"/>
              </a:rPr>
              <a:t>: A specific kind of service provider that acts as a registry and allows for the lookup of service provider interfaces and service locations.</a:t>
            </a:r>
            <a:endParaRPr b="0" lang="en-US" sz="16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Service broker:</a:t>
            </a:r>
            <a:r>
              <a:rPr b="0" lang="en-US" sz="1600" spc="-1" strike="noStrike">
                <a:solidFill>
                  <a:srgbClr val="000000"/>
                </a:solidFill>
                <a:latin typeface="Arial"/>
              </a:rPr>
              <a:t> A specific kind of service provider that can pass on service requests to one or more additional service providers.</a:t>
            </a:r>
            <a:endParaRPr b="0" lang="en-US" sz="1600" spc="-1" strike="noStrike">
              <a:solidFill>
                <a:srgbClr val="ffffff"/>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OA invocation style</a:t>
            </a:r>
            <a:endParaRPr b="0" lang="en-US" sz="2800" spc="-1" strike="noStrike">
              <a:solidFill>
                <a:srgbClr val="7889fb"/>
              </a:solidFill>
              <a:latin typeface="Arial"/>
            </a:endParaRPr>
          </a:p>
        </p:txBody>
      </p:sp>
      <p:pic>
        <p:nvPicPr>
          <p:cNvPr id="169" name="" descr=""/>
          <p:cNvPicPr/>
          <p:nvPr/>
        </p:nvPicPr>
        <p:blipFill>
          <a:blip r:embed="rId1"/>
          <a:stretch/>
        </p:blipFill>
        <p:spPr>
          <a:xfrm>
            <a:off x="1112760" y="1776240"/>
            <a:ext cx="7348680" cy="3902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4080" y="709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efore SOA: </a:t>
            </a:r>
            <a:r>
              <a:rPr b="0" lang="en-US" sz="2000" spc="-1" strike="noStrike">
                <a:solidFill>
                  <a:srgbClr val="7889fb"/>
                </a:solidFill>
                <a:latin typeface="Arial"/>
              </a:rPr>
              <a:t>Component based architectures presume homogeneity</a:t>
            </a:r>
            <a:endParaRPr b="0" lang="en-US" sz="2000" spc="-1" strike="noStrike">
              <a:solidFill>
                <a:srgbClr val="7889fb"/>
              </a:solidFill>
              <a:latin typeface="Arial"/>
            </a:endParaRPr>
          </a:p>
        </p:txBody>
      </p:sp>
      <p:sp>
        <p:nvSpPr>
          <p:cNvPr id="171" name="PlaceHolder 2"/>
          <p:cNvSpPr>
            <a:spLocks noGrp="1"/>
          </p:cNvSpPr>
          <p:nvPr>
            <p:ph/>
          </p:nvPr>
        </p:nvSpPr>
        <p:spPr>
          <a:xfrm>
            <a:off x="456840" y="1447920"/>
            <a:ext cx="7348680" cy="4038480"/>
          </a:xfrm>
          <a:prstGeom prst="rect">
            <a:avLst/>
          </a:prstGeom>
          <a:noFill/>
          <a:ln w="0">
            <a:noFill/>
          </a:ln>
        </p:spPr>
        <p:txBody>
          <a:bodyPr lIns="90000" rIns="90000" tIns="46800" bIns="46800" anchor="t">
            <a:normAutofit/>
          </a:bodyPr>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ght coupling between requester and provider</a:t>
            </a:r>
            <a:endParaRPr b="0" lang="en-US" sz="20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order and structure is hard-coded.</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ous invocation style constrains interaction.</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ers exposed to multiple API styles for differing service provider modules.</a:t>
            </a:r>
            <a:endParaRPr b="0" lang="en-US" sz="1800" spc="-1" strike="noStrike">
              <a:solidFill>
                <a:srgbClr val="000000"/>
              </a:solidFill>
              <a:latin typeface="Arial"/>
            </a:endParaRPr>
          </a:p>
          <a:p>
            <a:pPr lvl="1" marL="770040" indent="0">
              <a:lnSpc>
                <a:spcPct val="90000"/>
              </a:lnSpc>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itable for tightly knit project teams building on homogeneous application frameworks (.NET or J2E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6T03:12:13Z</dcterms:created>
  <dc:creator>rthiagarajan</dc:creator>
  <dc:description/>
  <dc:language>en-US</dc:language>
  <cp:lastModifiedBy>rthiagarajan</cp:lastModifiedBy>
  <dcterms:modified xsi:type="dcterms:W3CDTF">2004-08-27T08:41:38Z</dcterms:modified>
  <cp:revision>33</cp:revision>
  <dc:subject/>
  <dc:title>WDI - SOA</dc:title>
</cp:coreProperties>
</file>