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714EC-AA2C-4898-A7EE-AE113A4193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562CF-9BEF-4A3F-A9AC-11302D9B6D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8CD6D-A7C1-408F-961A-B4FA31B435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5822D-5BEA-40CA-9E04-7EF099F31F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282CE-373E-4A94-9ABB-6F321DA6E9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9A4D1-4C46-47EE-9194-2DFAC90DDC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A1F5C-A0B4-4F04-AF9C-AB0279074E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B487D-960D-457E-A371-BCAC40118B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E0F66-8503-4932-9859-BEE3462BFD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648B4-9A94-4515-B75B-7919B859C1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D4D81-4106-492B-A320-D57C7F9DCC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A26B3-B0C6-4514-9E96-95909549E1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F6E8F-9C7B-4EC6-90AA-D3E0783050E0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fritzf@us.ibm.com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fritzf@us.ibm.com" TargetMode="External"/><Relationship Id="rId2" Type="http://schemas.openxmlformats.org/officeDocument/2006/relationships/hyperlink" Target="mailto:emd19@us.ibm.com" TargetMode="External"/><Relationship Id="rId3" Type="http://schemas.openxmlformats.org/officeDocument/2006/relationships/hyperlink" Target="http://www.ibm.com/websphere/datainterchange" TargetMode="External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DI XML Consider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itz Fahrenb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TD Examp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03160" y="1541520"/>
            <a:ext cx="633744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?xml encoding="ISO-8859-1"?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personnel (person)+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person (name,email*,url*,link?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ATTLIST person id ID #REQUIRE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family (#PCDATA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given (#PCDATA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name (#PCDATA|family|given)*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email (#PCDATA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url EMPT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ATTLIST url href CDATA #REQUIRE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link EMPT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ATTLIST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 IDREF #IMPL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ordinates IDREFS #IMPLIE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2438280"/>
            <a:ext cx="121932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66880" y="2743200"/>
            <a:ext cx="2133720" cy="228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666880" y="3200400"/>
            <a:ext cx="106704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90920" y="3657600"/>
            <a:ext cx="213336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4419720"/>
            <a:ext cx="990360" cy="304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87560" y="2049480"/>
            <a:ext cx="1272960" cy="2649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28840" y="2314440"/>
            <a:ext cx="2616480" cy="27792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76400" y="4016520"/>
            <a:ext cx="1111320" cy="2538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12920" y="2813040"/>
            <a:ext cx="1413000" cy="2318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78000" y="3309840"/>
            <a:ext cx="2872080" cy="2556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chema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describe the structure of the XML document, but in much more det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constraints on elements and attributes (i.e., date, numeric, list of values, mask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/max repeat cou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unction and constructs that are not supported in DT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” content sp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define your own types, including base and derived typ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chema examp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?xml version="1.0" encoding="UTF-8" ?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schema xmlns:x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://www.w3.org/2001/XMLSchem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nam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ne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ref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in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ax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bound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elemen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nam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ref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name =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ai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in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axOccurs=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typ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s:str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ref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in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ax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bound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ref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in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ax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attribute nam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typ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s: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us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quir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elemen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schema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2209680"/>
            <a:ext cx="83808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95280" y="4952880"/>
            <a:ext cx="83844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9000" y="4191120"/>
            <a:ext cx="2057400" cy="304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438280" y="4191120"/>
            <a:ext cx="990720" cy="304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38280" y="4572000"/>
            <a:ext cx="76212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10080" y="4191120"/>
            <a:ext cx="1219320" cy="304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33400" y="2233440"/>
            <a:ext cx="925560" cy="1620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19040" y="3784680"/>
            <a:ext cx="6667560" cy="995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89440" y="4108320"/>
            <a:ext cx="2465280" cy="1746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89640" y="4097160"/>
            <a:ext cx="1365120" cy="19692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34960" y="4768920"/>
            <a:ext cx="960480" cy="1857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verting between EDI and XML - Overview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is the same for all plat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WDI Client GUI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s how, when to do the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done in local database and exported to server database (client standalone mo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, can be done directly in server database (client-server mo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time execution varies by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verting between EDI and XML - Setup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 XML DTD or sch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tained from trading partner or industry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, created by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 EDI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tained from WDI web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sing WDI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s how the data is conve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u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the 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s when this map is used, additional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verting between EDI and XML - Runtime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PERFORM TRANSFORM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file on Windows, A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Adapter (trigger program) on Windows, A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CL on z/OS b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O Panel interface on z/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S transaction on C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trigger program on z/OS, C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ERFORM TRANSFORM exampl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TRANSFORM 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ILE(XMLFIL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FILE(EDIFILE)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AX(X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FILE(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emo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 and transformation de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(based on DTD) to 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to XML (based on sche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2640" y="14317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is becoming very common method of exchanging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he structure of the XML document to WDI by importing the DTDs or sch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the XML document using Data Transformation ma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e the data using PERFORM TRANSFORM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Questions ??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319480" y="1927080"/>
            <a:ext cx="4419360" cy="19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Questions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tz Fahren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fritzf@us.ibm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ollow-u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al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tz Fahrenback (</a:t>
            </a:r>
            <a:r>
              <a:rPr b="0" lang="en-US" sz="1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fritzf@us.ibm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ynn Clark (</a:t>
            </a:r>
            <a:r>
              <a:rPr b="0" lang="en-US" sz="1800" spc="-1" strike="noStrike" u="sng">
                <a:solidFill>
                  <a:srgbClr val="c0c0c0"/>
                </a:solidFill>
                <a:uFillTx/>
                <a:latin typeface="Arial"/>
                <a:hlinkClick r:id="rId2"/>
              </a:rPr>
              <a:t>emd19@us.ibm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Sphere Data Inter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c0c0"/>
                </a:solidFill>
                <a:uFillTx/>
                <a:latin typeface="Arial"/>
                <a:hlinkClick r:id="rId3"/>
              </a:rPr>
              <a:t>http://www.ibm.com/websphere/datainter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335320" y="2466720"/>
            <a:ext cx="43862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 you for attending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05160" y="2511360"/>
            <a:ext cx="42256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een shots from de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mporting a DTD or schem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855800" y="1776240"/>
          <a:ext cx="586260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5800" y="1776240"/>
                    <a:ext cx="586260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mporting a DTD or schem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112760" y="2320920"/>
          <a:ext cx="7348680" cy="28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2760" y="2320920"/>
                    <a:ext cx="7348680" cy="28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fining Sender and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Receiver element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297080" y="1776240"/>
          <a:ext cx="697860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7080" y="1776240"/>
                    <a:ext cx="697860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mporting EDI Standar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854360" y="1776240"/>
          <a:ext cx="586404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4360" y="1776240"/>
                    <a:ext cx="586404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mporting EDI Standar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677960" y="1776240"/>
          <a:ext cx="621828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7960" y="1776240"/>
                    <a:ext cx="621828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DI to XML ma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811160" y="1776240"/>
          <a:ext cx="595008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1160" y="1776240"/>
                    <a:ext cx="595008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reating a Ru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501920" y="1776240"/>
          <a:ext cx="657036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1920" y="1776240"/>
                    <a:ext cx="657036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XML basic concepts (XML 1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T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steps to map/translate to or from 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mapping and translation of an EDI transaction to an XML sche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XML Input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(XML-EDI translation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2387520" y="1776240"/>
          <a:ext cx="479736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87520" y="1776240"/>
                    <a:ext cx="479736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Output (XML-EDI)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Input (EDI-XML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2401920" y="1776240"/>
          <a:ext cx="477036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1920" y="1776240"/>
                    <a:ext cx="477036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XML Output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(EDI-XML translation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2406600" y="1776240"/>
          <a:ext cx="476100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6600" y="1776240"/>
                    <a:ext cx="476100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at is XML ?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is eXtensible Markup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oming a common way of exchanging data with other parties an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W3C “Recommenda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and related information at: http://www.w3.o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ually a meta-markup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not define semantics or ta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es rules for defining and using tags to structur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define the tag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omparison to HTML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is a subset of SG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-20 rule: eliminates some of the more complex but rarely used SGML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ML is also derived from SG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has a similar look and fe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 - many important differences between XML, 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XML vs. HTML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087560" y="2058840"/>
          <a:ext cx="7135560" cy="3672000"/>
        </p:xfrm>
        <a:graphic>
          <a:graphicData uri="http://schemas.openxmlformats.org/drawingml/2006/table">
            <a:tbl>
              <a:tblPr/>
              <a:tblGrid>
                <a:gridCol w="3555720"/>
                <a:gridCol w="3579840"/>
              </a:tblGrid>
              <a:tr h="71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gs are defined by a specific  implementa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es the tag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gs define the structure and meaning of the dat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gs define layout and formatting of the dat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ments and attributes ARE case sensitiv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ments and attributes are NOT case sensitiv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 start tags MUST have a corresponding end ta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me tags do not have end tag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gs MUST be nested properl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cessing does not always enforce nesting hierarch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2307600" y="1330200"/>
            <a:ext cx="91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99600" y="1366920"/>
            <a:ext cx="114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34120" y="14400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22400" y="545760"/>
            <a:ext cx="8339040" cy="51325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XML Examp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6485040" cy="30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?xml version="1.0" encoding="iso-8859-1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!DOCTYPE personnel SYSTEM "personal.dtd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ersonne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erson id="Big.Boss" 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name&gt;&lt;family&gt;Boss&lt;/family&gt; &lt;given&gt;Big&lt;/given&gt;&lt;/na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email&gt;chief@foo.com&lt;/emai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link subordinates="one.worker two.worker three.worker four.worker five.worker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person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erson id="one.worker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name&gt;&lt;family&gt;Worker&lt;/family&gt; &lt;given&gt;One&lt;/given&gt;&lt;/na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email&gt;one@foo.com&lt;/emai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link manager="Big.Boss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person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personne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09680" y="1828800"/>
            <a:ext cx="838440" cy="3808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95280" y="2286000"/>
            <a:ext cx="83844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057040" y="213372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33920" y="1828800"/>
            <a:ext cx="987480" cy="3808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11480" y="1873080"/>
            <a:ext cx="914400" cy="18288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11760" y="1886040"/>
            <a:ext cx="1099800" cy="1746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97080" y="2233440"/>
            <a:ext cx="890640" cy="1857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198160" y="2049480"/>
            <a:ext cx="382680" cy="162000"/>
          </a:xfrm>
          <a:prstGeom prst="line">
            <a:avLst/>
          </a:prstGeom>
          <a:ln w="158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772400" cy="54864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XML Examp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04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?xml version="1.0" encoding="iso-8859-1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DOCTYPE personnel SYSTEM "personal.dt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ersonne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erson id="Big.Boss"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name&gt;&lt;family&gt;Boss&lt;/family&gt; &lt;given&gt;Big&lt;/given&gt;&lt;/na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email&gt;chief@foo.com&lt;/emai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ink subordinates="one.worker two.worker three.worker four.worker five.worke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pers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erson id="one.worke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name&gt;&lt;family&gt;Worker&lt;/family&gt; &lt;given&gt;One&lt;/given&gt;&lt;/na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email&gt;one@foo.com&lt;/emai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ink manager="Big.Boss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pers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personne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2286000"/>
            <a:ext cx="91440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19320" y="5486400"/>
            <a:ext cx="99036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2514600"/>
            <a:ext cx="0" cy="3048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16080" y="2292480"/>
            <a:ext cx="1168200" cy="2538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16080" y="5405400"/>
            <a:ext cx="1238040" cy="2541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226880" y="2535120"/>
            <a:ext cx="11160" cy="2846520"/>
          </a:xfrm>
          <a:prstGeom prst="line">
            <a:avLst/>
          </a:prstGeom>
          <a:ln w="158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TD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TD describes the structure of the XML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efi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element (tag) that is per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ttributes allowed for each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ntent model of each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specify nested elements, either as a sequence or cho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may be parsed character data (#PCDAT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Fritz F</cp:lastModifiedBy>
  <dcterms:modified xsi:type="dcterms:W3CDTF">2004-08-21T13:41:10Z</dcterms:modified>
  <cp:revision>874</cp:revision>
  <dc:subject/>
  <dc:title>IBM Software Group</dc:title>
</cp:coreProperties>
</file>